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_rels/notesSlide7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513B-950F-45A7-9953-59198767B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convex to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04C-634A-46FC-961E-E63C58A3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15A-1DA0-4169-8CB3-89E160A2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1FF-C345-42B7-B240-C198B2D9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980-7CB6-4329-8B42-D40D8618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73A-F50A-4162-BD8D-7E24523E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966-7240-4C2C-A889-4711FE96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381-997B-4764-AF01-BD609C3F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4C3-49B8-4C93-AFE3-DD2D76AD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CF2-3F1F-40B2-AC6A-AF70869B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D41-266A-4812-82F5-4993BBA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A3C-AFFF-4832-9CDD-62F5734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D63-C2DE-46AA-A8C4-489EC67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3CCD-2653-43FC-8135-46AD7F5C7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IV - Advanced Topic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vex Relax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 Pawan Ku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8120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00" y="76320"/>
            <a:ext cx="1101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x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43000" y="990720"/>
            <a:ext cx="678168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397240" y="25146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83440" y="25146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331360" y="272412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33400" y="272412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4" idx="6"/>
            <a:endCxn id="425" idx="2"/>
          </p:cNvCxnSpPr>
          <p:nvPr/>
        </p:nvCxnSpPr>
        <p:spPr>
          <a:xfrm>
            <a:off x="2701440" y="2666520"/>
            <a:ext cx="358236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143640" y="4676760"/>
            <a:ext cx="84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oints on the line segment lie within th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52480" y="1447920"/>
            <a:ext cx="3810240" cy="2438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209680" y="1752120"/>
            <a:ext cx="4572000" cy="2133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67480" y="1295280"/>
            <a:ext cx="0" cy="289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743200" y="1447920"/>
            <a:ext cx="4572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71600" y="1981080"/>
            <a:ext cx="1600200" cy="2362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7600" y="4191120"/>
            <a:ext cx="3505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371600" y="1219320"/>
            <a:ext cx="914400" cy="1523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840" y="5592600"/>
            <a:ext cx="90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r all line segments with endpoints in th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Convex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295280" y="1066680"/>
            <a:ext cx="7048800" cy="3924360"/>
          </a:xfrm>
          <a:custGeom>
            <a:avLst/>
            <a:gdLst/>
            <a:ahLst/>
            <a:rect l="l" t="t" r="r" b="b"/>
            <a:pathLst>
              <a:path w="4440" h="2472">
                <a:moveTo>
                  <a:pt x="0" y="1720"/>
                </a:moveTo>
                <a:cubicBezTo>
                  <a:pt x="72" y="1304"/>
                  <a:pt x="144" y="888"/>
                  <a:pt x="480" y="616"/>
                </a:cubicBezTo>
                <a:cubicBezTo>
                  <a:pt x="816" y="344"/>
                  <a:pt x="1384" y="0"/>
                  <a:pt x="2016" y="88"/>
                </a:cubicBezTo>
                <a:cubicBezTo>
                  <a:pt x="2648" y="176"/>
                  <a:pt x="4104" y="760"/>
                  <a:pt x="4272" y="1144"/>
                </a:cubicBezTo>
                <a:cubicBezTo>
                  <a:pt x="4440" y="1528"/>
                  <a:pt x="3336" y="2312"/>
                  <a:pt x="3024" y="2392"/>
                </a:cubicBezTo>
                <a:cubicBezTo>
                  <a:pt x="2712" y="2472"/>
                  <a:pt x="2824" y="1624"/>
                  <a:pt x="2400" y="1624"/>
                </a:cubicBezTo>
                <a:cubicBezTo>
                  <a:pt x="1976" y="1624"/>
                  <a:pt x="880" y="2384"/>
                  <a:pt x="480" y="2392"/>
                </a:cubicBezTo>
                <a:cubicBezTo>
                  <a:pt x="80" y="2400"/>
                  <a:pt x="40" y="2036"/>
                  <a:pt x="0" y="1672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397240" y="25146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83440" y="25146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31360" y="272412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33400" y="272412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"/>
          <p:cNvCxnSpPr>
            <a:stCxn id="440" idx="6"/>
            <a:endCxn id="441" idx="2"/>
          </p:cNvCxnSpPr>
          <p:nvPr/>
        </p:nvCxnSpPr>
        <p:spPr>
          <a:xfrm>
            <a:off x="2701440" y="2666520"/>
            <a:ext cx="358236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3429000" y="3962520"/>
            <a:ext cx="2743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191120" y="3962520"/>
            <a:ext cx="1295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onvex 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97240" y="25146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283440" y="25146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31360" y="272412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33400" y="272412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48" idx="6"/>
            <a:endCxn id="449" idx="2"/>
          </p:cNvCxnSpPr>
          <p:nvPr/>
        </p:nvCxnSpPr>
        <p:spPr>
          <a:xfrm>
            <a:off x="2701440" y="2666520"/>
            <a:ext cx="358236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453" name=""/>
          <p:cNvSpPr/>
          <p:nvPr/>
        </p:nvSpPr>
        <p:spPr>
          <a:xfrm>
            <a:off x="3125160" y="3854520"/>
            <a:ext cx="30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ne Se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onvex 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397240" y="25146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83440" y="25146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31360" y="272412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33400" y="272412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5" idx="6"/>
            <a:endCxn id="456" idx="2"/>
          </p:cNvCxnSpPr>
          <p:nvPr/>
        </p:nvCxnSpPr>
        <p:spPr>
          <a:xfrm>
            <a:off x="2701440" y="2666520"/>
            <a:ext cx="358236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3963600" y="388620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onvex 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990720" y="914040"/>
            <a:ext cx="6400800" cy="5257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76200" y="3886200"/>
            <a:ext cx="48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yperplane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b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onvex 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990720" y="914040"/>
            <a:ext cx="6400800" cy="5257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76560" y="38862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alfspace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b ≤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685800"/>
            <a:ext cx="7620120" cy="6172200"/>
          </a:xfrm>
          <a:custGeom>
            <a:avLst/>
            <a:gdLst/>
            <a:ahLst/>
            <a:rect l="l" t="t" r="r" b="b"/>
            <a:pathLst>
              <a:path w="4800" h="3888">
                <a:moveTo>
                  <a:pt x="4800" y="0"/>
                </a:moveTo>
                <a:lnTo>
                  <a:pt x="96" y="3888"/>
                </a:lnTo>
                <a:lnTo>
                  <a:pt x="0" y="3888"/>
                </a:lnTo>
                <a:lnTo>
                  <a:pt x="0" y="48"/>
                </a:lnTo>
                <a:lnTo>
                  <a:pt x="4800" y="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onvex 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653480" y="5867280"/>
            <a:ext cx="56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cond-order Con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| ≤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980720" y="914400"/>
            <a:ext cx="5258160" cy="4724280"/>
            <a:chOff x="1980720" y="914400"/>
            <a:chExt cx="5258160" cy="4724280"/>
          </a:xfrm>
        </p:grpSpPr>
        <p:sp>
          <p:nvSpPr>
            <p:cNvPr id="472" name=""/>
            <p:cNvSpPr/>
            <p:nvPr/>
          </p:nvSpPr>
          <p:spPr>
            <a:xfrm>
              <a:off x="2743200" y="2282760"/>
              <a:ext cx="3809880" cy="3355920"/>
            </a:xfrm>
            <a:custGeom>
              <a:avLst/>
              <a:gdLst/>
              <a:ahLst/>
              <a:rect l="l" t="t" r="r" b="b"/>
              <a:pathLst>
                <a:path w="2400" h="2160">
                  <a:moveTo>
                    <a:pt x="0" y="0"/>
                  </a:moveTo>
                  <a:lnTo>
                    <a:pt x="1296" y="2160"/>
                  </a:lnTo>
                  <a:lnTo>
                    <a:pt x="24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43200" y="2133360"/>
              <a:ext cx="3809880" cy="298440"/>
            </a:xfrm>
            <a:prstGeom prst="ellipse">
              <a:avLst/>
            </a:prstGeom>
            <a:solidFill>
              <a:srgbClr val="bbe0e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6553080" y="914400"/>
              <a:ext cx="685800" cy="13716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1980720" y="990000"/>
              <a:ext cx="762120" cy="12956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724280" y="685800"/>
            <a:ext cx="7632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800600" y="28954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01680" y="685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52440" y="289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551080" y="5181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onvex 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" y="9144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midefinite Con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486400" y="914400"/>
            <a:ext cx="558720" cy="635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057400" y="22543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≥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for al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3520" y="3397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eigenvalues o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non-ne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23880" y="4616280"/>
            <a:ext cx="2133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≥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05520" y="4572000"/>
            <a:ext cx="213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≥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057400" y="5715000"/>
            <a:ext cx="5181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(1-c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≥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 that Preserve Conv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6360" y="7300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r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0" y="1523880"/>
            <a:ext cx="5410080" cy="4800600"/>
          </a:xfrm>
          <a:custGeom>
            <a:avLst/>
            <a:gdLst/>
            <a:ahLst/>
            <a:rect l="l" t="t" r="r" b="b"/>
            <a:pathLst>
              <a:path w="3408" h="3024">
                <a:moveTo>
                  <a:pt x="48" y="1056"/>
                </a:moveTo>
                <a:lnTo>
                  <a:pt x="1440" y="0"/>
                </a:lnTo>
                <a:lnTo>
                  <a:pt x="3408" y="1584"/>
                </a:lnTo>
                <a:lnTo>
                  <a:pt x="2448" y="3024"/>
                </a:lnTo>
                <a:lnTo>
                  <a:pt x="0" y="2976"/>
                </a:lnTo>
                <a:lnTo>
                  <a:pt x="48" y="105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057400" y="1143000"/>
            <a:ext cx="3048120" cy="228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1143000"/>
            <a:ext cx="3962520" cy="3200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286000" y="2666880"/>
            <a:ext cx="76320" cy="3886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600200" y="6248520"/>
            <a:ext cx="5257800" cy="75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943600" y="3733560"/>
            <a:ext cx="1981080" cy="2895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00720" y="3990960"/>
            <a:ext cx="41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lyhedron / Polyt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 that Preserve Conv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6360" y="7300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r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752120" y="1676520"/>
            <a:ext cx="5258160" cy="4724280"/>
            <a:chOff x="1752120" y="1676520"/>
            <a:chExt cx="5258160" cy="4724280"/>
          </a:xfrm>
        </p:grpSpPr>
        <p:sp>
          <p:nvSpPr>
            <p:cNvPr id="502" name=""/>
            <p:cNvSpPr/>
            <p:nvPr/>
          </p:nvSpPr>
          <p:spPr>
            <a:xfrm>
              <a:off x="2514600" y="3044880"/>
              <a:ext cx="3809880" cy="3355920"/>
            </a:xfrm>
            <a:custGeom>
              <a:avLst/>
              <a:gdLst/>
              <a:ahLst/>
              <a:rect l="l" t="t" r="r" b="b"/>
              <a:pathLst>
                <a:path w="2400" h="2160">
                  <a:moveTo>
                    <a:pt x="0" y="0"/>
                  </a:moveTo>
                  <a:lnTo>
                    <a:pt x="1296" y="2160"/>
                  </a:lnTo>
                  <a:lnTo>
                    <a:pt x="24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14600" y="2895480"/>
              <a:ext cx="3809880" cy="298440"/>
            </a:xfrm>
            <a:prstGeom prst="ellipse">
              <a:avLst/>
            </a:prstGeom>
            <a:solidFill>
              <a:srgbClr val="bbe0e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324480" y="1676520"/>
              <a:ext cx="685800" cy="13716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752120" y="1752120"/>
              <a:ext cx="762120" cy="12956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752120" y="1447560"/>
            <a:ext cx="5258160" cy="4724280"/>
            <a:chOff x="1752120" y="1447560"/>
            <a:chExt cx="5258160" cy="4724280"/>
          </a:xfrm>
        </p:grpSpPr>
        <p:sp>
          <p:nvSpPr>
            <p:cNvPr id="507" name=""/>
            <p:cNvSpPr/>
            <p:nvPr/>
          </p:nvSpPr>
          <p:spPr>
            <a:xfrm flipV="1">
              <a:off x="2514600" y="1447200"/>
              <a:ext cx="3809880" cy="3355920"/>
            </a:xfrm>
            <a:custGeom>
              <a:avLst/>
              <a:gdLst/>
              <a:ahLst/>
              <a:rect l="l" t="t" r="r" b="b"/>
              <a:pathLst>
                <a:path w="2400" h="2160">
                  <a:moveTo>
                    <a:pt x="0" y="0"/>
                  </a:moveTo>
                  <a:lnTo>
                    <a:pt x="1296" y="2160"/>
                  </a:lnTo>
                  <a:lnTo>
                    <a:pt x="24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14600" y="4654080"/>
              <a:ext cx="3809880" cy="298440"/>
            </a:xfrm>
            <a:prstGeom prst="ellipse">
              <a:avLst/>
            </a:prstGeom>
            <a:solidFill>
              <a:srgbClr val="bbe0e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24480" y="4800240"/>
              <a:ext cx="685800" cy="13716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752120" y="4800600"/>
              <a:ext cx="762120" cy="12956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3048120" y="2895480"/>
            <a:ext cx="2819160" cy="2057400"/>
          </a:xfrm>
          <a:custGeom>
            <a:avLst/>
            <a:gdLst/>
            <a:ahLst/>
            <a:rect l="l" t="t" r="r" b="b"/>
            <a:pathLst>
              <a:path w="1776" h="1296">
                <a:moveTo>
                  <a:pt x="384" y="1296"/>
                </a:moveTo>
                <a:lnTo>
                  <a:pt x="0" y="672"/>
                </a:lnTo>
                <a:lnTo>
                  <a:pt x="384" y="0"/>
                </a:lnTo>
                <a:cubicBezTo>
                  <a:pt x="733" y="5"/>
                  <a:pt x="1082" y="10"/>
                  <a:pt x="1432" y="16"/>
                </a:cubicBezTo>
                <a:lnTo>
                  <a:pt x="1776" y="672"/>
                </a:lnTo>
                <a:lnTo>
                  <a:pt x="1440" y="1296"/>
                </a:lnTo>
                <a:lnTo>
                  <a:pt x="384" y="1296"/>
                </a:lnTo>
                <a:close/>
              </a:path>
            </a:pathLst>
          </a:custGeom>
          <a:solidFill>
            <a:srgbClr val="009999">
              <a:alpha val="6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5360" y="29098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97000" y="2895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72440" y="28954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49680" y="2895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1219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5360" y="40528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97000" y="4038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72440" y="40384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9680" y="4038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3" idx="0"/>
            <a:endCxn id="53" idx="4"/>
          </p:cNvCxnSpPr>
          <p:nvPr/>
        </p:nvCxnSpPr>
        <p:spPr>
          <a:xfrm flipV="1">
            <a:off x="2476080" y="352188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74" idx="0"/>
            <a:endCxn id="56" idx="4"/>
          </p:cNvCxnSpPr>
          <p:nvPr/>
        </p:nvCxnSpPr>
        <p:spPr>
          <a:xfrm flipV="1">
            <a:off x="4152600" y="352188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58" idx="4"/>
            <a:endCxn id="75" idx="0"/>
          </p:cNvCxnSpPr>
          <p:nvPr/>
        </p:nvCxnSpPr>
        <p:spPr>
          <a:xfrm>
            <a:off x="5829120" y="352224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0" idx="4"/>
            <a:endCxn id="76" idx="0"/>
          </p:cNvCxnSpPr>
          <p:nvPr/>
        </p:nvCxnSpPr>
        <p:spPr>
          <a:xfrm>
            <a:off x="7505280" y="352224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/>
          <p:nvPr/>
        </p:nvCxnSpPr>
        <p:spPr>
          <a:xfrm>
            <a:off x="2836440" y="3161880"/>
            <a:ext cx="956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0" name=""/>
          <p:cNvCxnSpPr/>
          <p:nvPr/>
        </p:nvCxnSpPr>
        <p:spPr>
          <a:xfrm>
            <a:off x="4513320" y="3161880"/>
            <a:ext cx="956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1" name=""/>
          <p:cNvCxnSpPr/>
          <p:nvPr/>
        </p:nvCxnSpPr>
        <p:spPr>
          <a:xfrm>
            <a:off x="6189840" y="3161880"/>
            <a:ext cx="956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92" name=""/>
          <p:cNvSpPr/>
          <p:nvPr/>
        </p:nvSpPr>
        <p:spPr>
          <a:xfrm>
            <a:off x="205884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884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536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5360" y="2376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3060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06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3080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308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1219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38280" y="12189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12193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1219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91320" y="121896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0" y="121932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1040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12189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3372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9236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2720" y="14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6864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896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760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63880" y="23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548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8320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5484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59480" y="23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5464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840" y="2117880"/>
            <a:ext cx="11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840" y="990720"/>
            <a:ext cx="11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640" y="5029200"/>
            <a:ext cx="37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Observed data (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5160" y="563868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Unobserve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3360" y="6248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Discrete, finite labe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1360" y="4983120"/>
            <a:ext cx="33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bel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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34800" y="5821200"/>
            <a:ext cx="328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is assigned l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f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 that Preserve Conv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8320" y="730080"/>
            <a:ext cx="71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ffine Transformation   x </a:t>
            </a:r>
            <a:r>
              <a:rPr b="0" lang="en-US" sz="3600" spc="-1" strike="noStrike">
                <a:solidFill>
                  <a:srgbClr val="333399"/>
                </a:solidFill>
                <a:latin typeface="Monotype Sorts"/>
                <a:ea typeface="Monotype Sorts"/>
              </a:rPr>
              <a:t>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Ax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2205000">
            <a:off x="2452320" y="2595600"/>
            <a:ext cx="3129120" cy="3170160"/>
          </a:xfrm>
          <a:custGeom>
            <a:avLst/>
            <a:gdLst/>
            <a:ahLst/>
            <a:rect l="l" t="t" r="r" b="b"/>
            <a:pathLst>
              <a:path w="2400" h="2160">
                <a:moveTo>
                  <a:pt x="0" y="0"/>
                </a:moveTo>
                <a:lnTo>
                  <a:pt x="1296" y="2160"/>
                </a:lnTo>
                <a:lnTo>
                  <a:pt x="24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2205000">
            <a:off x="3401640" y="2768760"/>
            <a:ext cx="3129120" cy="282240"/>
          </a:xfrm>
          <a:prstGeom prst="ellipse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218280" y="3533400"/>
            <a:ext cx="523800" cy="3142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709080" y="1392120"/>
            <a:ext cx="119880" cy="5821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486080" y="766440"/>
            <a:ext cx="5635440" cy="5784480"/>
            <a:chOff x="1486080" y="766440"/>
            <a:chExt cx="5635440" cy="5784480"/>
          </a:xfrm>
        </p:grpSpPr>
        <p:sp>
          <p:nvSpPr>
            <p:cNvPr id="519" name=""/>
            <p:cNvSpPr/>
            <p:nvPr/>
          </p:nvSpPr>
          <p:spPr>
            <a:xfrm flipV="1" rot="2205600">
              <a:off x="3355200" y="1386720"/>
              <a:ext cx="3128760" cy="3169800"/>
            </a:xfrm>
            <a:custGeom>
              <a:avLst/>
              <a:gdLst/>
              <a:ahLst/>
              <a:rect l="l" t="t" r="r" b="b"/>
              <a:pathLst>
                <a:path w="2400" h="2160">
                  <a:moveTo>
                    <a:pt x="0" y="0"/>
                  </a:moveTo>
                  <a:lnTo>
                    <a:pt x="1296" y="2160"/>
                  </a:lnTo>
                  <a:lnTo>
                    <a:pt x="24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 rot="2205600">
              <a:off x="2406600" y="4101120"/>
              <a:ext cx="3128760" cy="281520"/>
            </a:xfrm>
            <a:prstGeom prst="ellipse">
              <a:avLst/>
            </a:prstGeom>
            <a:solidFill>
              <a:srgbClr val="bbe0e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902480" y="5176080"/>
              <a:ext cx="324000" cy="13748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486080" y="3303720"/>
              <a:ext cx="1233360" cy="6058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rot="2205000">
            <a:off x="3336480" y="2622240"/>
            <a:ext cx="2316240" cy="1944720"/>
          </a:xfrm>
          <a:custGeom>
            <a:avLst/>
            <a:gdLst/>
            <a:ahLst/>
            <a:rect l="l" t="t" r="r" b="b"/>
            <a:pathLst>
              <a:path w="1776" h="1296">
                <a:moveTo>
                  <a:pt x="384" y="1296"/>
                </a:moveTo>
                <a:lnTo>
                  <a:pt x="0" y="672"/>
                </a:lnTo>
                <a:lnTo>
                  <a:pt x="384" y="0"/>
                </a:lnTo>
                <a:cubicBezTo>
                  <a:pt x="733" y="5"/>
                  <a:pt x="1082" y="10"/>
                  <a:pt x="1432" y="16"/>
                </a:cubicBezTo>
                <a:lnTo>
                  <a:pt x="1776" y="672"/>
                </a:lnTo>
                <a:lnTo>
                  <a:pt x="1440" y="1296"/>
                </a:lnTo>
                <a:lnTo>
                  <a:pt x="384" y="1296"/>
                </a:lnTo>
                <a:close/>
              </a:path>
            </a:pathLst>
          </a:custGeom>
          <a:solidFill>
            <a:srgbClr val="009999">
              <a:alpha val="6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x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33720" y="1066680"/>
            <a:ext cx="0" cy="403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33720" y="5105520"/>
            <a:ext cx="5181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4600" y="1219320"/>
            <a:ext cx="4572000" cy="3504960"/>
          </a:xfrm>
          <a:custGeom>
            <a:avLst/>
            <a:gdLst/>
            <a:ahLst/>
            <a:rect l="l" t="t" r="r" b="b"/>
            <a:pathLst>
              <a:path w="2880" h="2208">
                <a:moveTo>
                  <a:pt x="0" y="0"/>
                </a:moveTo>
                <a:cubicBezTo>
                  <a:pt x="552" y="1104"/>
                  <a:pt x="1104" y="2208"/>
                  <a:pt x="1584" y="2208"/>
                </a:cubicBezTo>
                <a:cubicBezTo>
                  <a:pt x="2064" y="2208"/>
                  <a:pt x="2472" y="1104"/>
                  <a:pt x="288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377480" y="477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449000" y="990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4080" y="251460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43600" y="358128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"/>
          <p:cNvCxnSpPr>
            <a:stCxn id="530" idx="6"/>
            <a:endCxn id="531" idx="2"/>
          </p:cNvCxnSpPr>
          <p:nvPr/>
        </p:nvCxnSpPr>
        <p:spPr>
          <a:xfrm>
            <a:off x="3352320" y="2628720"/>
            <a:ext cx="2591640" cy="10674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 flipV="1">
            <a:off x="4952880" y="2133360"/>
            <a:ext cx="0" cy="297180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00600" y="3124080"/>
            <a:ext cx="30492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4572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25760" y="5454720"/>
            <a:ext cx="79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int always lies abov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i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83800" y="2409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57160" y="35812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x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1066680"/>
            <a:ext cx="0" cy="403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5105520"/>
            <a:ext cx="5181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514600" y="1219320"/>
            <a:ext cx="4572000" cy="3504960"/>
          </a:xfrm>
          <a:custGeom>
            <a:avLst/>
            <a:gdLst/>
            <a:ahLst/>
            <a:rect l="l" t="t" r="r" b="b"/>
            <a:pathLst>
              <a:path w="2880" h="2208">
                <a:moveTo>
                  <a:pt x="0" y="0"/>
                </a:moveTo>
                <a:cubicBezTo>
                  <a:pt x="552" y="1104"/>
                  <a:pt x="1104" y="2208"/>
                  <a:pt x="1584" y="2208"/>
                </a:cubicBezTo>
                <a:cubicBezTo>
                  <a:pt x="2064" y="2208"/>
                  <a:pt x="2472" y="1104"/>
                  <a:pt x="288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377480" y="477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49000" y="990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251460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43600" y="358128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"/>
          <p:cNvCxnSpPr>
            <a:stCxn id="545" idx="6"/>
            <a:endCxn id="546" idx="2"/>
          </p:cNvCxnSpPr>
          <p:nvPr/>
        </p:nvCxnSpPr>
        <p:spPr>
          <a:xfrm>
            <a:off x="3352320" y="2628720"/>
            <a:ext cx="2591640" cy="10674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 flipV="1">
            <a:off x="4952880" y="2133360"/>
            <a:ext cx="0" cy="297180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0600" y="3124080"/>
            <a:ext cx="30492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800600" y="4572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9440" y="5302080"/>
            <a:ext cx="8741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( c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+ (1 - c)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) ≤ c g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 + (1 - c) g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683800" y="2409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57160" y="35812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38480" y="6064200"/>
            <a:ext cx="67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omain of g(.) has to be conve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x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33720" y="1066680"/>
            <a:ext cx="0" cy="403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33720" y="5105520"/>
            <a:ext cx="5181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14600" y="1219320"/>
            <a:ext cx="4572000" cy="3504960"/>
          </a:xfrm>
          <a:custGeom>
            <a:avLst/>
            <a:gdLst/>
            <a:ahLst/>
            <a:rect l="l" t="t" r="r" b="b"/>
            <a:pathLst>
              <a:path w="2880" h="2208">
                <a:moveTo>
                  <a:pt x="0" y="0"/>
                </a:moveTo>
                <a:cubicBezTo>
                  <a:pt x="552" y="1104"/>
                  <a:pt x="1104" y="2208"/>
                  <a:pt x="1584" y="2208"/>
                </a:cubicBezTo>
                <a:cubicBezTo>
                  <a:pt x="2064" y="2208"/>
                  <a:pt x="2472" y="1104"/>
                  <a:pt x="288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77480" y="477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9000" y="990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251460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943600" y="358128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"/>
          <p:cNvCxnSpPr>
            <a:stCxn id="561" idx="6"/>
            <a:endCxn id="562" idx="2"/>
          </p:cNvCxnSpPr>
          <p:nvPr/>
        </p:nvCxnSpPr>
        <p:spPr>
          <a:xfrm>
            <a:off x="3352320" y="2628720"/>
            <a:ext cx="2591640" cy="106740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 flipV="1">
            <a:off x="4952880" y="2133360"/>
            <a:ext cx="0" cy="2971800"/>
          </a:xfrm>
          <a:prstGeom prst="line">
            <a:avLst/>
          </a:prstGeom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800600" y="3124080"/>
            <a:ext cx="30492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00600" y="4572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83800" y="2409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57160" y="35812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41920" y="6019920"/>
            <a:ext cx="34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g(.) is conca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3480" y="5302080"/>
            <a:ext cx="8741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( c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+ (1 - c)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) ≤ c g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 + (1 - c) g(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x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9680" y="762120"/>
            <a:ext cx="61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nce-differentiable func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26120" y="152388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 +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 ≤  g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057400" y="2638440"/>
            <a:ext cx="0" cy="2390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28800" y="5029200"/>
            <a:ext cx="5181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43200" y="2790720"/>
            <a:ext cx="3581280" cy="1552680"/>
          </a:xfrm>
          <a:custGeom>
            <a:avLst/>
            <a:gdLst/>
            <a:ahLst/>
            <a:rect l="l" t="t" r="r" b="b"/>
            <a:pathLst>
              <a:path w="2880" h="2208">
                <a:moveTo>
                  <a:pt x="0" y="0"/>
                </a:moveTo>
                <a:cubicBezTo>
                  <a:pt x="552" y="1104"/>
                  <a:pt x="1104" y="2208"/>
                  <a:pt x="1584" y="2208"/>
                </a:cubicBezTo>
                <a:cubicBezTo>
                  <a:pt x="2064" y="2208"/>
                  <a:pt x="2472" y="1104"/>
                  <a:pt x="288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301160" y="469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220400" y="2562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8862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8040" y="3429000"/>
            <a:ext cx="11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g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419720" y="2895480"/>
            <a:ext cx="2361960" cy="190512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28680" y="3886200"/>
            <a:ext cx="29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 + </a:t>
            </a:r>
            <a:r>
              <a:rPr b="0" lang="en-US" sz="2400" spc="-1" strike="noStrike">
                <a:solidFill>
                  <a:srgbClr val="333399"/>
                </a:solidFill>
                <a:latin typeface="Wingdings 3"/>
                <a:ea typeface="Wingdings 3"/>
              </a:rPr>
              <a:t>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3000" y="533412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ice-differentiable func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21040" y="60199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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     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4572000" y="6019920"/>
            <a:ext cx="558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x Function and Convex 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133720" y="1066680"/>
            <a:ext cx="0" cy="403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133720" y="5105520"/>
            <a:ext cx="5181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377480" y="477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449000" y="990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38280" y="1219320"/>
            <a:ext cx="4648320" cy="3504960"/>
          </a:xfrm>
          <a:custGeom>
            <a:avLst/>
            <a:gdLst/>
            <a:ahLst/>
            <a:rect l="l" t="t" r="r" b="b"/>
            <a:pathLst>
              <a:path w="2928" h="2208">
                <a:moveTo>
                  <a:pt x="48" y="0"/>
                </a:moveTo>
                <a:lnTo>
                  <a:pt x="144" y="192"/>
                </a:lnTo>
                <a:lnTo>
                  <a:pt x="240" y="384"/>
                </a:lnTo>
                <a:lnTo>
                  <a:pt x="384" y="672"/>
                </a:lnTo>
                <a:lnTo>
                  <a:pt x="528" y="960"/>
                </a:lnTo>
                <a:lnTo>
                  <a:pt x="768" y="1344"/>
                </a:lnTo>
                <a:lnTo>
                  <a:pt x="864" y="1536"/>
                </a:lnTo>
                <a:lnTo>
                  <a:pt x="1056" y="1776"/>
                </a:lnTo>
                <a:lnTo>
                  <a:pt x="1200" y="1968"/>
                </a:lnTo>
                <a:lnTo>
                  <a:pt x="1392" y="2112"/>
                </a:lnTo>
                <a:lnTo>
                  <a:pt x="1536" y="2208"/>
                </a:lnTo>
                <a:lnTo>
                  <a:pt x="1680" y="2208"/>
                </a:lnTo>
                <a:lnTo>
                  <a:pt x="1920" y="2064"/>
                </a:lnTo>
                <a:lnTo>
                  <a:pt x="2064" y="1872"/>
                </a:lnTo>
                <a:lnTo>
                  <a:pt x="2256" y="1584"/>
                </a:lnTo>
                <a:lnTo>
                  <a:pt x="2352" y="1392"/>
                </a:lnTo>
                <a:lnTo>
                  <a:pt x="2496" y="1104"/>
                </a:lnTo>
                <a:lnTo>
                  <a:pt x="2640" y="816"/>
                </a:lnTo>
                <a:cubicBezTo>
                  <a:pt x="2737" y="524"/>
                  <a:pt x="2664" y="599"/>
                  <a:pt x="2744" y="520"/>
                </a:cubicBezTo>
                <a:lnTo>
                  <a:pt x="2880" y="96"/>
                </a:lnTo>
                <a:lnTo>
                  <a:pt x="2928" y="0"/>
                </a:lnTo>
                <a:lnTo>
                  <a:pt x="0" y="0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14600" y="1219320"/>
            <a:ext cx="4572000" cy="3504960"/>
          </a:xfrm>
          <a:custGeom>
            <a:avLst/>
            <a:gdLst/>
            <a:ahLst/>
            <a:rect l="l" t="t" r="r" b="b"/>
            <a:pathLst>
              <a:path w="2880" h="2208">
                <a:moveTo>
                  <a:pt x="0" y="0"/>
                </a:moveTo>
                <a:cubicBezTo>
                  <a:pt x="552" y="1104"/>
                  <a:pt x="1104" y="2208"/>
                  <a:pt x="1584" y="2208"/>
                </a:cubicBezTo>
                <a:cubicBezTo>
                  <a:pt x="2064" y="2208"/>
                  <a:pt x="2472" y="1104"/>
                  <a:pt x="288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9920" y="5745240"/>
            <a:ext cx="90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pigraph of a convex function is a convex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onvex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0360" y="863640"/>
            <a:ext cx="43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near function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71360" y="2921040"/>
            <a:ext cx="846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-Norm func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p ≥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440" y="4932360"/>
            <a:ext cx="57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Quadratic functio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08920" y="58690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4202280" y="5867280"/>
            <a:ext cx="558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 that Preserve Conv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04920" y="730080"/>
            <a:ext cx="58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n-negative weighted 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066680" y="2057400"/>
            <a:ext cx="0" cy="228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4343400"/>
            <a:ext cx="2895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2438280"/>
            <a:ext cx="2209680" cy="1524240"/>
          </a:xfrm>
          <a:custGeom>
            <a:avLst/>
            <a:gdLst/>
            <a:ahLst/>
            <a:rect l="l" t="t" r="r" b="b"/>
            <a:pathLst>
              <a:path w="2880" h="2208">
                <a:moveTo>
                  <a:pt x="0" y="0"/>
                </a:moveTo>
                <a:cubicBezTo>
                  <a:pt x="552" y="1104"/>
                  <a:pt x="1104" y="2208"/>
                  <a:pt x="1584" y="2208"/>
                </a:cubicBezTo>
                <a:cubicBezTo>
                  <a:pt x="2064" y="2208"/>
                  <a:pt x="2472" y="1104"/>
                  <a:pt x="288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58344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46360" y="14479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2280" y="249228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32520" y="2057400"/>
            <a:ext cx="0" cy="228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132520" y="4343400"/>
            <a:ext cx="2895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513400" y="2438280"/>
            <a:ext cx="2209680" cy="1524240"/>
          </a:xfrm>
          <a:custGeom>
            <a:avLst/>
            <a:gdLst/>
            <a:ahLst/>
            <a:rect l="l" t="t" r="r" b="b"/>
            <a:pathLst>
              <a:path w="2880" h="2208">
                <a:moveTo>
                  <a:pt x="0" y="0"/>
                </a:moveTo>
                <a:cubicBezTo>
                  <a:pt x="552" y="1104"/>
                  <a:pt x="1104" y="2208"/>
                  <a:pt x="1584" y="2208"/>
                </a:cubicBezTo>
                <a:cubicBezTo>
                  <a:pt x="2064" y="2208"/>
                  <a:pt x="2472" y="1104"/>
                  <a:pt x="288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9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12200" y="14479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76560" y="2406600"/>
            <a:ext cx="105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w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850880" y="2438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99880" y="5181480"/>
            <a:ext cx="342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08880" y="591192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4602240" y="5910120"/>
            <a:ext cx="558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 that Preserve Conv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5280" y="7300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intwise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676520" y="2362320"/>
            <a:ext cx="0" cy="228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76520" y="4648320"/>
            <a:ext cx="2895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2743200"/>
            <a:ext cx="2209680" cy="1523880"/>
          </a:xfrm>
          <a:custGeom>
            <a:avLst/>
            <a:gdLst/>
            <a:ahLst/>
            <a:rect l="l" t="t" r="r" b="b"/>
            <a:pathLst>
              <a:path w="2880" h="2208">
                <a:moveTo>
                  <a:pt x="0" y="0"/>
                </a:moveTo>
                <a:cubicBezTo>
                  <a:pt x="552" y="1104"/>
                  <a:pt x="1104" y="2208"/>
                  <a:pt x="1584" y="2208"/>
                </a:cubicBezTo>
                <a:cubicBezTo>
                  <a:pt x="2064" y="2208"/>
                  <a:pt x="2472" y="1104"/>
                  <a:pt x="288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19292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456200" y="175248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0" y="2895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2362320"/>
            <a:ext cx="0" cy="228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029200" y="4648320"/>
            <a:ext cx="2895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2743200"/>
            <a:ext cx="2210040" cy="1523880"/>
          </a:xfrm>
          <a:custGeom>
            <a:avLst/>
            <a:gdLst/>
            <a:ahLst/>
            <a:rect l="l" t="t" r="r" b="b"/>
            <a:pathLst>
              <a:path w="2880" h="2208">
                <a:moveTo>
                  <a:pt x="0" y="0"/>
                </a:moveTo>
                <a:cubicBezTo>
                  <a:pt x="552" y="1104"/>
                  <a:pt x="1104" y="2208"/>
                  <a:pt x="1584" y="2208"/>
                </a:cubicBezTo>
                <a:cubicBezTo>
                  <a:pt x="2064" y="2208"/>
                  <a:pt x="2472" y="1104"/>
                  <a:pt x="288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4560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808880" y="175248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57960" y="28735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43000" y="1523880"/>
            <a:ext cx="533520" cy="3429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72400" y="1523880"/>
            <a:ext cx="533520" cy="3429000"/>
          </a:xfrm>
          <a:custGeom>
            <a:avLst/>
            <a:gdLst>
              <a:gd name="textAreaLeft" fmla="*/ 0 w 533520"/>
              <a:gd name="textAreaRight" fmla="*/ 192600 w 5335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189800" y="5362560"/>
            <a:ext cx="71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ointwise minimum of conca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nctions is conc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664280" y="990720"/>
            <a:ext cx="2346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924480" y="1889280"/>
            <a:ext cx="309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t. 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≤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55080" y="2803680"/>
            <a:ext cx="300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634640" y="10476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50840" y="19350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650480" y="28494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19600" y="5457960"/>
            <a:ext cx="65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function is convex         </a:t>
            </a:r>
            <a:r>
              <a:rPr b="0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7360" y="4238640"/>
            <a:ext cx="64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 region is convex            </a:t>
            </a:r>
            <a:r>
              <a:rPr b="0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990720"/>
            <a:ext cx="8153280" cy="2590560"/>
          </a:xfrm>
          <a:prstGeom prst="rect">
            <a:avLst/>
          </a:prstGeom>
          <a:noFill/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05360" y="29098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97000" y="2895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72440" y="28954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49680" y="2895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1219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05360" y="40528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97000" y="4038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72440" y="40384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49680" y="4038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1" idx="0"/>
            <a:endCxn id="141" idx="4"/>
          </p:cNvCxnSpPr>
          <p:nvPr/>
        </p:nvCxnSpPr>
        <p:spPr>
          <a:xfrm flipV="1">
            <a:off x="2476080" y="352188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2" idx="0"/>
            <a:endCxn id="144" idx="4"/>
          </p:cNvCxnSpPr>
          <p:nvPr/>
        </p:nvCxnSpPr>
        <p:spPr>
          <a:xfrm flipV="1">
            <a:off x="4152600" y="352188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46" idx="4"/>
            <a:endCxn id="163" idx="0"/>
          </p:cNvCxnSpPr>
          <p:nvPr/>
        </p:nvCxnSpPr>
        <p:spPr>
          <a:xfrm>
            <a:off x="5829120" y="352224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48" idx="4"/>
            <a:endCxn id="164" idx="0"/>
          </p:cNvCxnSpPr>
          <p:nvPr/>
        </p:nvCxnSpPr>
        <p:spPr>
          <a:xfrm>
            <a:off x="7505280" y="352224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/>
          <p:nvPr/>
        </p:nvCxnSpPr>
        <p:spPr>
          <a:xfrm>
            <a:off x="2836440" y="3161880"/>
            <a:ext cx="956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8" name=""/>
          <p:cNvCxnSpPr/>
          <p:nvPr/>
        </p:nvCxnSpPr>
        <p:spPr>
          <a:xfrm>
            <a:off x="4513320" y="3161880"/>
            <a:ext cx="956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" name=""/>
          <p:cNvCxnSpPr/>
          <p:nvPr/>
        </p:nvCxnSpPr>
        <p:spPr>
          <a:xfrm>
            <a:off x="6189840" y="3161880"/>
            <a:ext cx="956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981080" y="2666880"/>
            <a:ext cx="1067040" cy="21337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5884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884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536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35360" y="2376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3060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306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3080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308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2666880"/>
            <a:ext cx="2743200" cy="9907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1219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12189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12193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1219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791320" y="121896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10400" y="121932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1040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114800" y="12189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12193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3372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9236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2720" y="14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6864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896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760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63880" y="23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548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8320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5484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59480" y="23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5464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7480" y="5897520"/>
            <a:ext cx="557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(f;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;f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,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b;f(a)f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840" y="2117880"/>
            <a:ext cx="11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840" y="990720"/>
            <a:ext cx="11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36920" y="3352680"/>
            <a:ext cx="139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cd;f(c)f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25560" y="3352680"/>
            <a:ext cx="94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a;f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ar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64280" y="990720"/>
            <a:ext cx="2346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24480" y="1889280"/>
            <a:ext cx="309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t. 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≤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55080" y="2803680"/>
            <a:ext cx="300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34640" y="10476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650840" y="19350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0480" y="28494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3520" y="990720"/>
            <a:ext cx="8153280" cy="2590560"/>
          </a:xfrm>
          <a:prstGeom prst="rect">
            <a:avLst/>
          </a:prstGeom>
          <a:noFill/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78320" y="4114800"/>
            <a:ext cx="2188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939240" y="5013360"/>
            <a:ext cx="2939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t. 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≤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69840" y="5927760"/>
            <a:ext cx="284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651200" y="41720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66680" y="505944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nea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666680" y="597384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nea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33520" y="4114800"/>
            <a:ext cx="8153280" cy="2590920"/>
          </a:xfrm>
          <a:prstGeom prst="rect">
            <a:avLst/>
          </a:prstGeom>
          <a:noFill/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drat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664280" y="990720"/>
            <a:ext cx="2346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24480" y="1889280"/>
            <a:ext cx="309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t. 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≤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55080" y="2803680"/>
            <a:ext cx="300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634640" y="10476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650840" y="19350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650480" y="28494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3520" y="990720"/>
            <a:ext cx="8153280" cy="2590560"/>
          </a:xfrm>
          <a:prstGeom prst="rect">
            <a:avLst/>
          </a:prstGeom>
          <a:noFill/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41148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4680" y="5013360"/>
            <a:ext cx="2939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t. 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≤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4920" y="5927760"/>
            <a:ext cx="284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283000" y="4191120"/>
            <a:ext cx="34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Quadratic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61760" y="505944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nea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361760" y="597384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nea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4038480"/>
            <a:ext cx="8458200" cy="2590920"/>
          </a:xfrm>
          <a:prstGeom prst="rect">
            <a:avLst/>
          </a:prstGeom>
          <a:noFill/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-Order Cone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664280" y="990720"/>
            <a:ext cx="2346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24480" y="1889280"/>
            <a:ext cx="309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t. 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≤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55080" y="2803680"/>
            <a:ext cx="300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34640" y="10476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50840" y="19350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50480" y="28494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990720"/>
            <a:ext cx="8153280" cy="2590560"/>
          </a:xfrm>
          <a:prstGeom prst="rect">
            <a:avLst/>
          </a:prstGeom>
          <a:noFill/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33520" y="4114800"/>
            <a:ext cx="480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0960" y="5013360"/>
            <a:ext cx="5648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t.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≤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64920" y="5927760"/>
            <a:ext cx="284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283000" y="419112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0840" y="48769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adr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361760" y="60498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nea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0880" y="4038480"/>
            <a:ext cx="8458200" cy="2590920"/>
          </a:xfrm>
          <a:prstGeom prst="rect">
            <a:avLst/>
          </a:prstGeom>
          <a:noFill/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idefinite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664280" y="990720"/>
            <a:ext cx="2346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24480" y="1889280"/>
            <a:ext cx="309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t. 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≤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55080" y="2803680"/>
            <a:ext cx="300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34640" y="10476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650840" y="19350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50480" y="28494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990720"/>
            <a:ext cx="8153280" cy="2590560"/>
          </a:xfrm>
          <a:prstGeom prst="rect">
            <a:avLst/>
          </a:prstGeom>
          <a:noFill/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41148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4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2720" y="5013360"/>
            <a:ext cx="27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t.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02360" y="5927760"/>
            <a:ext cx="3347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83000" y="419112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502920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midefini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15800" y="59436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nea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" y="4038480"/>
            <a:ext cx="8305920" cy="2590920"/>
          </a:xfrm>
          <a:prstGeom prst="rect">
            <a:avLst/>
          </a:prstGeom>
          <a:noFill/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2286000" y="5029200"/>
            <a:ext cx="558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3093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teger Programming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ing Relax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4996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65452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349960" y="25765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2612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33104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5654520" y="14331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654520" y="1433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654520" y="1433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654520" y="2576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35140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5140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0275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2756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2499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08600" y="16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798960" y="16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28488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436720" y="31240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113240" y="311004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49960" y="14335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026120" y="25765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026120" y="14335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29720" y="2332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0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445560" y="120492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9840" y="10810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nary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2240" y="4373640"/>
            <a:ext cx="41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Cost Vect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[  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495240" y="4343400"/>
            <a:ext cx="1932120" cy="1424520"/>
            <a:chOff x="3495240" y="4343400"/>
            <a:chExt cx="1932120" cy="1424520"/>
          </a:xfrm>
        </p:grpSpPr>
        <p:sp>
          <p:nvSpPr>
            <p:cNvPr id="736" name=""/>
            <p:cNvSpPr/>
            <p:nvPr/>
          </p:nvSpPr>
          <p:spPr>
            <a:xfrm>
              <a:off x="4097160" y="4343400"/>
              <a:ext cx="609480" cy="68580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95240" y="5257800"/>
              <a:ext cx="193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Cost of V</a:t>
              </a:r>
              <a:r>
                <a:rPr b="0" lang="en-US" sz="24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802040" y="435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155840" y="4343400"/>
            <a:ext cx="1932120" cy="1424520"/>
            <a:chOff x="4155840" y="4343400"/>
            <a:chExt cx="1932120" cy="1424520"/>
          </a:xfrm>
        </p:grpSpPr>
        <p:sp>
          <p:nvSpPr>
            <p:cNvPr id="740" name=""/>
            <p:cNvSpPr/>
            <p:nvPr/>
          </p:nvSpPr>
          <p:spPr>
            <a:xfrm>
              <a:off x="4757760" y="4343400"/>
              <a:ext cx="609480" cy="68580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55840" y="5257800"/>
              <a:ext cx="193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Cost of V</a:t>
              </a:r>
              <a:r>
                <a:rPr b="0" lang="en-US" sz="24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5337360" y="434340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 2    4 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133720" y="32004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ling m = {1 , 0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534996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452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349960" y="25765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2612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3104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654520" y="14331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654520" y="1433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654520" y="1433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54520" y="2576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5140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35140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0275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02756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2499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08600" y="16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98960" y="16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28488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36720" y="31240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113240" y="311004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49960" y="14335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26120" y="25765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026120" y="14335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429720" y="2332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0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445560" y="120492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19840" y="10810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nary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62240" y="4373640"/>
            <a:ext cx="41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Cost Vect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[  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802040" y="435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348520" y="4343400"/>
            <a:ext cx="16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 2    4  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32004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ling m = {1 , 0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375200" y="5272200"/>
            <a:ext cx="32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 vect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[ 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3472920" y="5181480"/>
            <a:ext cx="1558440" cy="1464120"/>
            <a:chOff x="3472920" y="5181480"/>
            <a:chExt cx="1558440" cy="1464120"/>
          </a:xfrm>
        </p:grpSpPr>
        <p:sp>
          <p:nvSpPr>
            <p:cNvPr id="775" name=""/>
            <p:cNvSpPr/>
            <p:nvPr/>
          </p:nvSpPr>
          <p:spPr>
            <a:xfrm>
              <a:off x="4114800" y="5181480"/>
              <a:ext cx="609480" cy="68580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72920" y="6066000"/>
              <a:ext cx="155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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4800600" y="527220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125960" y="5181480"/>
            <a:ext cx="1476000" cy="1447920"/>
            <a:chOff x="4125960" y="5181480"/>
            <a:chExt cx="1476000" cy="1447920"/>
          </a:xfrm>
        </p:grpSpPr>
        <p:sp>
          <p:nvSpPr>
            <p:cNvPr id="779" name=""/>
            <p:cNvSpPr/>
            <p:nvPr/>
          </p:nvSpPr>
          <p:spPr>
            <a:xfrm>
              <a:off x="4724280" y="5181480"/>
              <a:ext cx="609480" cy="68580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125960" y="604980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=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5390280" y="527220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 1   -1 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290240" y="6095880"/>
            <a:ext cx="61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call that the aim is to find the optima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534996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65452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49960" y="25765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02612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33104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5654520" y="14331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654520" y="1433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654520" y="1433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654520" y="2576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5140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5140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0275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02756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2499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8600" y="16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798960" y="16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28488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436720" y="31240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113240" y="311004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349960" y="14335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026120" y="25765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026120" y="14335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429720" y="2332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0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445560" y="120492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19840" y="10810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nary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62240" y="4373640"/>
            <a:ext cx="41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Cost Vect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[  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802040" y="435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348520" y="4343400"/>
            <a:ext cx="16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 2    4  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33720" y="32004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ling m = {1 , 0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375200" y="5272200"/>
            <a:ext cx="32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 vect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[ 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800600" y="527220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390280" y="527220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 1   -1 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5720" y="60339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 Unary Cost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252680" y="5943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75280" y="63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268520" y="6400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645440" y="6111720"/>
            <a:ext cx="195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534996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65452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49960" y="25765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02612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33104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5654520" y="14331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654520" y="1433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654520" y="1433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654520" y="2576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35140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35140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0275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02756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2499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808600" y="16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798960" y="16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28488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436720" y="31240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113240" y="311004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349960" y="14335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026120" y="25765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026120" y="14335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29720" y="2332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0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445560" y="120492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19480" y="108108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irwis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133720" y="32004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ling m = {1 , 0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915840" y="44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762120" y="4281480"/>
            <a:ext cx="8038440" cy="824040"/>
            <a:chOff x="762120" y="4281480"/>
            <a:chExt cx="8038440" cy="824040"/>
          </a:xfrm>
        </p:grpSpPr>
        <p:sp>
          <p:nvSpPr>
            <p:cNvPr id="850" name=""/>
            <p:cNvSpPr/>
            <p:nvPr/>
          </p:nvSpPr>
          <p:spPr>
            <a:xfrm>
              <a:off x="4974120" y="4281480"/>
              <a:ext cx="382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Cost of V</a:t>
              </a:r>
              <a:r>
                <a:rPr b="0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= 0 and V</a:t>
              </a:r>
              <a:r>
                <a:rPr b="0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62120" y="4419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934920" y="4495680"/>
            <a:ext cx="873360" cy="1144440"/>
            <a:chOff x="934920" y="4495680"/>
            <a:chExt cx="873360" cy="1144440"/>
          </a:xfrm>
        </p:grpSpPr>
        <p:sp>
          <p:nvSpPr>
            <p:cNvPr id="853" name=""/>
            <p:cNvSpPr/>
            <p:nvPr/>
          </p:nvSpPr>
          <p:spPr>
            <a:xfrm>
              <a:off x="1449360" y="449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44936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3492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2058840" y="45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905120" y="4419720"/>
            <a:ext cx="6895440" cy="1112760"/>
            <a:chOff x="1905120" y="4419720"/>
            <a:chExt cx="6895440" cy="1112760"/>
          </a:xfrm>
        </p:grpSpPr>
        <p:sp>
          <p:nvSpPr>
            <p:cNvPr id="858" name=""/>
            <p:cNvSpPr/>
            <p:nvPr/>
          </p:nvSpPr>
          <p:spPr>
            <a:xfrm>
              <a:off x="1905120" y="4419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74120" y="4952880"/>
              <a:ext cx="382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Cost of V</a:t>
              </a:r>
              <a:r>
                <a:rPr b="0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= 0 and V</a:t>
              </a:r>
              <a:r>
                <a:rPr b="0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2592360" y="44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2438280" y="4419720"/>
            <a:ext cx="6362280" cy="1736640"/>
            <a:chOff x="2438280" y="4419720"/>
            <a:chExt cx="6362280" cy="1736640"/>
          </a:xfrm>
        </p:grpSpPr>
        <p:sp>
          <p:nvSpPr>
            <p:cNvPr id="862" name=""/>
            <p:cNvSpPr/>
            <p:nvPr/>
          </p:nvSpPr>
          <p:spPr>
            <a:xfrm>
              <a:off x="2438280" y="4419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74120" y="5576760"/>
              <a:ext cx="382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Cost of V</a:t>
              </a:r>
              <a:r>
                <a:rPr b="0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= 0 and V</a:t>
              </a:r>
              <a:r>
                <a:rPr b="0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=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915840" y="5119560"/>
            <a:ext cx="2035440" cy="1587600"/>
            <a:chOff x="915840" y="5119560"/>
            <a:chExt cx="2035440" cy="1587600"/>
          </a:xfrm>
        </p:grpSpPr>
        <p:sp>
          <p:nvSpPr>
            <p:cNvPr id="865" name=""/>
            <p:cNvSpPr/>
            <p:nvPr/>
          </p:nvSpPr>
          <p:spPr>
            <a:xfrm>
              <a:off x="205884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59236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59236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07792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7792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59236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3028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1584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91584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43028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155880" y="3824280"/>
            <a:ext cx="3506040" cy="2881440"/>
            <a:chOff x="155880" y="3824280"/>
            <a:chExt cx="3506040" cy="2881440"/>
          </a:xfrm>
        </p:grpSpPr>
        <p:sp>
          <p:nvSpPr>
            <p:cNvPr id="876" name=""/>
            <p:cNvSpPr/>
            <p:nvPr/>
          </p:nvSpPr>
          <p:spPr>
            <a:xfrm>
              <a:off x="155880" y="3824280"/>
              <a:ext cx="350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airwise Cost Matrix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76440" y="615312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05120" y="615312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333440" y="615312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2120" y="615312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76440" y="5600880"/>
              <a:ext cx="5716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05120" y="5600880"/>
              <a:ext cx="5713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333440" y="5600880"/>
              <a:ext cx="5716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2120" y="5600880"/>
              <a:ext cx="5713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476440" y="50482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05120" y="50482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333440" y="50482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2120" y="50482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476440" y="44956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133720" y="44956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33440" y="44956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62120" y="44956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62120" y="449568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2120" y="504828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2120" y="560088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2120" y="61531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2120" y="670572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2120" y="4495680"/>
              <a:ext cx="0" cy="2210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333440" y="449568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905120" y="449568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76440" y="449568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48120" y="4495680"/>
              <a:ext cx="0" cy="2210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534996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65452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49960" y="25765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02612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33104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654520" y="14331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654520" y="1433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654520" y="1433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654520" y="2576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35140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35140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0275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02756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2499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808600" y="16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98960" y="16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28488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436720" y="31240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13240" y="311004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49960" y="14335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026120" y="25765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026120" y="14335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429720" y="2332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0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445560" y="120492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9480" y="108108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irwis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133720" y="32004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ling m = {1 , 0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55880" y="3824280"/>
            <a:ext cx="3506040" cy="2881440"/>
            <a:chOff x="155880" y="3824280"/>
            <a:chExt cx="3506040" cy="2881440"/>
          </a:xfrm>
        </p:grpSpPr>
        <p:sp>
          <p:nvSpPr>
            <p:cNvPr id="931" name=""/>
            <p:cNvSpPr/>
            <p:nvPr/>
          </p:nvSpPr>
          <p:spPr>
            <a:xfrm>
              <a:off x="155880" y="3824280"/>
              <a:ext cx="350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airwise Cost Matrix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76440" y="615312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05120" y="615312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333440" y="615312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2120" y="615312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76440" y="5600880"/>
              <a:ext cx="5716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05120" y="5600880"/>
              <a:ext cx="5713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33440" y="5600880"/>
              <a:ext cx="5716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2120" y="5600880"/>
              <a:ext cx="5713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76440" y="50482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05120" y="50482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33440" y="50482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50482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76440" y="44956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33720" y="44956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333440" y="44956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62120" y="44956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449568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2120" y="504828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62120" y="560088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2120" y="61531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62120" y="670572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62120" y="4495680"/>
              <a:ext cx="0" cy="2210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333440" y="449568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905120" y="449568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76440" y="449568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048120" y="4495680"/>
              <a:ext cx="0" cy="2210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915840" y="44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934920" y="4495680"/>
            <a:ext cx="873360" cy="1144440"/>
            <a:chOff x="934920" y="4495680"/>
            <a:chExt cx="873360" cy="1144440"/>
          </a:xfrm>
        </p:grpSpPr>
        <p:sp>
          <p:nvSpPr>
            <p:cNvPr id="960" name=""/>
            <p:cNvSpPr/>
            <p:nvPr/>
          </p:nvSpPr>
          <p:spPr>
            <a:xfrm>
              <a:off x="1449360" y="449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4936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3492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2058840" y="45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592360" y="44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915840" y="5119560"/>
            <a:ext cx="2035440" cy="1587600"/>
            <a:chOff x="915840" y="5119560"/>
            <a:chExt cx="2035440" cy="1587600"/>
          </a:xfrm>
        </p:grpSpPr>
        <p:sp>
          <p:nvSpPr>
            <p:cNvPr id="966" name=""/>
            <p:cNvSpPr/>
            <p:nvPr/>
          </p:nvSpPr>
          <p:spPr>
            <a:xfrm>
              <a:off x="205884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9236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9236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07792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7792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9236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3028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1584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1584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3028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4345560" y="380988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 Pairwis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862520" y="4191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784760" y="46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878360" y="4648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268240" y="4359240"/>
            <a:ext cx="293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(1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05360" y="29098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97000" y="2895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72440" y="28954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49680" y="2895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1219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3962520"/>
            <a:ext cx="685800" cy="6858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5360" y="40528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97000" y="4038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72440" y="40384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49680" y="4038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stCxn id="249" idx="0"/>
            <a:endCxn id="229" idx="4"/>
          </p:cNvCxnSpPr>
          <p:nvPr/>
        </p:nvCxnSpPr>
        <p:spPr>
          <a:xfrm flipV="1">
            <a:off x="2476080" y="352188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50" idx="0"/>
            <a:endCxn id="232" idx="4"/>
          </p:cNvCxnSpPr>
          <p:nvPr/>
        </p:nvCxnSpPr>
        <p:spPr>
          <a:xfrm flipV="1">
            <a:off x="4152600" y="352188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34" idx="4"/>
            <a:endCxn id="251" idx="0"/>
          </p:cNvCxnSpPr>
          <p:nvPr/>
        </p:nvCxnSpPr>
        <p:spPr>
          <a:xfrm>
            <a:off x="5829120" y="352224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36" idx="4"/>
            <a:endCxn id="252" idx="0"/>
          </p:cNvCxnSpPr>
          <p:nvPr/>
        </p:nvCxnSpPr>
        <p:spPr>
          <a:xfrm>
            <a:off x="7505280" y="3522240"/>
            <a:ext cx="1080" cy="423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/>
          <p:nvPr/>
        </p:nvCxnSpPr>
        <p:spPr>
          <a:xfrm>
            <a:off x="2836440" y="3161880"/>
            <a:ext cx="956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66" name=""/>
          <p:cNvCxnSpPr/>
          <p:nvPr/>
        </p:nvCxnSpPr>
        <p:spPr>
          <a:xfrm>
            <a:off x="4513320" y="3161880"/>
            <a:ext cx="956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67" name=""/>
          <p:cNvCxnSpPr/>
          <p:nvPr/>
        </p:nvCxnSpPr>
        <p:spPr>
          <a:xfrm>
            <a:off x="6189840" y="3161880"/>
            <a:ext cx="956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205884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5884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3536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35360" y="2376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060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06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3080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308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9880" y="1219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438280" y="12189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12193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1219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791320" y="121896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10400" y="121932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913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1040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114800" y="12189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12193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3372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236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82720" y="14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6864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2896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8760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63880" y="23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0548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8320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5484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59480" y="23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5464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7480" y="5897520"/>
            <a:ext cx="557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(f;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;f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,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b;f(a)f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2840" y="2117880"/>
            <a:ext cx="11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840" y="990720"/>
            <a:ext cx="11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25640" y="4952880"/>
            <a:ext cx="366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f* = argmin</a:t>
            </a:r>
            <a:r>
              <a:rPr b="1" lang="en-US" sz="3200" spc="-1" strike="noStrike" baseline="-25000">
                <a:solidFill>
                  <a:srgbClr val="0099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Q(f; </a:t>
            </a:r>
            <a:r>
              <a:rPr b="1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534996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65452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9960" y="25765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26120" y="30337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331040" y="1281240"/>
            <a:ext cx="0" cy="1752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5654520" y="14331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654520" y="1433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654520" y="1433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654520" y="2576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35140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35140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0275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02756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249960" y="990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808600" y="16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798960" y="16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284880" y="25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436720" y="31240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113240" y="311004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349960" y="14335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026120" y="25765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026120" y="14335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429720" y="2332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0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445560" y="120492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‘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19480" y="108108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irwis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133720" y="32004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ling m = {1 , 0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55880" y="3824280"/>
            <a:ext cx="3506040" cy="2881440"/>
            <a:chOff x="155880" y="3824280"/>
            <a:chExt cx="3506040" cy="2881440"/>
          </a:xfrm>
        </p:grpSpPr>
        <p:sp>
          <p:nvSpPr>
            <p:cNvPr id="1009" name=""/>
            <p:cNvSpPr/>
            <p:nvPr/>
          </p:nvSpPr>
          <p:spPr>
            <a:xfrm>
              <a:off x="155880" y="3824280"/>
              <a:ext cx="350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airwise Cost Matrix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76440" y="615312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905120" y="615312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333440" y="615312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2120" y="615312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76440" y="5600880"/>
              <a:ext cx="5716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05120" y="5600880"/>
              <a:ext cx="5713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333440" y="5600880"/>
              <a:ext cx="5716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2120" y="5600880"/>
              <a:ext cx="5713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76440" y="50482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05120" y="50482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33440" y="50482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62120" y="50482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76440" y="44956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33720" y="44956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33440" y="4495680"/>
              <a:ext cx="571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62120" y="4495680"/>
              <a:ext cx="571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4879800"/>
                  <a:tab algn="l" pos="9759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2120" y="449568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62120" y="504828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62120" y="560088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2120" y="61531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62120" y="670572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2120" y="4495680"/>
              <a:ext cx="0" cy="2210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33440" y="449568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905120" y="449568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76440" y="449568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48120" y="4495680"/>
              <a:ext cx="0" cy="2210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915840" y="44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934920" y="4495680"/>
            <a:ext cx="873360" cy="1144440"/>
            <a:chOff x="934920" y="4495680"/>
            <a:chExt cx="873360" cy="1144440"/>
          </a:xfrm>
        </p:grpSpPr>
        <p:sp>
          <p:nvSpPr>
            <p:cNvPr id="1038" name=""/>
            <p:cNvSpPr/>
            <p:nvPr/>
          </p:nvSpPr>
          <p:spPr>
            <a:xfrm>
              <a:off x="1449360" y="449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4936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3492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058840" y="45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592360" y="44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915840" y="5119560"/>
            <a:ext cx="2035440" cy="1587600"/>
            <a:chOff x="915840" y="5119560"/>
            <a:chExt cx="2035440" cy="1587600"/>
          </a:xfrm>
        </p:grpSpPr>
        <p:sp>
          <p:nvSpPr>
            <p:cNvPr id="1044" name=""/>
            <p:cNvSpPr/>
            <p:nvPr/>
          </p:nvSpPr>
          <p:spPr>
            <a:xfrm>
              <a:off x="205884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92360" y="511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9236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07792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07792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9236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43028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5840" y="5653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1584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30280" y="618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4345560" y="380988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 Pairwis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862520" y="4191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784760" y="46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878360" y="4648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283000" y="4359240"/>
            <a:ext cx="342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4378680" y="5181480"/>
            <a:ext cx="4383000" cy="977760"/>
            <a:chOff x="4378680" y="5181480"/>
            <a:chExt cx="4383000" cy="977760"/>
          </a:xfrm>
        </p:grpSpPr>
        <p:sp>
          <p:nvSpPr>
            <p:cNvPr id="1060" name=""/>
            <p:cNvSpPr/>
            <p:nvPr/>
          </p:nvSpPr>
          <p:spPr>
            <a:xfrm>
              <a:off x="4895640" y="5181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18240" y="5624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11480" y="5638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12880" y="5349960"/>
              <a:ext cx="344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1 +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378680" y="53499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5119560" y="61722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x x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991560" y="6186600"/>
            <a:ext cx="149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518040" y="10810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457560" y="4127400"/>
            <a:ext cx="5297760" cy="1715040"/>
            <a:chOff x="457560" y="4127400"/>
            <a:chExt cx="5297760" cy="1715040"/>
          </a:xfrm>
        </p:grpSpPr>
        <p:sp>
          <p:nvSpPr>
            <p:cNvPr id="1070" name=""/>
            <p:cNvSpPr/>
            <p:nvPr/>
          </p:nvSpPr>
          <p:spPr>
            <a:xfrm>
              <a:off x="457560" y="4127400"/>
              <a:ext cx="362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iqueness Constrai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61240" y="48448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021120" y="53323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396000" y="1773360"/>
            <a:ext cx="31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676320" y="2436840"/>
            <a:ext cx="166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-1,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762000" y="318456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088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630240" y="4249800"/>
            <a:ext cx="166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-1,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715920" y="49975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125280" y="1413000"/>
            <a:ext cx="8839440" cy="252072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71960" y="4076640"/>
            <a:ext cx="145008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nv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384720" y="4135320"/>
            <a:ext cx="4861440" cy="1371600"/>
            <a:chOff x="3384720" y="4135320"/>
            <a:chExt cx="4861440" cy="1371600"/>
          </a:xfrm>
        </p:grpSpPr>
        <p:sp>
          <p:nvSpPr>
            <p:cNvPr id="1097" name=""/>
            <p:cNvSpPr/>
            <p:nvPr/>
          </p:nvSpPr>
          <p:spPr>
            <a:xfrm>
              <a:off x="3384720" y="4135320"/>
              <a:ext cx="2209680" cy="13716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957640" y="4334040"/>
              <a:ext cx="228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Non-Conve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436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isting Relax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near Programming (LP-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definite Programming (SDP-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rder Cone Programming (SOCP-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114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0240" y="4249800"/>
            <a:ext cx="166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-1,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715920" y="51418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25280" y="1555920"/>
            <a:ext cx="8839440" cy="2520720"/>
          </a:xfrm>
          <a:prstGeom prst="rect">
            <a:avLst/>
          </a:prstGeom>
          <a:solidFill>
            <a:srgbClr val="bbe0e3">
              <a:alpha val="50000"/>
            </a:srgbClr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957280" y="1027080"/>
            <a:ext cx="2963520" cy="520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Retain Convex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90720" y="66816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hlesinger, 1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564000" y="4221000"/>
            <a:ext cx="172872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935680" y="4191120"/>
            <a:ext cx="27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lax Non-Con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137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629880" y="4249800"/>
            <a:ext cx="156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-1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15920" y="51418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25280" y="1555920"/>
            <a:ext cx="8839440" cy="2520720"/>
          </a:xfrm>
          <a:prstGeom prst="rect">
            <a:avLst/>
          </a:prstGeom>
          <a:solidFill>
            <a:srgbClr val="bbe0e3">
              <a:alpha val="50000"/>
            </a:srgbClr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957280" y="1027080"/>
            <a:ext cx="2963520" cy="520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Retain Convex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90720" y="66816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hlesinger, 1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564000" y="5084640"/>
            <a:ext cx="172872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935680" y="5054760"/>
            <a:ext cx="27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lax Non-Con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715920" y="13255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90720" y="66816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hlesinger, 1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583440" y="2549520"/>
            <a:ext cx="1769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-1,1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081240" y="3645000"/>
            <a:ext cx="284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598840" y="4861080"/>
            <a:ext cx="3540240" cy="997200"/>
            <a:chOff x="2598840" y="4861080"/>
            <a:chExt cx="3540240" cy="997200"/>
          </a:xfrm>
        </p:grpSpPr>
        <p:sp>
          <p:nvSpPr>
            <p:cNvPr id="1155" name=""/>
            <p:cNvSpPr/>
            <p:nvPr/>
          </p:nvSpPr>
          <p:spPr>
            <a:xfrm>
              <a:off x="2846520" y="4861080"/>
              <a:ext cx="3292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j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2 - |L|)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598840" y="5348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169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629880" y="4249800"/>
            <a:ext cx="156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-1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715920" y="51418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25280" y="1555920"/>
            <a:ext cx="8839440" cy="2520720"/>
          </a:xfrm>
          <a:prstGeom prst="rect">
            <a:avLst/>
          </a:prstGeom>
          <a:solidFill>
            <a:srgbClr val="bbe0e3">
              <a:alpha val="50000"/>
            </a:srgbClr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957280" y="1027080"/>
            <a:ext cx="2963520" cy="520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Retain Convex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90720" y="66816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hlesinger, 1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564000" y="5084640"/>
            <a:ext cx="172872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935680" y="5054760"/>
            <a:ext cx="27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lax Non-Con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192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633400" y="4278240"/>
            <a:ext cx="1737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-1,1]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25280" y="1555920"/>
            <a:ext cx="8839440" cy="2520720"/>
          </a:xfrm>
          <a:prstGeom prst="rect">
            <a:avLst/>
          </a:prstGeom>
          <a:solidFill>
            <a:srgbClr val="bbe0e3">
              <a:alpha val="50000"/>
            </a:srgbClr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957280" y="1027080"/>
            <a:ext cx="2963520" cy="520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Retain Convex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90720" y="66816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hlesinger, 1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510440" y="4292640"/>
            <a:ext cx="1769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-1,1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081240" y="5070600"/>
            <a:ext cx="284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2598840" y="5797440"/>
            <a:ext cx="3540240" cy="997560"/>
            <a:chOff x="2598840" y="5797440"/>
            <a:chExt cx="3540240" cy="997560"/>
          </a:xfrm>
        </p:grpSpPr>
        <p:sp>
          <p:nvSpPr>
            <p:cNvPr id="1203" name=""/>
            <p:cNvSpPr/>
            <p:nvPr/>
          </p:nvSpPr>
          <p:spPr>
            <a:xfrm>
              <a:off x="2846520" y="5797440"/>
              <a:ext cx="3292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j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2 - |L|)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598840" y="628488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7165800" y="469728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P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isting Relax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Programming (LP-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definite Programming (SDP-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rder Cone Programming (SOCP-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3828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1480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62920" y="2819520"/>
            <a:ext cx="685800" cy="6858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67480" y="1066680"/>
            <a:ext cx="0" cy="17528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05360" y="29098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97000" y="2895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72440" y="2895480"/>
            <a:ext cx="52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49680" y="2895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629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9880" y="1219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629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/>
          <p:nvPr/>
        </p:nvCxnSpPr>
        <p:spPr>
          <a:xfrm>
            <a:off x="2836440" y="3161880"/>
            <a:ext cx="956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39" name=""/>
          <p:cNvCxnSpPr/>
          <p:nvPr/>
        </p:nvCxnSpPr>
        <p:spPr>
          <a:xfrm>
            <a:off x="4513320" y="3161880"/>
            <a:ext cx="956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40" name=""/>
          <p:cNvCxnSpPr/>
          <p:nvPr/>
        </p:nvCxnSpPr>
        <p:spPr>
          <a:xfrm>
            <a:off x="6189840" y="3161880"/>
            <a:ext cx="956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205884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5884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3536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35360" y="2376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3060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306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3080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308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1219320"/>
            <a:ext cx="60984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1219320"/>
            <a:ext cx="6094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1219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2362320"/>
            <a:ext cx="6098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438280" y="12189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12193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1219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121896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0400" y="121932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1040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114800" y="121896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14800" y="12193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33720" y="776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9236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82720" y="14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6864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2896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8760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63880" y="23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0548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8320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5484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459480" y="23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54640" y="13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77480" y="5897520"/>
            <a:ext cx="557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(f;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;f(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∑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,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b;f(a)f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840" y="2117880"/>
            <a:ext cx="11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840" y="990720"/>
            <a:ext cx="11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25640" y="4952880"/>
            <a:ext cx="366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f* = argmin</a:t>
            </a:r>
            <a:r>
              <a:rPr b="1" lang="en-US" sz="3200" spc="-1" strike="noStrike" baseline="-25000">
                <a:solidFill>
                  <a:srgbClr val="009999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Q(f; </a:t>
            </a:r>
            <a:r>
              <a:rPr b="1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220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630240" y="4249800"/>
            <a:ext cx="166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-1,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715920" y="51418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5280" y="1555920"/>
            <a:ext cx="8839440" cy="2520720"/>
          </a:xfrm>
          <a:prstGeom prst="rect">
            <a:avLst/>
          </a:prstGeom>
          <a:solidFill>
            <a:srgbClr val="bbe0e3">
              <a:alpha val="50000"/>
            </a:srgbClr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957280" y="1027080"/>
            <a:ext cx="2963520" cy="520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Retain Convex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89280" y="66816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sserre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564000" y="4221000"/>
            <a:ext cx="172872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35680" y="4191120"/>
            <a:ext cx="27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lax Non-Con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243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629880" y="4249800"/>
            <a:ext cx="156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-1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715920" y="51418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25280" y="1555920"/>
            <a:ext cx="8839440" cy="2520720"/>
          </a:xfrm>
          <a:prstGeom prst="rect">
            <a:avLst/>
          </a:prstGeom>
          <a:solidFill>
            <a:srgbClr val="bbe0e3">
              <a:alpha val="50000"/>
            </a:srgbClr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957280" y="1027080"/>
            <a:ext cx="2963520" cy="520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Retain Convex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564000" y="5084640"/>
            <a:ext cx="172872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935680" y="5054760"/>
            <a:ext cx="27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lax Non-Con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9280" y="66816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sserre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619560" y="16146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19560" y="2133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19560" y="34434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3000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04920" y="1066680"/>
            <a:ext cx="380880" cy="3200400"/>
          </a:xfrm>
          <a:custGeom>
            <a:avLst/>
            <a:gdLst>
              <a:gd name="textAreaLeft" fmla="*/ 111960 w 380880"/>
              <a:gd name="textAreaRight" fmla="*/ 381240 w 380880"/>
              <a:gd name="textAreaTop" fmla="*/ 133200 h 3200400"/>
              <a:gd name="textAreaBottom" fmla="*/ 306720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990720" y="1066680"/>
            <a:ext cx="304560" cy="3200400"/>
          </a:xfrm>
          <a:custGeom>
            <a:avLst/>
            <a:gdLst>
              <a:gd name="textAreaLeft" fmla="*/ 0 w 304560"/>
              <a:gd name="textAreaRight" fmla="*/ 213840 w 304560"/>
              <a:gd name="textAreaTop" fmla="*/ 133200 h 3200400"/>
              <a:gd name="textAreaBottom" fmla="*/ 30672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87600" y="220968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87600" y="242244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87600" y="265104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77300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194200" y="12193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727720" y="12193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202200" y="91440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354480" y="91440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507120" y="91440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896280" y="12193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676520" y="1066680"/>
            <a:ext cx="228600" cy="762120"/>
          </a:xfrm>
          <a:custGeom>
            <a:avLst/>
            <a:gdLst>
              <a:gd name="textAreaLeft" fmla="*/ 66960 w 228600"/>
              <a:gd name="textAreaRight" fmla="*/ 2289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343400" y="1143000"/>
            <a:ext cx="152280" cy="685800"/>
          </a:xfrm>
          <a:custGeom>
            <a:avLst/>
            <a:gdLst>
              <a:gd name="textAreaLeft" fmla="*/ 0 w 152280"/>
              <a:gd name="textAreaRight" fmla="*/ 106920 w 15228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5090400" y="2133720"/>
            <a:ext cx="3215520" cy="1892160"/>
            <a:chOff x="5090400" y="2133720"/>
            <a:chExt cx="3215520" cy="1892160"/>
          </a:xfrm>
        </p:grpSpPr>
        <p:sp>
          <p:nvSpPr>
            <p:cNvPr id="1273" name=""/>
            <p:cNvSpPr/>
            <p:nvPr/>
          </p:nvSpPr>
          <p:spPr>
            <a:xfrm>
              <a:off x="644184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04200" y="2286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460920" y="312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529400" y="3200400"/>
              <a:ext cx="35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72200" y="213372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24680" y="2133720"/>
              <a:ext cx="381240" cy="1600200"/>
            </a:xfrm>
            <a:custGeom>
              <a:avLst/>
              <a:gdLst>
                <a:gd name="textAreaLeft" fmla="*/ 0 w 381240"/>
                <a:gd name="textAreaRight" fmla="*/ 26748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090400" y="26370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479640" y="542448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565320" y="3900600"/>
            <a:ext cx="110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675040" y="4510080"/>
            <a:ext cx="32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Semi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3070080" y="3886200"/>
            <a:ext cx="5921640" cy="1295280"/>
            <a:chOff x="3070080" y="3886200"/>
            <a:chExt cx="5921640" cy="1295280"/>
          </a:xfrm>
        </p:grpSpPr>
        <p:sp>
          <p:nvSpPr>
            <p:cNvPr id="1284" name=""/>
            <p:cNvSpPr/>
            <p:nvPr/>
          </p:nvSpPr>
          <p:spPr>
            <a:xfrm>
              <a:off x="5334120" y="3886200"/>
              <a:ext cx="3657600" cy="1295280"/>
            </a:xfrm>
            <a:prstGeom prst="rect">
              <a:avLst/>
            </a:pr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70080" y="4411800"/>
              <a:ext cx="1730520" cy="58140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</a:rPr>
                <a:t>Conve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2893680" y="5410080"/>
            <a:ext cx="5107320" cy="685800"/>
            <a:chOff x="2893680" y="5410080"/>
            <a:chExt cx="5107320" cy="685800"/>
          </a:xfrm>
        </p:grpSpPr>
        <p:sp>
          <p:nvSpPr>
            <p:cNvPr id="1287" name=""/>
            <p:cNvSpPr/>
            <p:nvPr/>
          </p:nvSpPr>
          <p:spPr>
            <a:xfrm>
              <a:off x="6400800" y="5410080"/>
              <a:ext cx="1600200" cy="68580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893680" y="5456160"/>
              <a:ext cx="228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Non-Conve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380880" y="76320"/>
            <a:ext cx="82296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619560" y="16146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9560" y="2133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19560" y="34434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3000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1066680"/>
            <a:ext cx="380880" cy="3200400"/>
          </a:xfrm>
          <a:custGeom>
            <a:avLst/>
            <a:gdLst>
              <a:gd name="textAreaLeft" fmla="*/ 111960 w 380880"/>
              <a:gd name="textAreaRight" fmla="*/ 381240 w 380880"/>
              <a:gd name="textAreaTop" fmla="*/ 133200 h 3200400"/>
              <a:gd name="textAreaBottom" fmla="*/ 306720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990720" y="1066680"/>
            <a:ext cx="304560" cy="3200400"/>
          </a:xfrm>
          <a:custGeom>
            <a:avLst/>
            <a:gdLst>
              <a:gd name="textAreaLeft" fmla="*/ 0 w 304560"/>
              <a:gd name="textAreaRight" fmla="*/ 213840 w 304560"/>
              <a:gd name="textAreaTop" fmla="*/ 133200 h 3200400"/>
              <a:gd name="textAreaBottom" fmla="*/ 30672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87600" y="220968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87600" y="242244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87600" y="265104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177300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194200" y="12193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727720" y="12193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202200" y="91440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354480" y="91440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507120" y="914400"/>
            <a:ext cx="33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96280" y="12193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676520" y="1066680"/>
            <a:ext cx="228600" cy="762120"/>
          </a:xfrm>
          <a:custGeom>
            <a:avLst/>
            <a:gdLst>
              <a:gd name="textAreaLeft" fmla="*/ 66960 w 228600"/>
              <a:gd name="textAreaRight" fmla="*/ 2289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343400" y="1143000"/>
            <a:ext cx="152280" cy="685800"/>
          </a:xfrm>
          <a:custGeom>
            <a:avLst/>
            <a:gdLst>
              <a:gd name="textAreaLeft" fmla="*/ 0 w 152280"/>
              <a:gd name="textAreaRight" fmla="*/ 106920 w 15228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106240" y="2133720"/>
            <a:ext cx="3215520" cy="1892160"/>
            <a:chOff x="5106240" y="2133720"/>
            <a:chExt cx="3215520" cy="1892160"/>
          </a:xfrm>
        </p:grpSpPr>
        <p:sp>
          <p:nvSpPr>
            <p:cNvPr id="1309" name=""/>
            <p:cNvSpPr/>
            <p:nvPr/>
          </p:nvSpPr>
          <p:spPr>
            <a:xfrm>
              <a:off x="645768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520040" y="2286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476760" y="3124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545240" y="3200400"/>
              <a:ext cx="35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188040" y="213372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940520" y="2133720"/>
              <a:ext cx="381240" cy="1600200"/>
            </a:xfrm>
            <a:custGeom>
              <a:avLst/>
              <a:gdLst>
                <a:gd name="textAreaLeft" fmla="*/ 0 w 381240"/>
                <a:gd name="textAreaRight" fmla="*/ 26748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06240" y="26370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6565320" y="3900600"/>
            <a:ext cx="110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675040" y="4510080"/>
            <a:ext cx="32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Semide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3070080" y="3886200"/>
            <a:ext cx="5921640" cy="1295280"/>
            <a:chOff x="3070080" y="3886200"/>
            <a:chExt cx="5921640" cy="1295280"/>
          </a:xfrm>
        </p:grpSpPr>
        <p:sp>
          <p:nvSpPr>
            <p:cNvPr id="1319" name=""/>
            <p:cNvSpPr/>
            <p:nvPr/>
          </p:nvSpPr>
          <p:spPr>
            <a:xfrm>
              <a:off x="5334120" y="3886200"/>
              <a:ext cx="3657600" cy="1295280"/>
            </a:xfrm>
            <a:prstGeom prst="rect">
              <a:avLst/>
            </a:pr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070080" y="4411800"/>
              <a:ext cx="1730520" cy="58140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</a:rPr>
                <a:t>Conve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"/>
          <p:cNvSpPr/>
          <p:nvPr/>
        </p:nvSpPr>
        <p:spPr>
          <a:xfrm>
            <a:off x="380880" y="76320"/>
            <a:ext cx="82296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4360" y="824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ur’s Comp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699360" y="13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749840" y="137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729600" y="2209680"/>
            <a:ext cx="5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786200" y="2286000"/>
            <a:ext cx="3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429000" y="1219320"/>
            <a:ext cx="380880" cy="160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181480" y="1219320"/>
            <a:ext cx="381240" cy="1600200"/>
          </a:xfrm>
          <a:custGeom>
            <a:avLst/>
            <a:gdLst>
              <a:gd name="textAreaLeft" fmla="*/ 0 w 381240"/>
              <a:gd name="textAreaRight" fmla="*/ 267480 w 38124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381960" y="3352680"/>
            <a:ext cx="8152560" cy="1891440"/>
            <a:chOff x="381960" y="3352680"/>
            <a:chExt cx="8152560" cy="1891440"/>
          </a:xfrm>
        </p:grpSpPr>
        <p:sp>
          <p:nvSpPr>
            <p:cNvPr id="1330" name=""/>
            <p:cNvSpPr/>
            <p:nvPr/>
          </p:nvSpPr>
          <p:spPr>
            <a:xfrm>
              <a:off x="381960" y="38098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260720" y="35053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382840" y="3505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306440" y="4343400"/>
              <a:ext cx="96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347920" y="4357800"/>
              <a:ext cx="3589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90720" y="335268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743200" y="3352680"/>
              <a:ext cx="380880" cy="1600200"/>
            </a:xfrm>
            <a:custGeom>
              <a:avLst/>
              <a:gdLst>
                <a:gd name="textAreaLeft" fmla="*/ 0 w 380880"/>
                <a:gd name="textAreaRight" fmla="*/ 26712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623400" y="3505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821120" y="3505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641400" y="4343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343400" y="4419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 -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352680" y="3352680"/>
              <a:ext cx="381240" cy="1600200"/>
            </a:xfrm>
            <a:custGeom>
              <a:avLst/>
              <a:gdLst>
                <a:gd name="textAreaLeft" fmla="*/ 111960 w 381240"/>
                <a:gd name="textAreaRight" fmla="*/ 38160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791320" y="3352680"/>
              <a:ext cx="380880" cy="1600200"/>
            </a:xfrm>
            <a:custGeom>
              <a:avLst/>
              <a:gdLst>
                <a:gd name="textAreaLeft" fmla="*/ 0 w 380880"/>
                <a:gd name="textAreaRight" fmla="*/ 26712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70800" y="35053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519680" y="3505320"/>
              <a:ext cx="84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649920" y="4343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758000" y="4357800"/>
              <a:ext cx="3589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400800" y="335268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153280" y="3352680"/>
              <a:ext cx="381240" cy="1600200"/>
            </a:xfrm>
            <a:custGeom>
              <a:avLst/>
              <a:gdLst>
                <a:gd name="textAreaLeft" fmla="*/ 0 w 381240"/>
                <a:gd name="textAreaRight" fmla="*/ 26748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6416640" y="1523880"/>
            <a:ext cx="1030320" cy="711360"/>
            <a:chOff x="6416640" y="1523880"/>
            <a:chExt cx="1030320" cy="711360"/>
          </a:xfrm>
        </p:grpSpPr>
        <p:pic>
          <p:nvPicPr>
            <p:cNvPr id="1350" name="" descr=""/>
            <p:cNvPicPr/>
            <p:nvPr/>
          </p:nvPicPr>
          <p:blipFill>
            <a:blip r:embed="rId1"/>
            <a:stretch/>
          </p:blipFill>
          <p:spPr>
            <a:xfrm>
              <a:off x="6416640" y="1600200"/>
              <a:ext cx="5587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"/>
            <p:cNvSpPr/>
            <p:nvPr/>
          </p:nvSpPr>
          <p:spPr>
            <a:xfrm>
              <a:off x="7011720" y="1523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2076480" y="3505320"/>
            <a:ext cx="2038320" cy="2692440"/>
            <a:chOff x="2076480" y="3505320"/>
            <a:chExt cx="2038320" cy="2692440"/>
          </a:xfrm>
        </p:grpSpPr>
        <p:grpSp>
          <p:nvGrpSpPr>
            <p:cNvPr id="1353" name=""/>
            <p:cNvGrpSpPr/>
            <p:nvPr/>
          </p:nvGrpSpPr>
          <p:grpSpPr>
            <a:xfrm>
              <a:off x="2076480" y="3505320"/>
              <a:ext cx="2038320" cy="2684520"/>
              <a:chOff x="2076480" y="3505320"/>
              <a:chExt cx="2038320" cy="2684520"/>
            </a:xfrm>
          </p:grpSpPr>
          <p:sp>
            <p:nvSpPr>
              <p:cNvPr id="1354" name=""/>
              <p:cNvSpPr/>
              <p:nvPr/>
            </p:nvSpPr>
            <p:spPr>
              <a:xfrm>
                <a:off x="3505320" y="3505320"/>
                <a:ext cx="609480" cy="457200"/>
              </a:xfrm>
              <a:prstGeom prst="rect">
                <a:avLst/>
              </a:prstGeom>
              <a:noFill/>
              <a:ln w="41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076480" y="5486400"/>
                <a:ext cx="1657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A      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6" name="" descr=""/>
            <p:cNvPicPr/>
            <p:nvPr/>
          </p:nvPicPr>
          <p:blipFill>
            <a:blip r:embed="rId2"/>
            <a:stretch/>
          </p:blipFill>
          <p:spPr>
            <a:xfrm>
              <a:off x="2682720" y="5562720"/>
              <a:ext cx="559080" cy="63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4191120" y="4343400"/>
            <a:ext cx="3581280" cy="1846440"/>
            <a:chOff x="4191120" y="4343400"/>
            <a:chExt cx="3581280" cy="1846440"/>
          </a:xfrm>
        </p:grpSpPr>
        <p:grpSp>
          <p:nvGrpSpPr>
            <p:cNvPr id="1358" name=""/>
            <p:cNvGrpSpPr/>
            <p:nvPr/>
          </p:nvGrpSpPr>
          <p:grpSpPr>
            <a:xfrm>
              <a:off x="4191120" y="4343400"/>
              <a:ext cx="3581280" cy="1846440"/>
              <a:chOff x="4191120" y="4343400"/>
              <a:chExt cx="3581280" cy="1846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4343400" y="4343400"/>
                <a:ext cx="1828800" cy="609480"/>
              </a:xfrm>
              <a:prstGeom prst="rect">
                <a:avLst/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191120" y="5486400"/>
                <a:ext cx="3581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C -B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B      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1" name="" descr=""/>
            <p:cNvPicPr/>
            <p:nvPr/>
          </p:nvPicPr>
          <p:blipFill>
            <a:blip r:embed="rId3"/>
            <a:stretch/>
          </p:blipFill>
          <p:spPr>
            <a:xfrm>
              <a:off x="6553080" y="5537160"/>
              <a:ext cx="559080" cy="63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"/>
          <p:cNvGrpSpPr/>
          <p:nvPr/>
        </p:nvGrpSpPr>
        <p:grpSpPr>
          <a:xfrm>
            <a:off x="3218040" y="6019920"/>
            <a:ext cx="2099520" cy="533160"/>
            <a:chOff x="3218040" y="6019920"/>
            <a:chExt cx="2099520" cy="533160"/>
          </a:xfrm>
        </p:grpSpPr>
        <p:sp>
          <p:nvSpPr>
            <p:cNvPr id="1363" name=""/>
            <p:cNvSpPr/>
            <p:nvPr/>
          </p:nvSpPr>
          <p:spPr>
            <a:xfrm>
              <a:off x="3218040" y="6019920"/>
              <a:ext cx="20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4" name="" descr=""/>
            <p:cNvPicPr/>
            <p:nvPr/>
          </p:nvPicPr>
          <p:blipFill>
            <a:blip r:embed="rId1"/>
            <a:stretch/>
          </p:blipFill>
          <p:spPr>
            <a:xfrm>
              <a:off x="4502160" y="6083280"/>
              <a:ext cx="412200" cy="46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5" name=""/>
          <p:cNvSpPr/>
          <p:nvPr/>
        </p:nvSpPr>
        <p:spPr>
          <a:xfrm>
            <a:off x="3470040" y="106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532400" y="106668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89120" y="1905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557600" y="1981080"/>
            <a:ext cx="3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200400" y="914400"/>
            <a:ext cx="380880" cy="160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952880" y="914400"/>
            <a:ext cx="381240" cy="1600200"/>
          </a:xfrm>
          <a:custGeom>
            <a:avLst/>
            <a:gdLst>
              <a:gd name="textAreaLeft" fmla="*/ 0 w 381240"/>
              <a:gd name="textAreaRight" fmla="*/ 267480 w 38124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305640" y="2895480"/>
            <a:ext cx="7619040" cy="2440080"/>
            <a:chOff x="305640" y="2895480"/>
            <a:chExt cx="7619040" cy="2440080"/>
          </a:xfrm>
        </p:grpSpPr>
        <p:sp>
          <p:nvSpPr>
            <p:cNvPr id="1372" name=""/>
            <p:cNvSpPr/>
            <p:nvPr/>
          </p:nvSpPr>
          <p:spPr>
            <a:xfrm>
              <a:off x="305640" y="33526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184040" y="304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6520" y="304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203120" y="3886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271600" y="3962520"/>
              <a:ext cx="35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914400" y="289548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666880" y="2895480"/>
              <a:ext cx="381240" cy="1600200"/>
            </a:xfrm>
            <a:custGeom>
              <a:avLst/>
              <a:gdLst>
                <a:gd name="textAreaLeft" fmla="*/ 0 w 381240"/>
                <a:gd name="textAreaRight" fmla="*/ 26748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546360" y="304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744800" y="3048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565440" y="3886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267080" y="3962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 - x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276720" y="289548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29200" y="2895480"/>
              <a:ext cx="380880" cy="1600200"/>
            </a:xfrm>
            <a:custGeom>
              <a:avLst/>
              <a:gdLst>
                <a:gd name="textAreaLeft" fmla="*/ 0 w 380880"/>
                <a:gd name="textAreaRight" fmla="*/ 26712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61320" y="30481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123320" y="304812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80040" y="3886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148520" y="3962520"/>
              <a:ext cx="35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91320" y="289548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543800" y="2895480"/>
              <a:ext cx="380880" cy="1600200"/>
            </a:xfrm>
            <a:custGeom>
              <a:avLst/>
              <a:gdLst>
                <a:gd name="textAreaLeft" fmla="*/ 0 w 380880"/>
                <a:gd name="textAreaRight" fmla="*/ 26712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45720" y="4815000"/>
              <a:ext cx="31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Schur’s Comp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4267080" y="3886200"/>
            <a:ext cx="1067040" cy="53352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80880" y="76320"/>
            <a:ext cx="82296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406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629880" y="4249800"/>
            <a:ext cx="156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-1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715920" y="51418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25280" y="1555920"/>
            <a:ext cx="8839440" cy="2520720"/>
          </a:xfrm>
          <a:prstGeom prst="rect">
            <a:avLst/>
          </a:prstGeom>
          <a:solidFill>
            <a:srgbClr val="bbe0e3">
              <a:alpha val="50000"/>
            </a:srgbClr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957280" y="1027080"/>
            <a:ext cx="2963520" cy="520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Retain Convex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564000" y="5084640"/>
            <a:ext cx="172872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935680" y="5054760"/>
            <a:ext cx="27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lax Non-Con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89280" y="66816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sserre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429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629880" y="4249800"/>
            <a:ext cx="156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-1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25280" y="1555920"/>
            <a:ext cx="8839440" cy="2520720"/>
          </a:xfrm>
          <a:prstGeom prst="rect">
            <a:avLst/>
          </a:prstGeom>
          <a:solidFill>
            <a:srgbClr val="bbe0e3">
              <a:alpha val="50000"/>
            </a:srgbClr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957280" y="1027080"/>
            <a:ext cx="2963520" cy="520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Retain Convex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625120" y="5243400"/>
            <a:ext cx="110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4513680" y="5229360"/>
            <a:ext cx="2099520" cy="533160"/>
            <a:chOff x="4513680" y="5229360"/>
            <a:chExt cx="2099520" cy="533160"/>
          </a:xfrm>
        </p:grpSpPr>
        <p:sp>
          <p:nvSpPr>
            <p:cNvPr id="1438" name=""/>
            <p:cNvSpPr/>
            <p:nvPr/>
          </p:nvSpPr>
          <p:spPr>
            <a:xfrm>
              <a:off x="4513680" y="5229360"/>
              <a:ext cx="20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9" name="" descr=""/>
            <p:cNvPicPr/>
            <p:nvPr/>
          </p:nvPicPr>
          <p:blipFill>
            <a:blip r:embed="rId1"/>
            <a:stretch/>
          </p:blipFill>
          <p:spPr>
            <a:xfrm>
              <a:off x="5797800" y="5292720"/>
              <a:ext cx="412560" cy="46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0" name=""/>
          <p:cNvSpPr/>
          <p:nvPr/>
        </p:nvSpPr>
        <p:spPr>
          <a:xfrm>
            <a:off x="664560" y="599292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7218000" y="45720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DP-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18000" y="595008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89280" y="66816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sserre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4360" y="121932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isting Relax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Programming (LP-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definite Programming (SDP-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ond Order Cone Programming (SOCP-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P Rela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458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629880" y="4249800"/>
            <a:ext cx="156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-1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25280" y="1555920"/>
            <a:ext cx="8839440" cy="2520720"/>
          </a:xfrm>
          <a:prstGeom prst="rect">
            <a:avLst/>
          </a:prstGeom>
          <a:solidFill>
            <a:srgbClr val="bbe0e3">
              <a:alpha val="50000"/>
            </a:srgbClr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625120" y="5243400"/>
            <a:ext cx="110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4513680" y="5229360"/>
            <a:ext cx="2099520" cy="533160"/>
            <a:chOff x="4513680" y="5229360"/>
            <a:chExt cx="2099520" cy="533160"/>
          </a:xfrm>
        </p:grpSpPr>
        <p:sp>
          <p:nvSpPr>
            <p:cNvPr id="1466" name=""/>
            <p:cNvSpPr/>
            <p:nvPr/>
          </p:nvSpPr>
          <p:spPr>
            <a:xfrm>
              <a:off x="4513680" y="5229360"/>
              <a:ext cx="20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7" name="" descr=""/>
            <p:cNvPicPr/>
            <p:nvPr/>
          </p:nvPicPr>
          <p:blipFill>
            <a:blip r:embed="rId1"/>
            <a:stretch/>
          </p:blipFill>
          <p:spPr>
            <a:xfrm>
              <a:off x="5797800" y="5292720"/>
              <a:ext cx="412560" cy="46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8" name=""/>
          <p:cNvSpPr/>
          <p:nvPr/>
        </p:nvSpPr>
        <p:spPr>
          <a:xfrm>
            <a:off x="119880" y="60660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rive SOCP relaxation from the SDP rel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427640" y="5157720"/>
            <a:ext cx="2232000" cy="647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214160" y="599616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rther Relax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3093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ing Relax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"/>
          <p:cNvGrpSpPr/>
          <p:nvPr/>
        </p:nvGrpSpPr>
        <p:grpSpPr>
          <a:xfrm>
            <a:off x="395640" y="990720"/>
            <a:ext cx="2099520" cy="533160"/>
            <a:chOff x="395640" y="990720"/>
            <a:chExt cx="2099520" cy="533160"/>
          </a:xfrm>
        </p:grpSpPr>
        <p:sp>
          <p:nvSpPr>
            <p:cNvPr id="1473" name=""/>
            <p:cNvSpPr/>
            <p:nvPr/>
          </p:nvSpPr>
          <p:spPr>
            <a:xfrm>
              <a:off x="395640" y="990720"/>
              <a:ext cx="20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4" name="" descr=""/>
            <p:cNvPicPr/>
            <p:nvPr/>
          </p:nvPicPr>
          <p:blipFill>
            <a:blip r:embed="rId1"/>
            <a:stretch/>
          </p:blipFill>
          <p:spPr>
            <a:xfrm>
              <a:off x="1679760" y="1054080"/>
              <a:ext cx="412560" cy="46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5" name=""/>
          <p:cNvSpPr/>
          <p:nvPr/>
        </p:nvSpPr>
        <p:spPr>
          <a:xfrm>
            <a:off x="3440880" y="2971800"/>
            <a:ext cx="20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≥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5240" y="1676520"/>
            <a:ext cx="58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two semidefinite matri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obenius inner product is non-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2516760" y="2971800"/>
            <a:ext cx="4901400" cy="520560"/>
            <a:chOff x="2516760" y="2971800"/>
            <a:chExt cx="4901400" cy="520560"/>
          </a:xfrm>
        </p:grpSpPr>
        <p:sp>
          <p:nvSpPr>
            <p:cNvPr id="1478" name=""/>
            <p:cNvSpPr/>
            <p:nvPr/>
          </p:nvSpPr>
          <p:spPr>
            <a:xfrm>
              <a:off x="2516760" y="2971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108240" y="3124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44280" y="2971800"/>
              <a:ext cx="107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0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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3387600" y="4022640"/>
            <a:ext cx="167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936800" y="5105520"/>
            <a:ext cx="46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OC of the form ||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||</a:t>
            </a:r>
            <a:r>
              <a:rPr b="0" lang="en-US" sz="32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058720" y="4022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365560" y="1600200"/>
            <a:ext cx="6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416400" y="1600200"/>
            <a:ext cx="6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117880" y="1447920"/>
            <a:ext cx="380880" cy="160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870360" y="1447920"/>
            <a:ext cx="380880" cy="1600200"/>
          </a:xfrm>
          <a:custGeom>
            <a:avLst/>
            <a:gdLst>
              <a:gd name="textAreaLeft" fmla="*/ 0 w 380880"/>
              <a:gd name="textAreaRight" fmla="*/ 267120 w 38088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384640" y="2300400"/>
            <a:ext cx="6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35480" y="2300400"/>
            <a:ext cx="6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5090400" y="1447920"/>
            <a:ext cx="3215520" cy="1953000"/>
            <a:chOff x="5090400" y="1447920"/>
            <a:chExt cx="3215520" cy="1953000"/>
          </a:xfrm>
        </p:grpSpPr>
        <p:sp>
          <p:nvSpPr>
            <p:cNvPr id="1492" name=""/>
            <p:cNvSpPr/>
            <p:nvPr/>
          </p:nvSpPr>
          <p:spPr>
            <a:xfrm>
              <a:off x="6441840" y="1600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510680" y="1600200"/>
              <a:ext cx="64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478560" y="2438280"/>
              <a:ext cx="64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529400" y="2514600"/>
              <a:ext cx="3589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172200" y="144792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924680" y="1447920"/>
              <a:ext cx="381240" cy="1600200"/>
            </a:xfrm>
            <a:custGeom>
              <a:avLst/>
              <a:gdLst>
                <a:gd name="textAreaLeft" fmla="*/ 0 w 381240"/>
                <a:gd name="textAreaRight" fmla="*/ 26748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090400" y="19512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308160" y="193500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317880" y="4038480"/>
            <a:ext cx="3873240" cy="1600200"/>
            <a:chOff x="317880" y="4038480"/>
            <a:chExt cx="3873240" cy="1600200"/>
          </a:xfrm>
        </p:grpSpPr>
        <p:sp>
          <p:nvSpPr>
            <p:cNvPr id="1501" name=""/>
            <p:cNvSpPr/>
            <p:nvPr/>
          </p:nvSpPr>
          <p:spPr>
            <a:xfrm>
              <a:off x="2304360" y="4191120"/>
              <a:ext cx="74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355200" y="4191120"/>
              <a:ext cx="74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057400" y="403848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809880" y="4038480"/>
              <a:ext cx="381240" cy="1600200"/>
            </a:xfrm>
            <a:custGeom>
              <a:avLst/>
              <a:gdLst>
                <a:gd name="textAreaLeft" fmla="*/ 0 w 381240"/>
                <a:gd name="textAreaRight" fmla="*/ 26748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323440" y="4890960"/>
              <a:ext cx="74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374280" y="4890960"/>
              <a:ext cx="74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17880" y="4572000"/>
              <a:ext cx="103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5090400" y="4114800"/>
            <a:ext cx="3215520" cy="1600200"/>
            <a:chOff x="5090400" y="4114800"/>
            <a:chExt cx="3215520" cy="1600200"/>
          </a:xfrm>
        </p:grpSpPr>
        <p:sp>
          <p:nvSpPr>
            <p:cNvPr id="1509" name=""/>
            <p:cNvSpPr/>
            <p:nvPr/>
          </p:nvSpPr>
          <p:spPr>
            <a:xfrm>
              <a:off x="6458760" y="4267080"/>
              <a:ext cx="56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509600" y="4267080"/>
              <a:ext cx="74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479280" y="5105520"/>
              <a:ext cx="74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172200" y="411480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924680" y="4114800"/>
              <a:ext cx="381240" cy="1600200"/>
            </a:xfrm>
            <a:custGeom>
              <a:avLst/>
              <a:gdLst>
                <a:gd name="textAreaLeft" fmla="*/ 0 w 381240"/>
                <a:gd name="textAreaRight" fmla="*/ 26748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090400" y="46180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28760" y="5105520"/>
              <a:ext cx="56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261440" y="990720"/>
            <a:ext cx="19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209840" y="2971800"/>
            <a:ext cx="104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677200" y="2971800"/>
            <a:ext cx="132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938760" y="2819520"/>
            <a:ext cx="380880" cy="160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781680" y="2819520"/>
            <a:ext cx="381240" cy="1600200"/>
          </a:xfrm>
          <a:custGeom>
            <a:avLst/>
            <a:gdLst>
              <a:gd name="textAreaLeft" fmla="*/ 0 w 381240"/>
              <a:gd name="textAreaRight" fmla="*/ 267480 w 38124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838080" y="1417680"/>
            <a:ext cx="7528320" cy="3142080"/>
            <a:chOff x="838080" y="1417680"/>
            <a:chExt cx="7528320" cy="3142080"/>
          </a:xfrm>
        </p:grpSpPr>
        <p:sp>
          <p:nvSpPr>
            <p:cNvPr id="1523" name=""/>
            <p:cNvSpPr/>
            <p:nvPr/>
          </p:nvSpPr>
          <p:spPr>
            <a:xfrm>
              <a:off x="3125520" y="1417680"/>
              <a:ext cx="81612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400880" y="3200400"/>
              <a:ext cx="96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10808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15892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126800" y="373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209680" y="373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38080" y="2743200"/>
              <a:ext cx="381240" cy="1600200"/>
            </a:xfrm>
            <a:custGeom>
              <a:avLst/>
              <a:gdLst>
                <a:gd name="textAreaLeft" fmla="*/ 111960 w 381240"/>
                <a:gd name="textAreaRight" fmla="*/ 38160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590920" y="2743200"/>
              <a:ext cx="380880" cy="1600200"/>
            </a:xfrm>
            <a:custGeom>
              <a:avLst/>
              <a:gdLst>
                <a:gd name="textAreaLeft" fmla="*/ 0 w 380880"/>
                <a:gd name="textAreaRight" fmla="*/ 26712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1" name=""/>
          <p:cNvSpPr/>
          <p:nvPr/>
        </p:nvSpPr>
        <p:spPr>
          <a:xfrm>
            <a:off x="4226040" y="3809880"/>
            <a:ext cx="132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874840" y="3809880"/>
            <a:ext cx="104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225240" y="4937040"/>
            <a:ext cx="20077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5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5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448000" y="5851440"/>
            <a:ext cx="31748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-1 </a:t>
            </a:r>
            <a:r>
              <a:rPr b="0" lang="en-US" sz="50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5000" spc="-1" strike="noStrike">
                <a:solidFill>
                  <a:srgbClr val="333399"/>
                </a:solidFill>
                <a:latin typeface="Times New Roman"/>
              </a:rPr>
              <a:t> x</a:t>
            </a:r>
            <a:r>
              <a:rPr b="0" lang="en-US" sz="5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08360" y="-860400"/>
            <a:ext cx="8133480" cy="3142080"/>
            <a:chOff x="108360" y="-860400"/>
            <a:chExt cx="8133480" cy="3142080"/>
          </a:xfrm>
        </p:grpSpPr>
        <p:sp>
          <p:nvSpPr>
            <p:cNvPr id="1536" name=""/>
            <p:cNvSpPr/>
            <p:nvPr/>
          </p:nvSpPr>
          <p:spPr>
            <a:xfrm>
              <a:off x="108360" y="-860400"/>
              <a:ext cx="43916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07880" y="974880"/>
              <a:ext cx="15339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</a:rPr>
                <a:t>1       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8" name="" descr=""/>
            <p:cNvPicPr/>
            <p:nvPr/>
          </p:nvPicPr>
          <p:blipFill>
            <a:blip r:embed="rId1"/>
            <a:stretch/>
          </p:blipFill>
          <p:spPr>
            <a:xfrm>
              <a:off x="7329600" y="996840"/>
              <a:ext cx="558720" cy="63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261440" y="990720"/>
            <a:ext cx="19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209840" y="2971800"/>
            <a:ext cx="104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677200" y="2971800"/>
            <a:ext cx="132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3938760" y="2819520"/>
            <a:ext cx="380880" cy="160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781680" y="2819520"/>
            <a:ext cx="381240" cy="1600200"/>
          </a:xfrm>
          <a:custGeom>
            <a:avLst/>
            <a:gdLst>
              <a:gd name="textAreaLeft" fmla="*/ 0 w 381240"/>
              <a:gd name="textAreaRight" fmla="*/ 267480 w 38124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08360" y="-860400"/>
            <a:ext cx="4391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838080" y="1417680"/>
            <a:ext cx="7528320" cy="3142080"/>
            <a:chOff x="838080" y="1417680"/>
            <a:chExt cx="7528320" cy="3142080"/>
          </a:xfrm>
        </p:grpSpPr>
        <p:sp>
          <p:nvSpPr>
            <p:cNvPr id="1547" name=""/>
            <p:cNvSpPr/>
            <p:nvPr/>
          </p:nvSpPr>
          <p:spPr>
            <a:xfrm>
              <a:off x="3125520" y="1417680"/>
              <a:ext cx="81612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400880" y="3200400"/>
              <a:ext cx="96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0808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15892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126800" y="373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209680" y="373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38080" y="2743200"/>
              <a:ext cx="381240" cy="1600200"/>
            </a:xfrm>
            <a:custGeom>
              <a:avLst/>
              <a:gdLst>
                <a:gd name="textAreaLeft" fmla="*/ 111960 w 381240"/>
                <a:gd name="textAreaRight" fmla="*/ 38160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590920" y="2743200"/>
              <a:ext cx="380880" cy="1600200"/>
            </a:xfrm>
            <a:custGeom>
              <a:avLst/>
              <a:gdLst>
                <a:gd name="textAreaLeft" fmla="*/ 0 w 380880"/>
                <a:gd name="textAreaRight" fmla="*/ 26712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5" name=""/>
          <p:cNvSpPr/>
          <p:nvPr/>
        </p:nvSpPr>
        <p:spPr>
          <a:xfrm>
            <a:off x="4226040" y="3809880"/>
            <a:ext cx="132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874840" y="3809880"/>
            <a:ext cx="104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225240" y="4937040"/>
            <a:ext cx="20077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5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5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448000" y="5851440"/>
            <a:ext cx="31748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-1 </a:t>
            </a:r>
            <a:r>
              <a:rPr b="0" lang="en-US" sz="50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5000" spc="-1" strike="noStrike">
                <a:solidFill>
                  <a:srgbClr val="333399"/>
                </a:solidFill>
                <a:latin typeface="Times New Roman"/>
              </a:rPr>
              <a:t> x</a:t>
            </a:r>
            <a:r>
              <a:rPr b="0" lang="en-US" sz="5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707880" y="974880"/>
            <a:ext cx="1533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" descr=""/>
          <p:cNvPicPr/>
          <p:nvPr/>
        </p:nvPicPr>
        <p:blipFill>
          <a:blip r:embed="rId1"/>
          <a:stretch/>
        </p:blipFill>
        <p:spPr>
          <a:xfrm>
            <a:off x="7329600" y="996840"/>
            <a:ext cx="558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261440" y="990720"/>
            <a:ext cx="19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209840" y="2971800"/>
            <a:ext cx="104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677200" y="2971800"/>
            <a:ext cx="132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938760" y="2819520"/>
            <a:ext cx="380880" cy="160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781680" y="2819520"/>
            <a:ext cx="381240" cy="1600200"/>
          </a:xfrm>
          <a:custGeom>
            <a:avLst/>
            <a:gdLst>
              <a:gd name="textAreaLeft" fmla="*/ 0 w 381240"/>
              <a:gd name="textAreaRight" fmla="*/ 267480 w 38124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108360" y="-860400"/>
            <a:ext cx="4391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838080" y="1417680"/>
            <a:ext cx="7528320" cy="3142080"/>
            <a:chOff x="838080" y="1417680"/>
            <a:chExt cx="7528320" cy="3142080"/>
          </a:xfrm>
        </p:grpSpPr>
        <p:sp>
          <p:nvSpPr>
            <p:cNvPr id="1569" name=""/>
            <p:cNvSpPr/>
            <p:nvPr/>
          </p:nvSpPr>
          <p:spPr>
            <a:xfrm>
              <a:off x="3125520" y="1417680"/>
              <a:ext cx="81612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400880" y="3200400"/>
              <a:ext cx="96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0808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15892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126800" y="373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209680" y="373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38080" y="2743200"/>
              <a:ext cx="381240" cy="1600200"/>
            </a:xfrm>
            <a:custGeom>
              <a:avLst/>
              <a:gdLst>
                <a:gd name="textAreaLeft" fmla="*/ 111960 w 381240"/>
                <a:gd name="textAreaRight" fmla="*/ 38160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590920" y="2743200"/>
              <a:ext cx="380880" cy="1600200"/>
            </a:xfrm>
            <a:custGeom>
              <a:avLst/>
              <a:gdLst>
                <a:gd name="textAreaLeft" fmla="*/ 0 w 380880"/>
                <a:gd name="textAreaRight" fmla="*/ 26712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4226040" y="3809880"/>
            <a:ext cx="132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874840" y="3809880"/>
            <a:ext cx="104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536480" y="5165640"/>
            <a:ext cx="542988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Times New Roman"/>
              </a:rPr>
              <a:t>(x</a:t>
            </a:r>
            <a:r>
              <a:rPr b="0" lang="en-US" sz="5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+</a:t>
            </a:r>
            <a:r>
              <a:rPr b="1" lang="en-US" sz="5000" spc="-1" strike="noStrike">
                <a:solidFill>
                  <a:srgbClr val="333399"/>
                </a:solidFill>
                <a:latin typeface="Times New Roman"/>
              </a:rPr>
              <a:t> x</a:t>
            </a:r>
            <a:r>
              <a:rPr b="0" lang="en-US" sz="5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5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2 + 2</a:t>
            </a:r>
            <a:r>
              <a:rPr b="1" lang="en-US" sz="5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5000" spc="-1" strike="noStrike" baseline="-25000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860120" y="6172200"/>
            <a:ext cx="47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C of the form ||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|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6707880" y="974880"/>
            <a:ext cx="1533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2" name="" descr=""/>
          <p:cNvPicPr/>
          <p:nvPr/>
        </p:nvPicPr>
        <p:blipFill>
          <a:blip r:embed="rId1"/>
          <a:stretch/>
        </p:blipFill>
        <p:spPr>
          <a:xfrm>
            <a:off x="7329600" y="996840"/>
            <a:ext cx="558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D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1261440" y="990720"/>
            <a:ext cx="19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209840" y="2971800"/>
            <a:ext cx="104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677200" y="2971800"/>
            <a:ext cx="132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938760" y="2819520"/>
            <a:ext cx="380880" cy="160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781680" y="2819520"/>
            <a:ext cx="381240" cy="1600200"/>
          </a:xfrm>
          <a:custGeom>
            <a:avLst/>
            <a:gdLst>
              <a:gd name="textAreaLeft" fmla="*/ 0 w 381240"/>
              <a:gd name="textAreaRight" fmla="*/ 267480 w 38124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108360" y="-860400"/>
            <a:ext cx="4391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838080" y="1417680"/>
            <a:ext cx="7528320" cy="3142080"/>
            <a:chOff x="838080" y="1417680"/>
            <a:chExt cx="7528320" cy="3142080"/>
          </a:xfrm>
        </p:grpSpPr>
        <p:sp>
          <p:nvSpPr>
            <p:cNvPr id="1591" name=""/>
            <p:cNvSpPr/>
            <p:nvPr/>
          </p:nvSpPr>
          <p:spPr>
            <a:xfrm>
              <a:off x="3125520" y="1417680"/>
              <a:ext cx="81612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00880" y="3200400"/>
              <a:ext cx="96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10808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58920" y="289548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126800" y="37339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209680" y="3733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38080" y="2743200"/>
              <a:ext cx="381240" cy="1600200"/>
            </a:xfrm>
            <a:custGeom>
              <a:avLst/>
              <a:gdLst>
                <a:gd name="textAreaLeft" fmla="*/ 111960 w 381240"/>
                <a:gd name="textAreaRight" fmla="*/ 381600 w 38124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90920" y="2743200"/>
              <a:ext cx="380880" cy="1600200"/>
            </a:xfrm>
            <a:custGeom>
              <a:avLst/>
              <a:gdLst>
                <a:gd name="textAreaLeft" fmla="*/ 0 w 380880"/>
                <a:gd name="textAreaRight" fmla="*/ 26712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4226040" y="3809880"/>
            <a:ext cx="132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874840" y="3809880"/>
            <a:ext cx="104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535760" y="5165640"/>
            <a:ext cx="51375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Times New Roman"/>
              </a:rPr>
              <a:t>(x</a:t>
            </a:r>
            <a:r>
              <a:rPr b="0" lang="en-US" sz="5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-</a:t>
            </a:r>
            <a:r>
              <a:rPr b="1" lang="en-US" sz="5000" spc="-1" strike="noStrike">
                <a:solidFill>
                  <a:srgbClr val="333399"/>
                </a:solidFill>
                <a:latin typeface="Times New Roman"/>
              </a:rPr>
              <a:t> x</a:t>
            </a:r>
            <a:r>
              <a:rPr b="0" lang="en-US" sz="5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5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5000" spc="-1" strike="noStrike">
                <a:solidFill>
                  <a:srgbClr val="333399"/>
                </a:solidFill>
                <a:latin typeface="Times New Roman"/>
              </a:rPr>
              <a:t> 2 - 2</a:t>
            </a:r>
            <a:r>
              <a:rPr b="1" lang="en-US" sz="50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5000" spc="-1" strike="noStrike" baseline="-25000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860120" y="6172200"/>
            <a:ext cx="47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C of the form ||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|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707880" y="974880"/>
            <a:ext cx="1533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4" name="" descr=""/>
          <p:cNvPicPr/>
          <p:nvPr/>
        </p:nvPicPr>
        <p:blipFill>
          <a:blip r:embed="rId1"/>
          <a:stretch/>
        </p:blipFill>
        <p:spPr>
          <a:xfrm>
            <a:off x="7329600" y="996840"/>
            <a:ext cx="5587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P Rela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254520" y="1600200"/>
            <a:ext cx="5074200" cy="579600"/>
            <a:chOff x="254520" y="1600200"/>
            <a:chExt cx="5074200" cy="579600"/>
          </a:xfrm>
        </p:grpSpPr>
        <p:sp>
          <p:nvSpPr>
            <p:cNvPr id="1607" name=""/>
            <p:cNvSpPr/>
            <p:nvPr/>
          </p:nvSpPr>
          <p:spPr>
            <a:xfrm>
              <a:off x="254520" y="1600200"/>
              <a:ext cx="5074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sider a matrix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U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8" name="" descr=""/>
            <p:cNvPicPr/>
            <p:nvPr/>
          </p:nvPicPr>
          <p:blipFill>
            <a:blip r:embed="rId1"/>
            <a:stretch/>
          </p:blipFill>
          <p:spPr>
            <a:xfrm>
              <a:off x="4406760" y="1600200"/>
              <a:ext cx="470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9" name=""/>
          <p:cNvSpPr/>
          <p:nvPr/>
        </p:nvSpPr>
        <p:spPr>
          <a:xfrm>
            <a:off x="3293640" y="2362320"/>
            <a:ext cx="19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2265480" y="1638360"/>
            <a:ext cx="4087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937520" y="511200"/>
            <a:ext cx="451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525680" y="5699160"/>
            <a:ext cx="5826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ntinue for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, … ,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915560" y="4525920"/>
            <a:ext cx="47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C of the form ||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||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79560" y="8524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im and Kojima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P Rela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33800" y="1112760"/>
            <a:ext cx="70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w many constraints for SOCP = SD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40280" y="196200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.         For all C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469800" cy="533520"/>
          </a:xfrm>
          <a:prstGeom prst="rect">
            <a:avLst/>
          </a:prstGeom>
          <a:ln w="0">
            <a:noFill/>
          </a:ln>
        </p:spPr>
      </p:pic>
      <p:sp>
        <p:nvSpPr>
          <p:cNvPr id="1619" name=""/>
          <p:cNvSpPr/>
          <p:nvPr/>
        </p:nvSpPr>
        <p:spPr>
          <a:xfrm>
            <a:off x="370080" y="2849400"/>
            <a:ext cx="77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ecify constraints similar to the 2-D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468360" y="4062240"/>
            <a:ext cx="3240000" cy="2374920"/>
            <a:chOff x="468360" y="4062240"/>
            <a:chExt cx="3240000" cy="2374920"/>
          </a:xfrm>
        </p:grpSpPr>
        <p:sp>
          <p:nvSpPr>
            <p:cNvPr id="1621" name=""/>
            <p:cNvSpPr/>
            <p:nvPr/>
          </p:nvSpPr>
          <p:spPr>
            <a:xfrm>
              <a:off x="468360" y="4062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973080" y="4062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3" name=""/>
            <p:cNvCxnSpPr>
              <a:stCxn id="1621" idx="6"/>
              <a:endCxn id="1622" idx="2"/>
            </p:cNvCxnSpPr>
            <p:nvPr/>
          </p:nvCxnSpPr>
          <p:spPr>
            <a:xfrm>
              <a:off x="684360" y="41698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4" name=""/>
            <p:cNvSpPr/>
            <p:nvPr/>
          </p:nvSpPr>
          <p:spPr>
            <a:xfrm>
              <a:off x="1476360" y="4062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981080" y="4062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6" name=""/>
            <p:cNvCxnSpPr>
              <a:stCxn id="1624" idx="6"/>
              <a:endCxn id="1625" idx="2"/>
            </p:cNvCxnSpPr>
            <p:nvPr/>
          </p:nvCxnSpPr>
          <p:spPr>
            <a:xfrm>
              <a:off x="1692360" y="41698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7" name=""/>
            <p:cNvCxnSpPr>
              <a:stCxn id="1622" idx="6"/>
              <a:endCxn id="1624" idx="2"/>
            </p:cNvCxnSpPr>
            <p:nvPr/>
          </p:nvCxnSpPr>
          <p:spPr>
            <a:xfrm>
              <a:off x="1189080" y="41698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8" name=""/>
            <p:cNvSpPr/>
            <p:nvPr/>
          </p:nvSpPr>
          <p:spPr>
            <a:xfrm>
              <a:off x="2484360" y="4062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89440" y="40622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0" name=""/>
            <p:cNvCxnSpPr>
              <a:stCxn id="1628" idx="6"/>
              <a:endCxn id="1629" idx="2"/>
            </p:cNvCxnSpPr>
            <p:nvPr/>
          </p:nvCxnSpPr>
          <p:spPr>
            <a:xfrm>
              <a:off x="2700000" y="41698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1" name=""/>
            <p:cNvSpPr/>
            <p:nvPr/>
          </p:nvSpPr>
          <p:spPr>
            <a:xfrm>
              <a:off x="3492360" y="4062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2" name=""/>
            <p:cNvCxnSpPr>
              <a:stCxn id="1629" idx="6"/>
              <a:endCxn id="1631" idx="2"/>
            </p:cNvCxnSpPr>
            <p:nvPr/>
          </p:nvCxnSpPr>
          <p:spPr>
            <a:xfrm>
              <a:off x="3205080" y="41698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3" name=""/>
            <p:cNvCxnSpPr>
              <a:stCxn id="1625" idx="6"/>
              <a:endCxn id="1628" idx="2"/>
            </p:cNvCxnSpPr>
            <p:nvPr/>
          </p:nvCxnSpPr>
          <p:spPr>
            <a:xfrm>
              <a:off x="2197080" y="41698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4" name=""/>
            <p:cNvSpPr/>
            <p:nvPr/>
          </p:nvSpPr>
          <p:spPr>
            <a:xfrm>
              <a:off x="468360" y="4494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973080" y="4494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6" name=""/>
            <p:cNvCxnSpPr>
              <a:stCxn id="1634" idx="6"/>
              <a:endCxn id="1635" idx="2"/>
            </p:cNvCxnSpPr>
            <p:nvPr/>
          </p:nvCxnSpPr>
          <p:spPr>
            <a:xfrm>
              <a:off x="684360" y="46018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7" name=""/>
            <p:cNvSpPr/>
            <p:nvPr/>
          </p:nvSpPr>
          <p:spPr>
            <a:xfrm>
              <a:off x="1476360" y="4494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81080" y="4494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9" name=""/>
            <p:cNvCxnSpPr>
              <a:stCxn id="1637" idx="6"/>
              <a:endCxn id="1638" idx="2"/>
            </p:cNvCxnSpPr>
            <p:nvPr/>
          </p:nvCxnSpPr>
          <p:spPr>
            <a:xfrm>
              <a:off x="1692360" y="46018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0" name=""/>
            <p:cNvCxnSpPr>
              <a:stCxn id="1635" idx="6"/>
              <a:endCxn id="1637" idx="2"/>
            </p:cNvCxnSpPr>
            <p:nvPr/>
          </p:nvCxnSpPr>
          <p:spPr>
            <a:xfrm>
              <a:off x="1189080" y="46018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1" name=""/>
            <p:cNvSpPr/>
            <p:nvPr/>
          </p:nvSpPr>
          <p:spPr>
            <a:xfrm>
              <a:off x="2484360" y="4494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989440" y="44942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3" name=""/>
            <p:cNvCxnSpPr>
              <a:stCxn id="1641" idx="6"/>
              <a:endCxn id="1642" idx="2"/>
            </p:cNvCxnSpPr>
            <p:nvPr/>
          </p:nvCxnSpPr>
          <p:spPr>
            <a:xfrm>
              <a:off x="2700000" y="46018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4" name=""/>
            <p:cNvSpPr/>
            <p:nvPr/>
          </p:nvSpPr>
          <p:spPr>
            <a:xfrm>
              <a:off x="3492360" y="44942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5" name=""/>
            <p:cNvCxnSpPr>
              <a:stCxn id="1642" idx="6"/>
              <a:endCxn id="1644" idx="2"/>
            </p:cNvCxnSpPr>
            <p:nvPr/>
          </p:nvCxnSpPr>
          <p:spPr>
            <a:xfrm>
              <a:off x="3205080" y="46018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6" name=""/>
            <p:cNvCxnSpPr>
              <a:stCxn id="1638" idx="6"/>
              <a:endCxn id="1641" idx="2"/>
            </p:cNvCxnSpPr>
            <p:nvPr/>
          </p:nvCxnSpPr>
          <p:spPr>
            <a:xfrm>
              <a:off x="2197080" y="46018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7" name=""/>
            <p:cNvCxnSpPr>
              <a:stCxn id="1621" idx="4"/>
              <a:endCxn id="1634" idx="0"/>
            </p:cNvCxnSpPr>
            <p:nvPr/>
          </p:nvCxnSpPr>
          <p:spPr>
            <a:xfrm>
              <a:off x="576000" y="42782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8" name=""/>
            <p:cNvCxnSpPr>
              <a:stCxn id="1622" idx="4"/>
              <a:endCxn id="1635" idx="0"/>
            </p:cNvCxnSpPr>
            <p:nvPr/>
          </p:nvCxnSpPr>
          <p:spPr>
            <a:xfrm>
              <a:off x="1080720" y="42782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9" name=""/>
            <p:cNvCxnSpPr>
              <a:stCxn id="1624" idx="4"/>
              <a:endCxn id="1637" idx="0"/>
            </p:cNvCxnSpPr>
            <p:nvPr/>
          </p:nvCxnSpPr>
          <p:spPr>
            <a:xfrm>
              <a:off x="1584000" y="42782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0" name=""/>
            <p:cNvCxnSpPr>
              <a:stCxn id="1625" idx="4"/>
              <a:endCxn id="1638" idx="0"/>
            </p:cNvCxnSpPr>
            <p:nvPr/>
          </p:nvCxnSpPr>
          <p:spPr>
            <a:xfrm>
              <a:off x="2088720" y="42782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1" name=""/>
            <p:cNvCxnSpPr>
              <a:stCxn id="1628" idx="4"/>
              <a:endCxn id="1641" idx="0"/>
            </p:cNvCxnSpPr>
            <p:nvPr/>
          </p:nvCxnSpPr>
          <p:spPr>
            <a:xfrm>
              <a:off x="2592000" y="42782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2" name=""/>
            <p:cNvCxnSpPr>
              <a:stCxn id="1629" idx="4"/>
              <a:endCxn id="1642" idx="0"/>
            </p:cNvCxnSpPr>
            <p:nvPr/>
          </p:nvCxnSpPr>
          <p:spPr>
            <a:xfrm>
              <a:off x="3096720" y="42782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3" name=""/>
            <p:cNvCxnSpPr>
              <a:stCxn id="1631" idx="4"/>
              <a:endCxn id="1644" idx="0"/>
            </p:cNvCxnSpPr>
            <p:nvPr/>
          </p:nvCxnSpPr>
          <p:spPr>
            <a:xfrm>
              <a:off x="3600000" y="42782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4" name=""/>
            <p:cNvSpPr/>
            <p:nvPr/>
          </p:nvSpPr>
          <p:spPr>
            <a:xfrm>
              <a:off x="468360" y="49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73080" y="49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6" name=""/>
            <p:cNvCxnSpPr>
              <a:stCxn id="1654" idx="6"/>
              <a:endCxn id="1655" idx="2"/>
            </p:cNvCxnSpPr>
            <p:nvPr/>
          </p:nvCxnSpPr>
          <p:spPr>
            <a:xfrm>
              <a:off x="684360" y="5033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7" name=""/>
            <p:cNvSpPr/>
            <p:nvPr/>
          </p:nvSpPr>
          <p:spPr>
            <a:xfrm>
              <a:off x="1476360" y="49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1080" y="49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9" name=""/>
            <p:cNvCxnSpPr>
              <a:stCxn id="1657" idx="6"/>
              <a:endCxn id="1658" idx="2"/>
            </p:cNvCxnSpPr>
            <p:nvPr/>
          </p:nvCxnSpPr>
          <p:spPr>
            <a:xfrm>
              <a:off x="1692360" y="5033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0" name=""/>
            <p:cNvCxnSpPr>
              <a:stCxn id="1655" idx="6"/>
              <a:endCxn id="1657" idx="2"/>
            </p:cNvCxnSpPr>
            <p:nvPr/>
          </p:nvCxnSpPr>
          <p:spPr>
            <a:xfrm>
              <a:off x="1189080" y="5033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1" name=""/>
            <p:cNvSpPr/>
            <p:nvPr/>
          </p:nvSpPr>
          <p:spPr>
            <a:xfrm>
              <a:off x="2484360" y="49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989440" y="49258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3" name=""/>
            <p:cNvCxnSpPr>
              <a:stCxn id="1661" idx="6"/>
              <a:endCxn id="1662" idx="2"/>
            </p:cNvCxnSpPr>
            <p:nvPr/>
          </p:nvCxnSpPr>
          <p:spPr>
            <a:xfrm>
              <a:off x="2700000" y="5033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4" name=""/>
            <p:cNvSpPr/>
            <p:nvPr/>
          </p:nvSpPr>
          <p:spPr>
            <a:xfrm>
              <a:off x="3492360" y="49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5" name=""/>
            <p:cNvCxnSpPr>
              <a:stCxn id="1662" idx="6"/>
              <a:endCxn id="1664" idx="2"/>
            </p:cNvCxnSpPr>
            <p:nvPr/>
          </p:nvCxnSpPr>
          <p:spPr>
            <a:xfrm>
              <a:off x="3205080" y="5033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6" name=""/>
            <p:cNvCxnSpPr>
              <a:stCxn id="1658" idx="6"/>
              <a:endCxn id="1661" idx="2"/>
            </p:cNvCxnSpPr>
            <p:nvPr/>
          </p:nvCxnSpPr>
          <p:spPr>
            <a:xfrm>
              <a:off x="2197080" y="5033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7" name=""/>
            <p:cNvCxnSpPr>
              <a:endCxn id="1654" idx="0"/>
            </p:cNvCxnSpPr>
            <p:nvPr/>
          </p:nvCxnSpPr>
          <p:spPr>
            <a:xfrm>
              <a:off x="576000" y="47098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8" name=""/>
            <p:cNvCxnSpPr>
              <a:endCxn id="1655" idx="0"/>
            </p:cNvCxnSpPr>
            <p:nvPr/>
          </p:nvCxnSpPr>
          <p:spPr>
            <a:xfrm>
              <a:off x="1080720" y="47098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9" name=""/>
            <p:cNvCxnSpPr>
              <a:endCxn id="1657" idx="0"/>
            </p:cNvCxnSpPr>
            <p:nvPr/>
          </p:nvCxnSpPr>
          <p:spPr>
            <a:xfrm>
              <a:off x="1584000" y="47098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0" name=""/>
            <p:cNvCxnSpPr>
              <a:endCxn id="1658" idx="0"/>
            </p:cNvCxnSpPr>
            <p:nvPr/>
          </p:nvCxnSpPr>
          <p:spPr>
            <a:xfrm>
              <a:off x="2088720" y="47098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1" name=""/>
            <p:cNvCxnSpPr>
              <a:endCxn id="1661" idx="0"/>
            </p:cNvCxnSpPr>
            <p:nvPr/>
          </p:nvCxnSpPr>
          <p:spPr>
            <a:xfrm>
              <a:off x="2592000" y="47098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2" name=""/>
            <p:cNvCxnSpPr>
              <a:endCxn id="1662" idx="0"/>
            </p:cNvCxnSpPr>
            <p:nvPr/>
          </p:nvCxnSpPr>
          <p:spPr>
            <a:xfrm>
              <a:off x="3096720" y="47098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3" name=""/>
            <p:cNvCxnSpPr>
              <a:endCxn id="1664" idx="0"/>
            </p:cNvCxnSpPr>
            <p:nvPr/>
          </p:nvCxnSpPr>
          <p:spPr>
            <a:xfrm>
              <a:off x="3600000" y="47098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4" name=""/>
            <p:cNvSpPr/>
            <p:nvPr/>
          </p:nvSpPr>
          <p:spPr>
            <a:xfrm>
              <a:off x="468360" y="5357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973080" y="5357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6" name=""/>
            <p:cNvCxnSpPr>
              <a:stCxn id="1674" idx="6"/>
              <a:endCxn id="1675" idx="2"/>
            </p:cNvCxnSpPr>
            <p:nvPr/>
          </p:nvCxnSpPr>
          <p:spPr>
            <a:xfrm>
              <a:off x="684360" y="5465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7" name=""/>
            <p:cNvSpPr/>
            <p:nvPr/>
          </p:nvSpPr>
          <p:spPr>
            <a:xfrm>
              <a:off x="1476360" y="5357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981080" y="5357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9" name=""/>
            <p:cNvCxnSpPr>
              <a:stCxn id="1677" idx="6"/>
              <a:endCxn id="1678" idx="2"/>
            </p:cNvCxnSpPr>
            <p:nvPr/>
          </p:nvCxnSpPr>
          <p:spPr>
            <a:xfrm>
              <a:off x="1692360" y="5465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0" name=""/>
            <p:cNvCxnSpPr>
              <a:stCxn id="1675" idx="6"/>
              <a:endCxn id="1677" idx="2"/>
            </p:cNvCxnSpPr>
            <p:nvPr/>
          </p:nvCxnSpPr>
          <p:spPr>
            <a:xfrm>
              <a:off x="1189080" y="5465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81" name=""/>
            <p:cNvSpPr/>
            <p:nvPr/>
          </p:nvSpPr>
          <p:spPr>
            <a:xfrm>
              <a:off x="2484360" y="5357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989440" y="53578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3" name=""/>
            <p:cNvCxnSpPr>
              <a:stCxn id="1681" idx="6"/>
              <a:endCxn id="1682" idx="2"/>
            </p:cNvCxnSpPr>
            <p:nvPr/>
          </p:nvCxnSpPr>
          <p:spPr>
            <a:xfrm>
              <a:off x="2700000" y="5465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84" name=""/>
            <p:cNvSpPr/>
            <p:nvPr/>
          </p:nvSpPr>
          <p:spPr>
            <a:xfrm>
              <a:off x="3492360" y="5357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5" name=""/>
            <p:cNvCxnSpPr>
              <a:stCxn id="1682" idx="6"/>
              <a:endCxn id="1684" idx="2"/>
            </p:cNvCxnSpPr>
            <p:nvPr/>
          </p:nvCxnSpPr>
          <p:spPr>
            <a:xfrm>
              <a:off x="3205080" y="5465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6" name=""/>
            <p:cNvCxnSpPr>
              <a:stCxn id="1678" idx="6"/>
              <a:endCxn id="1681" idx="2"/>
            </p:cNvCxnSpPr>
            <p:nvPr/>
          </p:nvCxnSpPr>
          <p:spPr>
            <a:xfrm>
              <a:off x="2197080" y="5465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7" name=""/>
            <p:cNvCxnSpPr>
              <a:endCxn id="1674" idx="0"/>
            </p:cNvCxnSpPr>
            <p:nvPr/>
          </p:nvCxnSpPr>
          <p:spPr>
            <a:xfrm>
              <a:off x="576000" y="5141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8" name=""/>
            <p:cNvCxnSpPr>
              <a:endCxn id="1675" idx="0"/>
            </p:cNvCxnSpPr>
            <p:nvPr/>
          </p:nvCxnSpPr>
          <p:spPr>
            <a:xfrm>
              <a:off x="1080720" y="5141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9" name=""/>
            <p:cNvCxnSpPr>
              <a:endCxn id="1677" idx="0"/>
            </p:cNvCxnSpPr>
            <p:nvPr/>
          </p:nvCxnSpPr>
          <p:spPr>
            <a:xfrm>
              <a:off x="1584000" y="5141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0" name=""/>
            <p:cNvCxnSpPr>
              <a:endCxn id="1678" idx="0"/>
            </p:cNvCxnSpPr>
            <p:nvPr/>
          </p:nvCxnSpPr>
          <p:spPr>
            <a:xfrm>
              <a:off x="2088720" y="5141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1" name=""/>
            <p:cNvCxnSpPr>
              <a:endCxn id="1681" idx="0"/>
            </p:cNvCxnSpPr>
            <p:nvPr/>
          </p:nvCxnSpPr>
          <p:spPr>
            <a:xfrm>
              <a:off x="2592000" y="5141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2" name=""/>
            <p:cNvCxnSpPr>
              <a:endCxn id="1682" idx="0"/>
            </p:cNvCxnSpPr>
            <p:nvPr/>
          </p:nvCxnSpPr>
          <p:spPr>
            <a:xfrm>
              <a:off x="3096720" y="5141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3" name=""/>
            <p:cNvCxnSpPr>
              <a:endCxn id="1684" idx="0"/>
            </p:cNvCxnSpPr>
            <p:nvPr/>
          </p:nvCxnSpPr>
          <p:spPr>
            <a:xfrm>
              <a:off x="3600000" y="5141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4" name=""/>
            <p:cNvSpPr/>
            <p:nvPr/>
          </p:nvSpPr>
          <p:spPr>
            <a:xfrm>
              <a:off x="468360" y="57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973080" y="57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6" name=""/>
            <p:cNvCxnSpPr>
              <a:stCxn id="1694" idx="6"/>
              <a:endCxn id="1695" idx="2"/>
            </p:cNvCxnSpPr>
            <p:nvPr/>
          </p:nvCxnSpPr>
          <p:spPr>
            <a:xfrm>
              <a:off x="684360" y="5897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7" name=""/>
            <p:cNvSpPr/>
            <p:nvPr/>
          </p:nvSpPr>
          <p:spPr>
            <a:xfrm>
              <a:off x="1476360" y="57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981080" y="57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9" name=""/>
            <p:cNvCxnSpPr>
              <a:stCxn id="1697" idx="6"/>
              <a:endCxn id="1698" idx="2"/>
            </p:cNvCxnSpPr>
            <p:nvPr/>
          </p:nvCxnSpPr>
          <p:spPr>
            <a:xfrm>
              <a:off x="1692360" y="5897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0" name=""/>
            <p:cNvCxnSpPr>
              <a:stCxn id="1695" idx="6"/>
              <a:endCxn id="1697" idx="2"/>
            </p:cNvCxnSpPr>
            <p:nvPr/>
          </p:nvCxnSpPr>
          <p:spPr>
            <a:xfrm>
              <a:off x="1189080" y="5897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1" name=""/>
            <p:cNvSpPr/>
            <p:nvPr/>
          </p:nvSpPr>
          <p:spPr>
            <a:xfrm>
              <a:off x="2484360" y="57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989440" y="57895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03" name=""/>
            <p:cNvCxnSpPr>
              <a:stCxn id="1701" idx="6"/>
              <a:endCxn id="1702" idx="2"/>
            </p:cNvCxnSpPr>
            <p:nvPr/>
          </p:nvCxnSpPr>
          <p:spPr>
            <a:xfrm>
              <a:off x="2700000" y="5897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4" name=""/>
            <p:cNvSpPr/>
            <p:nvPr/>
          </p:nvSpPr>
          <p:spPr>
            <a:xfrm>
              <a:off x="3492360" y="57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05" name=""/>
            <p:cNvCxnSpPr>
              <a:stCxn id="1702" idx="6"/>
              <a:endCxn id="1704" idx="2"/>
            </p:cNvCxnSpPr>
            <p:nvPr/>
          </p:nvCxnSpPr>
          <p:spPr>
            <a:xfrm>
              <a:off x="3205080" y="5897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6" name=""/>
            <p:cNvCxnSpPr>
              <a:stCxn id="1698" idx="6"/>
              <a:endCxn id="1701" idx="2"/>
            </p:cNvCxnSpPr>
            <p:nvPr/>
          </p:nvCxnSpPr>
          <p:spPr>
            <a:xfrm>
              <a:off x="2197080" y="5897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7" name=""/>
            <p:cNvCxnSpPr>
              <a:endCxn id="1694" idx="0"/>
            </p:cNvCxnSpPr>
            <p:nvPr/>
          </p:nvCxnSpPr>
          <p:spPr>
            <a:xfrm>
              <a:off x="576000" y="5573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8" name=""/>
            <p:cNvCxnSpPr>
              <a:endCxn id="1695" idx="0"/>
            </p:cNvCxnSpPr>
            <p:nvPr/>
          </p:nvCxnSpPr>
          <p:spPr>
            <a:xfrm>
              <a:off x="1080720" y="5573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9" name=""/>
            <p:cNvCxnSpPr>
              <a:endCxn id="1697" idx="0"/>
            </p:cNvCxnSpPr>
            <p:nvPr/>
          </p:nvCxnSpPr>
          <p:spPr>
            <a:xfrm>
              <a:off x="1584000" y="5573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0" name=""/>
            <p:cNvCxnSpPr>
              <a:endCxn id="1698" idx="0"/>
            </p:cNvCxnSpPr>
            <p:nvPr/>
          </p:nvCxnSpPr>
          <p:spPr>
            <a:xfrm>
              <a:off x="2088720" y="5573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1" name=""/>
            <p:cNvCxnSpPr>
              <a:endCxn id="1701" idx="0"/>
            </p:cNvCxnSpPr>
            <p:nvPr/>
          </p:nvCxnSpPr>
          <p:spPr>
            <a:xfrm>
              <a:off x="2592000" y="5573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2" name=""/>
            <p:cNvCxnSpPr>
              <a:endCxn id="1702" idx="0"/>
            </p:cNvCxnSpPr>
            <p:nvPr/>
          </p:nvCxnSpPr>
          <p:spPr>
            <a:xfrm>
              <a:off x="3096720" y="5573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3" name=""/>
            <p:cNvCxnSpPr>
              <a:endCxn id="1704" idx="0"/>
            </p:cNvCxnSpPr>
            <p:nvPr/>
          </p:nvCxnSpPr>
          <p:spPr>
            <a:xfrm>
              <a:off x="3600000" y="5573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14" name=""/>
            <p:cNvSpPr/>
            <p:nvPr/>
          </p:nvSpPr>
          <p:spPr>
            <a:xfrm>
              <a:off x="468360" y="622152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973080" y="622152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6" name=""/>
            <p:cNvCxnSpPr>
              <a:stCxn id="1714" idx="6"/>
              <a:endCxn id="1715" idx="2"/>
            </p:cNvCxnSpPr>
            <p:nvPr/>
          </p:nvCxnSpPr>
          <p:spPr>
            <a:xfrm>
              <a:off x="684360" y="6329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17" name=""/>
            <p:cNvSpPr/>
            <p:nvPr/>
          </p:nvSpPr>
          <p:spPr>
            <a:xfrm>
              <a:off x="1476360" y="622152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981080" y="622152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9" name=""/>
            <p:cNvCxnSpPr>
              <a:stCxn id="1717" idx="6"/>
              <a:endCxn id="1718" idx="2"/>
            </p:cNvCxnSpPr>
            <p:nvPr/>
          </p:nvCxnSpPr>
          <p:spPr>
            <a:xfrm>
              <a:off x="1692360" y="6329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0" name=""/>
            <p:cNvCxnSpPr>
              <a:stCxn id="1715" idx="6"/>
              <a:endCxn id="1717" idx="2"/>
            </p:cNvCxnSpPr>
            <p:nvPr/>
          </p:nvCxnSpPr>
          <p:spPr>
            <a:xfrm>
              <a:off x="1189080" y="6329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1" name=""/>
            <p:cNvSpPr/>
            <p:nvPr/>
          </p:nvSpPr>
          <p:spPr>
            <a:xfrm>
              <a:off x="2484360" y="622152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989440" y="622152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3" name=""/>
            <p:cNvCxnSpPr>
              <a:stCxn id="1721" idx="6"/>
              <a:endCxn id="1722" idx="2"/>
            </p:cNvCxnSpPr>
            <p:nvPr/>
          </p:nvCxnSpPr>
          <p:spPr>
            <a:xfrm>
              <a:off x="2700000" y="6329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4" name=""/>
            <p:cNvSpPr/>
            <p:nvPr/>
          </p:nvSpPr>
          <p:spPr>
            <a:xfrm>
              <a:off x="3492360" y="622152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5" name=""/>
            <p:cNvCxnSpPr>
              <a:stCxn id="1722" idx="6"/>
              <a:endCxn id="1724" idx="2"/>
            </p:cNvCxnSpPr>
            <p:nvPr/>
          </p:nvCxnSpPr>
          <p:spPr>
            <a:xfrm>
              <a:off x="3205080" y="6329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6" name=""/>
            <p:cNvCxnSpPr>
              <a:stCxn id="1718" idx="6"/>
              <a:endCxn id="1721" idx="2"/>
            </p:cNvCxnSpPr>
            <p:nvPr/>
          </p:nvCxnSpPr>
          <p:spPr>
            <a:xfrm>
              <a:off x="2197080" y="6329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7" name=""/>
            <p:cNvCxnSpPr>
              <a:endCxn id="1714" idx="0"/>
            </p:cNvCxnSpPr>
            <p:nvPr/>
          </p:nvCxnSpPr>
          <p:spPr>
            <a:xfrm>
              <a:off x="576000" y="6005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8" name=""/>
            <p:cNvCxnSpPr>
              <a:endCxn id="1715" idx="0"/>
            </p:cNvCxnSpPr>
            <p:nvPr/>
          </p:nvCxnSpPr>
          <p:spPr>
            <a:xfrm>
              <a:off x="1080720" y="6005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9" name=""/>
            <p:cNvCxnSpPr>
              <a:endCxn id="1717" idx="0"/>
            </p:cNvCxnSpPr>
            <p:nvPr/>
          </p:nvCxnSpPr>
          <p:spPr>
            <a:xfrm>
              <a:off x="1584000" y="6005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0" name=""/>
            <p:cNvCxnSpPr>
              <a:endCxn id="1718" idx="0"/>
            </p:cNvCxnSpPr>
            <p:nvPr/>
          </p:nvCxnSpPr>
          <p:spPr>
            <a:xfrm>
              <a:off x="2088720" y="6005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1" name=""/>
            <p:cNvCxnSpPr>
              <a:endCxn id="1721" idx="0"/>
            </p:cNvCxnSpPr>
            <p:nvPr/>
          </p:nvCxnSpPr>
          <p:spPr>
            <a:xfrm>
              <a:off x="2592000" y="6005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2" name=""/>
            <p:cNvCxnSpPr>
              <a:endCxn id="1722" idx="0"/>
            </p:cNvCxnSpPr>
            <p:nvPr/>
          </p:nvCxnSpPr>
          <p:spPr>
            <a:xfrm>
              <a:off x="3096720" y="6005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3" name=""/>
            <p:cNvCxnSpPr>
              <a:endCxn id="1724" idx="0"/>
            </p:cNvCxnSpPr>
            <p:nvPr/>
          </p:nvCxnSpPr>
          <p:spPr>
            <a:xfrm>
              <a:off x="3600000" y="6005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734" name=""/>
          <p:cNvSpPr/>
          <p:nvPr/>
        </p:nvSpPr>
        <p:spPr>
          <a:xfrm>
            <a:off x="6445080" y="45655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7669080" y="45655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6" name=""/>
          <p:cNvCxnSpPr>
            <a:stCxn id="1734" idx="6"/>
            <a:endCxn id="1735" idx="2"/>
          </p:cNvCxnSpPr>
          <p:nvPr/>
        </p:nvCxnSpPr>
        <p:spPr>
          <a:xfrm>
            <a:off x="6661080" y="467316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7" name=""/>
          <p:cNvSpPr/>
          <p:nvPr/>
        </p:nvSpPr>
        <p:spPr>
          <a:xfrm>
            <a:off x="6516720" y="41324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7812000" y="41338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443640" y="4421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7740720" y="4421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516720" y="442116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873400" y="41338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8000640" y="41338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813720" y="391788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5710320" y="5213520"/>
            <a:ext cx="293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+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710320" y="6078600"/>
            <a:ext cx="285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-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50920" y="3844800"/>
            <a:ext cx="1081080" cy="576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P-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760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629880" y="4249800"/>
            <a:ext cx="156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-1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125280" y="1555920"/>
            <a:ext cx="8839440" cy="2520720"/>
          </a:xfrm>
          <a:prstGeom prst="rect">
            <a:avLst/>
          </a:prstGeom>
          <a:solidFill>
            <a:srgbClr val="bbe0e3">
              <a:alpha val="50000"/>
            </a:srgbClr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2625120" y="5243400"/>
            <a:ext cx="110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7" name=""/>
          <p:cNvGrpSpPr/>
          <p:nvPr/>
        </p:nvGrpSpPr>
        <p:grpSpPr>
          <a:xfrm>
            <a:off x="4513680" y="5229360"/>
            <a:ext cx="2099520" cy="533160"/>
            <a:chOff x="4513680" y="5229360"/>
            <a:chExt cx="2099520" cy="533160"/>
          </a:xfrm>
        </p:grpSpPr>
        <p:sp>
          <p:nvSpPr>
            <p:cNvPr id="1768" name=""/>
            <p:cNvSpPr/>
            <p:nvPr/>
          </p:nvSpPr>
          <p:spPr>
            <a:xfrm>
              <a:off x="4513680" y="5229360"/>
              <a:ext cx="20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9" name="" descr=""/>
            <p:cNvPicPr/>
            <p:nvPr/>
          </p:nvPicPr>
          <p:blipFill>
            <a:blip r:embed="rId1"/>
            <a:stretch/>
          </p:blipFill>
          <p:spPr>
            <a:xfrm>
              <a:off x="5797800" y="5292720"/>
              <a:ext cx="412560" cy="46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0" name=""/>
          <p:cNvSpPr/>
          <p:nvPr/>
        </p:nvSpPr>
        <p:spPr>
          <a:xfrm>
            <a:off x="117360" y="606600"/>
            <a:ext cx="43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ramatsu and Suzuki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427640" y="5157720"/>
            <a:ext cx="2232000" cy="647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P-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31120" y="185724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= arg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439720" y="169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3623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455560" y="214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2842560" y="1859040"/>
            <a:ext cx="189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650120" y="1857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124240" y="1674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046840" y="2117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140080" y="2131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547960" y="1843200"/>
            <a:ext cx="333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2979720" y="2895480"/>
            <a:ext cx="2734200" cy="997560"/>
            <a:chOff x="2979720" y="2895480"/>
            <a:chExt cx="2734200" cy="997560"/>
          </a:xfrm>
        </p:grpSpPr>
        <p:sp>
          <p:nvSpPr>
            <p:cNvPr id="1784" name=""/>
            <p:cNvSpPr/>
            <p:nvPr/>
          </p:nvSpPr>
          <p:spPr>
            <a:xfrm>
              <a:off x="3219840" y="2895480"/>
              <a:ext cx="249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∑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 - |L|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979720" y="3382920"/>
              <a:ext cx="93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4102200" y="44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629880" y="4249800"/>
            <a:ext cx="156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-1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25280" y="1555920"/>
            <a:ext cx="8839440" cy="2520720"/>
          </a:xfrm>
          <a:prstGeom prst="rect">
            <a:avLst/>
          </a:prstGeom>
          <a:solidFill>
            <a:srgbClr val="bbe0e3">
              <a:alpha val="50000"/>
            </a:srgbClr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671760" y="5334120"/>
            <a:ext cx="293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+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5034600" y="5348160"/>
            <a:ext cx="277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-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468360" y="5294160"/>
            <a:ext cx="7543800" cy="1508400"/>
            <a:chOff x="468360" y="5294160"/>
            <a:chExt cx="7543800" cy="1508400"/>
          </a:xfrm>
        </p:grpSpPr>
        <p:sp>
          <p:nvSpPr>
            <p:cNvPr id="1793" name=""/>
            <p:cNvSpPr/>
            <p:nvPr/>
          </p:nvSpPr>
          <p:spPr>
            <a:xfrm>
              <a:off x="468360" y="5294160"/>
              <a:ext cx="7543800" cy="838440"/>
            </a:xfrm>
            <a:prstGeom prst="rect">
              <a:avLst/>
            </a:prstGeom>
            <a:noFill/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301480" y="6222960"/>
              <a:ext cx="416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Specified only when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0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ij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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117360" y="606600"/>
            <a:ext cx="43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ramatsu and Suzuki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hematical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64280" y="990720"/>
            <a:ext cx="2346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24480" y="1889280"/>
            <a:ext cx="309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t. 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≤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55080" y="2803680"/>
            <a:ext cx="300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34640" y="10476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50840" y="19350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50480" y="28494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3440" y="3840120"/>
            <a:ext cx="7586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easibl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≤ 0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2360" y="4952880"/>
            <a:ext cx="886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ric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easibl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&lt; 0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8040" y="6049800"/>
            <a:ext cx="75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easible reg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t of all feasibl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914400"/>
            <a:ext cx="8153280" cy="2590920"/>
          </a:xfrm>
          <a:prstGeom prst="rect">
            <a:avLst/>
          </a:prstGeom>
          <a:noFill/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ing Relax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ation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ting Rela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076480" y="480060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all MAP Estimation problem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215080" y="5378400"/>
            <a:ext cx="49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        dominates      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33520" y="1295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33520" y="41911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5791320" y="1295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5791320" y="41911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1748160" y="4314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731052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838080" y="1359000"/>
            <a:ext cx="2463840" cy="2146320"/>
          </a:xfrm>
          <a:custGeom>
            <a:avLst/>
            <a:gdLst/>
            <a:ahLst/>
            <a:rect l="l" t="t" r="r" b="b"/>
            <a:pathLst>
              <a:path w="1552" h="1352">
                <a:moveTo>
                  <a:pt x="112" y="0"/>
                </a:moveTo>
                <a:cubicBezTo>
                  <a:pt x="56" y="320"/>
                  <a:pt x="0" y="640"/>
                  <a:pt x="112" y="864"/>
                </a:cubicBezTo>
                <a:cubicBezTo>
                  <a:pt x="224" y="1088"/>
                  <a:pt x="560" y="1352"/>
                  <a:pt x="784" y="1344"/>
                </a:cubicBezTo>
                <a:cubicBezTo>
                  <a:pt x="1008" y="1336"/>
                  <a:pt x="1360" y="1040"/>
                  <a:pt x="1456" y="816"/>
                </a:cubicBezTo>
                <a:cubicBezTo>
                  <a:pt x="1552" y="592"/>
                  <a:pt x="1456" y="296"/>
                  <a:pt x="13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222960" y="1676520"/>
            <a:ext cx="2463840" cy="2146320"/>
          </a:xfrm>
          <a:custGeom>
            <a:avLst/>
            <a:gdLst/>
            <a:ahLst/>
            <a:rect l="l" t="t" r="r" b="b"/>
            <a:pathLst>
              <a:path w="1552" h="1352">
                <a:moveTo>
                  <a:pt x="112" y="0"/>
                </a:moveTo>
                <a:cubicBezTo>
                  <a:pt x="56" y="320"/>
                  <a:pt x="0" y="640"/>
                  <a:pt x="112" y="864"/>
                </a:cubicBezTo>
                <a:cubicBezTo>
                  <a:pt x="224" y="1088"/>
                  <a:pt x="560" y="1352"/>
                  <a:pt x="784" y="1344"/>
                </a:cubicBezTo>
                <a:cubicBezTo>
                  <a:pt x="1008" y="1336"/>
                  <a:pt x="1360" y="1040"/>
                  <a:pt x="1456" y="816"/>
                </a:cubicBezTo>
                <a:cubicBezTo>
                  <a:pt x="1552" y="592"/>
                  <a:pt x="1456" y="296"/>
                  <a:pt x="13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2057400" y="35053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7467480" y="38098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253040" y="3321000"/>
            <a:ext cx="570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Arial"/>
              </a:rPr>
              <a:t>≥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1828800" y="2590920"/>
            <a:ext cx="5638680" cy="228600"/>
            <a:chOff x="1828800" y="2590920"/>
            <a:chExt cx="5638680" cy="228600"/>
          </a:xfrm>
        </p:grpSpPr>
        <p:sp>
          <p:nvSpPr>
            <p:cNvPr id="1813" name=""/>
            <p:cNvSpPr/>
            <p:nvPr/>
          </p:nvSpPr>
          <p:spPr>
            <a:xfrm>
              <a:off x="1828800" y="259092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238880" y="2590920"/>
              <a:ext cx="228600" cy="2286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1235160" y="606420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minating relaxations are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Relax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215080" y="5257800"/>
            <a:ext cx="49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        dominates      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33520" y="1295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533520" y="41911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791320" y="1295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791320" y="41911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748160" y="4314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731052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6222960" y="1676520"/>
            <a:ext cx="2463840" cy="2146320"/>
          </a:xfrm>
          <a:custGeom>
            <a:avLst/>
            <a:gdLst/>
            <a:ahLst/>
            <a:rect l="l" t="t" r="r" b="b"/>
            <a:pathLst>
              <a:path w="1552" h="1352">
                <a:moveTo>
                  <a:pt x="112" y="0"/>
                </a:moveTo>
                <a:cubicBezTo>
                  <a:pt x="56" y="320"/>
                  <a:pt x="0" y="640"/>
                  <a:pt x="112" y="864"/>
                </a:cubicBezTo>
                <a:cubicBezTo>
                  <a:pt x="224" y="1088"/>
                  <a:pt x="560" y="1352"/>
                  <a:pt x="784" y="1344"/>
                </a:cubicBezTo>
                <a:cubicBezTo>
                  <a:pt x="1008" y="1336"/>
                  <a:pt x="1360" y="1040"/>
                  <a:pt x="1456" y="816"/>
                </a:cubicBezTo>
                <a:cubicBezTo>
                  <a:pt x="1552" y="592"/>
                  <a:pt x="1456" y="296"/>
                  <a:pt x="13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7467480" y="38098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252680" y="3321000"/>
            <a:ext cx="596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65160" y="1676520"/>
            <a:ext cx="2463840" cy="2146320"/>
          </a:xfrm>
          <a:custGeom>
            <a:avLst/>
            <a:gdLst/>
            <a:ahLst/>
            <a:rect l="l" t="t" r="r" b="b"/>
            <a:pathLst>
              <a:path w="1552" h="1352">
                <a:moveTo>
                  <a:pt x="112" y="0"/>
                </a:moveTo>
                <a:cubicBezTo>
                  <a:pt x="56" y="320"/>
                  <a:pt x="0" y="640"/>
                  <a:pt x="112" y="864"/>
                </a:cubicBezTo>
                <a:cubicBezTo>
                  <a:pt x="224" y="1088"/>
                  <a:pt x="560" y="1352"/>
                  <a:pt x="784" y="1344"/>
                </a:cubicBezTo>
                <a:cubicBezTo>
                  <a:pt x="1008" y="1336"/>
                  <a:pt x="1360" y="1040"/>
                  <a:pt x="1456" y="816"/>
                </a:cubicBezTo>
                <a:cubicBezTo>
                  <a:pt x="1552" y="592"/>
                  <a:pt x="1456" y="296"/>
                  <a:pt x="13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2209680" y="38098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232720" y="6064200"/>
            <a:ext cx="49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        dominates       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2076480" y="472428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all MAP Estimation problem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ly Dominating Rela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2215080" y="5257800"/>
            <a:ext cx="49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        dominates      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33520" y="1295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33520" y="41911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791320" y="1295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791320" y="41911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748160" y="4314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731052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222960" y="1676520"/>
            <a:ext cx="2463840" cy="2146320"/>
          </a:xfrm>
          <a:custGeom>
            <a:avLst/>
            <a:gdLst/>
            <a:ahLst/>
            <a:rect l="l" t="t" r="r" b="b"/>
            <a:pathLst>
              <a:path w="1552" h="1352">
                <a:moveTo>
                  <a:pt x="112" y="0"/>
                </a:moveTo>
                <a:cubicBezTo>
                  <a:pt x="56" y="320"/>
                  <a:pt x="0" y="640"/>
                  <a:pt x="112" y="864"/>
                </a:cubicBezTo>
                <a:cubicBezTo>
                  <a:pt x="224" y="1088"/>
                  <a:pt x="560" y="1352"/>
                  <a:pt x="784" y="1344"/>
                </a:cubicBezTo>
                <a:cubicBezTo>
                  <a:pt x="1008" y="1336"/>
                  <a:pt x="1360" y="1040"/>
                  <a:pt x="1456" y="816"/>
                </a:cubicBezTo>
                <a:cubicBezTo>
                  <a:pt x="1552" y="592"/>
                  <a:pt x="1456" y="296"/>
                  <a:pt x="13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7467480" y="38098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252680" y="3321000"/>
            <a:ext cx="596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965160" y="1295280"/>
            <a:ext cx="2463840" cy="2146320"/>
          </a:xfrm>
          <a:custGeom>
            <a:avLst/>
            <a:gdLst/>
            <a:ahLst/>
            <a:rect l="l" t="t" r="r" b="b"/>
            <a:pathLst>
              <a:path w="1552" h="1352">
                <a:moveTo>
                  <a:pt x="112" y="0"/>
                </a:moveTo>
                <a:cubicBezTo>
                  <a:pt x="56" y="320"/>
                  <a:pt x="0" y="640"/>
                  <a:pt x="112" y="864"/>
                </a:cubicBezTo>
                <a:cubicBezTo>
                  <a:pt x="224" y="1088"/>
                  <a:pt x="560" y="1352"/>
                  <a:pt x="784" y="1344"/>
                </a:cubicBezTo>
                <a:cubicBezTo>
                  <a:pt x="1008" y="1336"/>
                  <a:pt x="1360" y="1040"/>
                  <a:pt x="1456" y="816"/>
                </a:cubicBezTo>
                <a:cubicBezTo>
                  <a:pt x="1552" y="592"/>
                  <a:pt x="1456" y="296"/>
                  <a:pt x="13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209680" y="3429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647000" y="6064200"/>
            <a:ext cx="65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        does not dominate       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643400" y="4724280"/>
            <a:ext cx="65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at least one MAP Estimation problem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P-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719840" y="474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71760" y="1239840"/>
            <a:ext cx="293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+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034600" y="1254240"/>
            <a:ext cx="277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-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17360" y="606600"/>
            <a:ext cx="43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ramatsu and Suzuki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10400" y="2478240"/>
            <a:ext cx="123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≥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1197000"/>
            <a:ext cx="2950920" cy="64764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2716560" y="2189160"/>
            <a:ext cx="2855160" cy="1112760"/>
            <a:chOff x="2716560" y="2189160"/>
            <a:chExt cx="2855160" cy="1112760"/>
          </a:xfrm>
        </p:grpSpPr>
        <p:sp>
          <p:nvSpPr>
            <p:cNvPr id="1854" name=""/>
            <p:cNvSpPr/>
            <p:nvPr/>
          </p:nvSpPr>
          <p:spPr>
            <a:xfrm>
              <a:off x="3654360" y="2189160"/>
              <a:ext cx="137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708360" y="2781360"/>
              <a:ext cx="1152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068720" y="2781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005440" y="2478240"/>
              <a:ext cx="5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716560" y="2492280"/>
              <a:ext cx="80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j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411120" y="3789360"/>
            <a:ext cx="124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2716560" y="3500280"/>
            <a:ext cx="2833920" cy="1112760"/>
            <a:chOff x="2716560" y="3500280"/>
            <a:chExt cx="2833920" cy="1112760"/>
          </a:xfrm>
        </p:grpSpPr>
        <p:sp>
          <p:nvSpPr>
            <p:cNvPr id="1861" name=""/>
            <p:cNvSpPr/>
            <p:nvPr/>
          </p:nvSpPr>
          <p:spPr>
            <a:xfrm>
              <a:off x="4259880" y="3500280"/>
              <a:ext cx="129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314960" y="4092480"/>
              <a:ext cx="1152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674960" y="4092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637080" y="3757680"/>
              <a:ext cx="5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716560" y="3803760"/>
              <a:ext cx="80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j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"/>
          <p:cNvSpPr/>
          <p:nvPr/>
        </p:nvSpPr>
        <p:spPr>
          <a:xfrm>
            <a:off x="4932360" y="1197000"/>
            <a:ext cx="2951280" cy="647640"/>
          </a:xfrm>
          <a:prstGeom prst="rect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3062880" y="471024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CP-MS is a 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867600" y="537372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ame as QP by Ravikumar and Lafferty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969640" y="609300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CP-M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≡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P-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-S vs. SOCP-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58400" y="685800"/>
            <a:ext cx="45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ffer in the way they relax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x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227952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228600" y="1219320"/>
            <a:ext cx="4608360" cy="3125520"/>
            <a:chOff x="228600" y="1219320"/>
            <a:chExt cx="4608360" cy="3125520"/>
          </a:xfrm>
        </p:grpSpPr>
        <p:sp>
          <p:nvSpPr>
            <p:cNvPr id="1874" name=""/>
            <p:cNvSpPr/>
            <p:nvPr/>
          </p:nvSpPr>
          <p:spPr>
            <a:xfrm>
              <a:off x="1689480" y="1274760"/>
              <a:ext cx="176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-1,1]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258560" y="1995480"/>
              <a:ext cx="284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 +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"/>
            <p:cNvGrpSpPr/>
            <p:nvPr/>
          </p:nvGrpSpPr>
          <p:grpSpPr>
            <a:xfrm>
              <a:off x="776160" y="2722680"/>
              <a:ext cx="3540240" cy="997200"/>
              <a:chOff x="776160" y="2722680"/>
              <a:chExt cx="3540240" cy="997200"/>
            </a:xfrm>
          </p:grpSpPr>
          <p:sp>
            <p:nvSpPr>
              <p:cNvPr id="1877" name=""/>
              <p:cNvSpPr/>
              <p:nvPr/>
            </p:nvSpPr>
            <p:spPr>
              <a:xfrm>
                <a:off x="1023840" y="2722680"/>
                <a:ext cx="3292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∑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ij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= (2 - |L|)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76160" y="3209760"/>
                <a:ext cx="944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9" name=""/>
            <p:cNvSpPr/>
            <p:nvPr/>
          </p:nvSpPr>
          <p:spPr>
            <a:xfrm>
              <a:off x="228600" y="1219320"/>
              <a:ext cx="4608360" cy="259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75400" y="3824280"/>
              <a:ext cx="97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LP-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838080" y="4343400"/>
            <a:ext cx="3651480" cy="2425680"/>
            <a:chOff x="838080" y="4343400"/>
            <a:chExt cx="3651480" cy="2425680"/>
          </a:xfrm>
        </p:grpSpPr>
        <p:sp>
          <p:nvSpPr>
            <p:cNvPr id="1882" name=""/>
            <p:cNvSpPr/>
            <p:nvPr/>
          </p:nvSpPr>
          <p:spPr>
            <a:xfrm>
              <a:off x="1281240" y="4572000"/>
              <a:ext cx="2935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+ 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371600" y="5334120"/>
              <a:ext cx="27432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- 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38080" y="4343400"/>
              <a:ext cx="3651480" cy="1828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32400" y="6248520"/>
              <a:ext cx="18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OCP-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6095880" y="2057400"/>
            <a:ext cx="2362320" cy="3887640"/>
            <a:chOff x="6095880" y="2057400"/>
            <a:chExt cx="2362320" cy="3887640"/>
          </a:xfrm>
        </p:grpSpPr>
        <p:sp>
          <p:nvSpPr>
            <p:cNvPr id="1887" name=""/>
            <p:cNvSpPr/>
            <p:nvPr/>
          </p:nvSpPr>
          <p:spPr>
            <a:xfrm>
              <a:off x="6095880" y="2057400"/>
              <a:ext cx="2362320" cy="2286000"/>
            </a:xfrm>
            <a:custGeom>
              <a:avLst/>
              <a:gdLst/>
              <a:ahLst/>
              <a:rect l="l" t="t" r="r" b="b"/>
              <a:pathLst>
                <a:path w="1488" h="1440">
                  <a:moveTo>
                    <a:pt x="96" y="432"/>
                  </a:moveTo>
                  <a:lnTo>
                    <a:pt x="432" y="0"/>
                  </a:lnTo>
                  <a:lnTo>
                    <a:pt x="1104" y="0"/>
                  </a:lnTo>
                  <a:lnTo>
                    <a:pt x="1488" y="576"/>
                  </a:lnTo>
                  <a:lnTo>
                    <a:pt x="1440" y="1392"/>
                  </a:lnTo>
                  <a:lnTo>
                    <a:pt x="576" y="1440"/>
                  </a:lnTo>
                  <a:lnTo>
                    <a:pt x="0" y="960"/>
                  </a:lnTo>
                  <a:lnTo>
                    <a:pt x="96" y="43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746040" y="5424480"/>
              <a:ext cx="13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cademy Engraved LET"/>
                </a:rPr>
                <a:t>F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(LP-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5334120" y="1447920"/>
            <a:ext cx="3733560" cy="5182920"/>
            <a:chOff x="5334120" y="1447920"/>
            <a:chExt cx="3733560" cy="5182920"/>
          </a:xfrm>
        </p:grpSpPr>
        <p:sp>
          <p:nvSpPr>
            <p:cNvPr id="1890" name=""/>
            <p:cNvSpPr/>
            <p:nvPr/>
          </p:nvSpPr>
          <p:spPr>
            <a:xfrm>
              <a:off x="5334120" y="1447920"/>
              <a:ext cx="3733560" cy="3504960"/>
            </a:xfrm>
            <a:custGeom>
              <a:avLst/>
              <a:gdLst/>
              <a:ahLst/>
              <a:rect l="l" t="t" r="r" b="b"/>
              <a:pathLst>
                <a:path w="2352" h="2208">
                  <a:moveTo>
                    <a:pt x="672" y="432"/>
                  </a:moveTo>
                  <a:lnTo>
                    <a:pt x="1344" y="0"/>
                  </a:lnTo>
                  <a:lnTo>
                    <a:pt x="2256" y="432"/>
                  </a:lnTo>
                  <a:lnTo>
                    <a:pt x="2352" y="1488"/>
                  </a:lnTo>
                  <a:lnTo>
                    <a:pt x="1776" y="2160"/>
                  </a:lnTo>
                  <a:lnTo>
                    <a:pt x="672" y="2208"/>
                  </a:lnTo>
                  <a:lnTo>
                    <a:pt x="0" y="1104"/>
                  </a:lnTo>
                  <a:lnTo>
                    <a:pt x="720" y="384"/>
                  </a:lnTo>
                </a:path>
              </a:pathLst>
            </a:custGeom>
            <a:solidFill>
              <a:srgbClr val="ff0000">
                <a:alpha val="4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341040" y="6110280"/>
              <a:ext cx="225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cademy Engraved LET"/>
                </a:rPr>
                <a:t>F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(SOCP-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-S vs. SOCP-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154440" y="15238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P-S strictly dominates SOCP-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155880" y="2863800"/>
            <a:ext cx="62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LP-S strictly dominates QP-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4080" y="4311720"/>
            <a:ext cx="57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re have we gone wr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92240" y="5302080"/>
            <a:ext cx="35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 Quick Recap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p of SOCP-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684360" y="893880"/>
            <a:ext cx="3240000" cy="2374920"/>
            <a:chOff x="684360" y="893880"/>
            <a:chExt cx="3240000" cy="2374920"/>
          </a:xfrm>
        </p:grpSpPr>
        <p:sp>
          <p:nvSpPr>
            <p:cNvPr id="1899" name=""/>
            <p:cNvSpPr/>
            <p:nvPr/>
          </p:nvSpPr>
          <p:spPr>
            <a:xfrm>
              <a:off x="68436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18908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1" name=""/>
            <p:cNvCxnSpPr>
              <a:stCxn id="1899" idx="6"/>
              <a:endCxn id="1900" idx="2"/>
            </p:cNvCxnSpPr>
            <p:nvPr/>
          </p:nvCxnSpPr>
          <p:spPr>
            <a:xfrm>
              <a:off x="900360" y="1001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02" name=""/>
            <p:cNvSpPr/>
            <p:nvPr/>
          </p:nvSpPr>
          <p:spPr>
            <a:xfrm>
              <a:off x="169236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19708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4" name=""/>
            <p:cNvCxnSpPr>
              <a:stCxn id="1902" idx="6"/>
              <a:endCxn id="1903" idx="2"/>
            </p:cNvCxnSpPr>
            <p:nvPr/>
          </p:nvCxnSpPr>
          <p:spPr>
            <a:xfrm>
              <a:off x="1908360" y="1001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5" name=""/>
            <p:cNvCxnSpPr>
              <a:stCxn id="1900" idx="6"/>
              <a:endCxn id="1902" idx="2"/>
            </p:cNvCxnSpPr>
            <p:nvPr/>
          </p:nvCxnSpPr>
          <p:spPr>
            <a:xfrm>
              <a:off x="1405080" y="1001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06" name=""/>
            <p:cNvSpPr/>
            <p:nvPr/>
          </p:nvSpPr>
          <p:spPr>
            <a:xfrm>
              <a:off x="270036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05440" y="8938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8" name=""/>
            <p:cNvCxnSpPr>
              <a:stCxn id="1906" idx="6"/>
              <a:endCxn id="1907" idx="2"/>
            </p:cNvCxnSpPr>
            <p:nvPr/>
          </p:nvCxnSpPr>
          <p:spPr>
            <a:xfrm>
              <a:off x="2916000" y="1001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09" name=""/>
            <p:cNvSpPr/>
            <p:nvPr/>
          </p:nvSpPr>
          <p:spPr>
            <a:xfrm>
              <a:off x="370836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0" name=""/>
            <p:cNvCxnSpPr>
              <a:stCxn id="1907" idx="6"/>
              <a:endCxn id="1909" idx="2"/>
            </p:cNvCxnSpPr>
            <p:nvPr/>
          </p:nvCxnSpPr>
          <p:spPr>
            <a:xfrm>
              <a:off x="3421080" y="1001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1" name=""/>
            <p:cNvCxnSpPr>
              <a:stCxn id="1903" idx="6"/>
              <a:endCxn id="1906" idx="2"/>
            </p:cNvCxnSpPr>
            <p:nvPr/>
          </p:nvCxnSpPr>
          <p:spPr>
            <a:xfrm>
              <a:off x="2413080" y="1001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12" name=""/>
            <p:cNvSpPr/>
            <p:nvPr/>
          </p:nvSpPr>
          <p:spPr>
            <a:xfrm>
              <a:off x="68436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18908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4" name=""/>
            <p:cNvCxnSpPr>
              <a:stCxn id="1912" idx="6"/>
              <a:endCxn id="1913" idx="2"/>
            </p:cNvCxnSpPr>
            <p:nvPr/>
          </p:nvCxnSpPr>
          <p:spPr>
            <a:xfrm>
              <a:off x="900360" y="1433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15" name=""/>
            <p:cNvSpPr/>
            <p:nvPr/>
          </p:nvSpPr>
          <p:spPr>
            <a:xfrm>
              <a:off x="169236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19708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7" name=""/>
            <p:cNvCxnSpPr>
              <a:stCxn id="1915" idx="6"/>
              <a:endCxn id="1916" idx="2"/>
            </p:cNvCxnSpPr>
            <p:nvPr/>
          </p:nvCxnSpPr>
          <p:spPr>
            <a:xfrm>
              <a:off x="1908360" y="1433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8" name=""/>
            <p:cNvCxnSpPr>
              <a:stCxn id="1913" idx="6"/>
              <a:endCxn id="1915" idx="2"/>
            </p:cNvCxnSpPr>
            <p:nvPr/>
          </p:nvCxnSpPr>
          <p:spPr>
            <a:xfrm>
              <a:off x="1405080" y="1433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19" name=""/>
            <p:cNvSpPr/>
            <p:nvPr/>
          </p:nvSpPr>
          <p:spPr>
            <a:xfrm>
              <a:off x="270036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05440" y="13258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1" name=""/>
            <p:cNvCxnSpPr>
              <a:stCxn id="1919" idx="6"/>
              <a:endCxn id="1920" idx="2"/>
            </p:cNvCxnSpPr>
            <p:nvPr/>
          </p:nvCxnSpPr>
          <p:spPr>
            <a:xfrm>
              <a:off x="2916000" y="1433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22" name=""/>
            <p:cNvSpPr/>
            <p:nvPr/>
          </p:nvSpPr>
          <p:spPr>
            <a:xfrm>
              <a:off x="370836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3" name=""/>
            <p:cNvCxnSpPr>
              <a:stCxn id="1920" idx="6"/>
              <a:endCxn id="1922" idx="2"/>
            </p:cNvCxnSpPr>
            <p:nvPr/>
          </p:nvCxnSpPr>
          <p:spPr>
            <a:xfrm>
              <a:off x="3421080" y="1433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4" name=""/>
            <p:cNvCxnSpPr>
              <a:stCxn id="1916" idx="6"/>
              <a:endCxn id="1919" idx="2"/>
            </p:cNvCxnSpPr>
            <p:nvPr/>
          </p:nvCxnSpPr>
          <p:spPr>
            <a:xfrm>
              <a:off x="2413080" y="1433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5" name=""/>
            <p:cNvCxnSpPr>
              <a:stCxn id="1899" idx="4"/>
              <a:endCxn id="1912" idx="0"/>
            </p:cNvCxnSpPr>
            <p:nvPr/>
          </p:nvCxnSpPr>
          <p:spPr>
            <a:xfrm>
              <a:off x="79200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6" name=""/>
            <p:cNvCxnSpPr>
              <a:stCxn id="1900" idx="4"/>
              <a:endCxn id="1913" idx="0"/>
            </p:cNvCxnSpPr>
            <p:nvPr/>
          </p:nvCxnSpPr>
          <p:spPr>
            <a:xfrm>
              <a:off x="129672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7" name=""/>
            <p:cNvCxnSpPr>
              <a:stCxn id="1902" idx="4"/>
              <a:endCxn id="1915" idx="0"/>
            </p:cNvCxnSpPr>
            <p:nvPr/>
          </p:nvCxnSpPr>
          <p:spPr>
            <a:xfrm>
              <a:off x="180000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8" name=""/>
            <p:cNvCxnSpPr>
              <a:stCxn id="1903" idx="4"/>
              <a:endCxn id="1916" idx="0"/>
            </p:cNvCxnSpPr>
            <p:nvPr/>
          </p:nvCxnSpPr>
          <p:spPr>
            <a:xfrm>
              <a:off x="230472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9" name=""/>
            <p:cNvCxnSpPr>
              <a:stCxn id="1906" idx="4"/>
              <a:endCxn id="1919" idx="0"/>
            </p:cNvCxnSpPr>
            <p:nvPr/>
          </p:nvCxnSpPr>
          <p:spPr>
            <a:xfrm>
              <a:off x="280800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0" name=""/>
            <p:cNvCxnSpPr>
              <a:stCxn id="1907" idx="4"/>
              <a:endCxn id="1920" idx="0"/>
            </p:cNvCxnSpPr>
            <p:nvPr/>
          </p:nvCxnSpPr>
          <p:spPr>
            <a:xfrm>
              <a:off x="331272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1" name=""/>
            <p:cNvCxnSpPr>
              <a:stCxn id="1909" idx="4"/>
              <a:endCxn id="1922" idx="0"/>
            </p:cNvCxnSpPr>
            <p:nvPr/>
          </p:nvCxnSpPr>
          <p:spPr>
            <a:xfrm>
              <a:off x="381600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32" name=""/>
            <p:cNvSpPr/>
            <p:nvPr/>
          </p:nvSpPr>
          <p:spPr>
            <a:xfrm>
              <a:off x="68436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18908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4" name=""/>
            <p:cNvCxnSpPr>
              <a:stCxn id="1932" idx="6"/>
              <a:endCxn id="1933" idx="2"/>
            </p:cNvCxnSpPr>
            <p:nvPr/>
          </p:nvCxnSpPr>
          <p:spPr>
            <a:xfrm>
              <a:off x="900360" y="1865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35" name=""/>
            <p:cNvSpPr/>
            <p:nvPr/>
          </p:nvSpPr>
          <p:spPr>
            <a:xfrm>
              <a:off x="169236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19708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7" name=""/>
            <p:cNvCxnSpPr>
              <a:stCxn id="1935" idx="6"/>
              <a:endCxn id="1936" idx="2"/>
            </p:cNvCxnSpPr>
            <p:nvPr/>
          </p:nvCxnSpPr>
          <p:spPr>
            <a:xfrm>
              <a:off x="1908360" y="1865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8" name=""/>
            <p:cNvCxnSpPr>
              <a:stCxn id="1933" idx="6"/>
              <a:endCxn id="1935" idx="2"/>
            </p:cNvCxnSpPr>
            <p:nvPr/>
          </p:nvCxnSpPr>
          <p:spPr>
            <a:xfrm>
              <a:off x="1405080" y="1865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39" name=""/>
            <p:cNvSpPr/>
            <p:nvPr/>
          </p:nvSpPr>
          <p:spPr>
            <a:xfrm>
              <a:off x="270036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205440" y="17575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1" name=""/>
            <p:cNvCxnSpPr>
              <a:stCxn id="1939" idx="6"/>
              <a:endCxn id="1940" idx="2"/>
            </p:cNvCxnSpPr>
            <p:nvPr/>
          </p:nvCxnSpPr>
          <p:spPr>
            <a:xfrm>
              <a:off x="2916000" y="1865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42" name=""/>
            <p:cNvSpPr/>
            <p:nvPr/>
          </p:nvSpPr>
          <p:spPr>
            <a:xfrm>
              <a:off x="370836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3" name=""/>
            <p:cNvCxnSpPr>
              <a:stCxn id="1940" idx="6"/>
              <a:endCxn id="1942" idx="2"/>
            </p:cNvCxnSpPr>
            <p:nvPr/>
          </p:nvCxnSpPr>
          <p:spPr>
            <a:xfrm>
              <a:off x="3421080" y="1865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4" name=""/>
            <p:cNvCxnSpPr>
              <a:stCxn id="1936" idx="6"/>
              <a:endCxn id="1939" idx="2"/>
            </p:cNvCxnSpPr>
            <p:nvPr/>
          </p:nvCxnSpPr>
          <p:spPr>
            <a:xfrm>
              <a:off x="2413080" y="1865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5" name=""/>
            <p:cNvCxnSpPr>
              <a:endCxn id="1932" idx="0"/>
            </p:cNvCxnSpPr>
            <p:nvPr/>
          </p:nvCxnSpPr>
          <p:spPr>
            <a:xfrm>
              <a:off x="79200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6" name=""/>
            <p:cNvCxnSpPr>
              <a:endCxn id="1933" idx="0"/>
            </p:cNvCxnSpPr>
            <p:nvPr/>
          </p:nvCxnSpPr>
          <p:spPr>
            <a:xfrm>
              <a:off x="129672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7" name=""/>
            <p:cNvCxnSpPr>
              <a:endCxn id="1935" idx="0"/>
            </p:cNvCxnSpPr>
            <p:nvPr/>
          </p:nvCxnSpPr>
          <p:spPr>
            <a:xfrm>
              <a:off x="180000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8" name=""/>
            <p:cNvCxnSpPr>
              <a:endCxn id="1936" idx="0"/>
            </p:cNvCxnSpPr>
            <p:nvPr/>
          </p:nvCxnSpPr>
          <p:spPr>
            <a:xfrm>
              <a:off x="230472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9" name=""/>
            <p:cNvCxnSpPr>
              <a:endCxn id="1939" idx="0"/>
            </p:cNvCxnSpPr>
            <p:nvPr/>
          </p:nvCxnSpPr>
          <p:spPr>
            <a:xfrm>
              <a:off x="280800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50" name=""/>
            <p:cNvCxnSpPr>
              <a:endCxn id="1940" idx="0"/>
            </p:cNvCxnSpPr>
            <p:nvPr/>
          </p:nvCxnSpPr>
          <p:spPr>
            <a:xfrm>
              <a:off x="331272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51" name=""/>
            <p:cNvCxnSpPr>
              <a:endCxn id="1942" idx="0"/>
            </p:cNvCxnSpPr>
            <p:nvPr/>
          </p:nvCxnSpPr>
          <p:spPr>
            <a:xfrm>
              <a:off x="381600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52" name=""/>
            <p:cNvSpPr/>
            <p:nvPr/>
          </p:nvSpPr>
          <p:spPr>
            <a:xfrm>
              <a:off x="68436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18908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4" name=""/>
            <p:cNvCxnSpPr>
              <a:stCxn id="1952" idx="6"/>
              <a:endCxn id="1953" idx="2"/>
            </p:cNvCxnSpPr>
            <p:nvPr/>
          </p:nvCxnSpPr>
          <p:spPr>
            <a:xfrm>
              <a:off x="900360" y="2297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55" name=""/>
            <p:cNvSpPr/>
            <p:nvPr/>
          </p:nvSpPr>
          <p:spPr>
            <a:xfrm>
              <a:off x="169236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19708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7" name=""/>
            <p:cNvCxnSpPr>
              <a:stCxn id="1955" idx="6"/>
              <a:endCxn id="1956" idx="2"/>
            </p:cNvCxnSpPr>
            <p:nvPr/>
          </p:nvCxnSpPr>
          <p:spPr>
            <a:xfrm>
              <a:off x="1908360" y="2297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58" name=""/>
            <p:cNvCxnSpPr>
              <a:stCxn id="1953" idx="6"/>
              <a:endCxn id="1955" idx="2"/>
            </p:cNvCxnSpPr>
            <p:nvPr/>
          </p:nvCxnSpPr>
          <p:spPr>
            <a:xfrm>
              <a:off x="1405080" y="2297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59" name=""/>
            <p:cNvSpPr/>
            <p:nvPr/>
          </p:nvSpPr>
          <p:spPr>
            <a:xfrm>
              <a:off x="270036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205440" y="21895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1" name=""/>
            <p:cNvCxnSpPr>
              <a:stCxn id="1959" idx="6"/>
              <a:endCxn id="1960" idx="2"/>
            </p:cNvCxnSpPr>
            <p:nvPr/>
          </p:nvCxnSpPr>
          <p:spPr>
            <a:xfrm>
              <a:off x="2916000" y="2297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62" name=""/>
            <p:cNvSpPr/>
            <p:nvPr/>
          </p:nvSpPr>
          <p:spPr>
            <a:xfrm>
              <a:off x="370836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3" name=""/>
            <p:cNvCxnSpPr>
              <a:stCxn id="1960" idx="6"/>
              <a:endCxn id="1962" idx="2"/>
            </p:cNvCxnSpPr>
            <p:nvPr/>
          </p:nvCxnSpPr>
          <p:spPr>
            <a:xfrm>
              <a:off x="3421080" y="2297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64" name=""/>
            <p:cNvCxnSpPr>
              <a:stCxn id="1956" idx="6"/>
              <a:endCxn id="1959" idx="2"/>
            </p:cNvCxnSpPr>
            <p:nvPr/>
          </p:nvCxnSpPr>
          <p:spPr>
            <a:xfrm>
              <a:off x="2413080" y="2297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65" name=""/>
            <p:cNvCxnSpPr>
              <a:endCxn id="1952" idx="0"/>
            </p:cNvCxnSpPr>
            <p:nvPr/>
          </p:nvCxnSpPr>
          <p:spPr>
            <a:xfrm>
              <a:off x="79200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66" name=""/>
            <p:cNvCxnSpPr>
              <a:endCxn id="1953" idx="0"/>
            </p:cNvCxnSpPr>
            <p:nvPr/>
          </p:nvCxnSpPr>
          <p:spPr>
            <a:xfrm>
              <a:off x="129672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67" name=""/>
            <p:cNvCxnSpPr>
              <a:endCxn id="1955" idx="0"/>
            </p:cNvCxnSpPr>
            <p:nvPr/>
          </p:nvCxnSpPr>
          <p:spPr>
            <a:xfrm>
              <a:off x="180000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68" name=""/>
            <p:cNvCxnSpPr>
              <a:endCxn id="1956" idx="0"/>
            </p:cNvCxnSpPr>
            <p:nvPr/>
          </p:nvCxnSpPr>
          <p:spPr>
            <a:xfrm>
              <a:off x="230472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69" name=""/>
            <p:cNvCxnSpPr>
              <a:endCxn id="1959" idx="0"/>
            </p:cNvCxnSpPr>
            <p:nvPr/>
          </p:nvCxnSpPr>
          <p:spPr>
            <a:xfrm>
              <a:off x="280800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70" name=""/>
            <p:cNvCxnSpPr>
              <a:endCxn id="1960" idx="0"/>
            </p:cNvCxnSpPr>
            <p:nvPr/>
          </p:nvCxnSpPr>
          <p:spPr>
            <a:xfrm>
              <a:off x="331272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71" name=""/>
            <p:cNvCxnSpPr>
              <a:endCxn id="1962" idx="0"/>
            </p:cNvCxnSpPr>
            <p:nvPr/>
          </p:nvCxnSpPr>
          <p:spPr>
            <a:xfrm>
              <a:off x="381600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2" name=""/>
            <p:cNvSpPr/>
            <p:nvPr/>
          </p:nvSpPr>
          <p:spPr>
            <a:xfrm>
              <a:off x="68436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18908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4" name=""/>
            <p:cNvCxnSpPr>
              <a:stCxn id="1972" idx="6"/>
              <a:endCxn id="1973" idx="2"/>
            </p:cNvCxnSpPr>
            <p:nvPr/>
          </p:nvCxnSpPr>
          <p:spPr>
            <a:xfrm>
              <a:off x="900360" y="2728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5" name=""/>
            <p:cNvSpPr/>
            <p:nvPr/>
          </p:nvSpPr>
          <p:spPr>
            <a:xfrm>
              <a:off x="169236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19708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7" name=""/>
            <p:cNvCxnSpPr>
              <a:stCxn id="1975" idx="6"/>
              <a:endCxn id="1976" idx="2"/>
            </p:cNvCxnSpPr>
            <p:nvPr/>
          </p:nvCxnSpPr>
          <p:spPr>
            <a:xfrm>
              <a:off x="1908360" y="2728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78" name=""/>
            <p:cNvCxnSpPr>
              <a:stCxn id="1973" idx="6"/>
              <a:endCxn id="1975" idx="2"/>
            </p:cNvCxnSpPr>
            <p:nvPr/>
          </p:nvCxnSpPr>
          <p:spPr>
            <a:xfrm>
              <a:off x="1405080" y="2728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9" name=""/>
            <p:cNvSpPr/>
            <p:nvPr/>
          </p:nvSpPr>
          <p:spPr>
            <a:xfrm>
              <a:off x="270036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205440" y="26211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1" name=""/>
            <p:cNvCxnSpPr>
              <a:stCxn id="1979" idx="6"/>
              <a:endCxn id="1980" idx="2"/>
            </p:cNvCxnSpPr>
            <p:nvPr/>
          </p:nvCxnSpPr>
          <p:spPr>
            <a:xfrm>
              <a:off x="2916000" y="2728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82" name=""/>
            <p:cNvSpPr/>
            <p:nvPr/>
          </p:nvSpPr>
          <p:spPr>
            <a:xfrm>
              <a:off x="370836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3" name=""/>
            <p:cNvCxnSpPr>
              <a:stCxn id="1980" idx="6"/>
              <a:endCxn id="1982" idx="2"/>
            </p:cNvCxnSpPr>
            <p:nvPr/>
          </p:nvCxnSpPr>
          <p:spPr>
            <a:xfrm>
              <a:off x="3421080" y="2728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84" name=""/>
            <p:cNvCxnSpPr>
              <a:stCxn id="1976" idx="6"/>
              <a:endCxn id="1979" idx="2"/>
            </p:cNvCxnSpPr>
            <p:nvPr/>
          </p:nvCxnSpPr>
          <p:spPr>
            <a:xfrm>
              <a:off x="2413080" y="2728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85" name=""/>
            <p:cNvCxnSpPr>
              <a:endCxn id="1972" idx="0"/>
            </p:cNvCxnSpPr>
            <p:nvPr/>
          </p:nvCxnSpPr>
          <p:spPr>
            <a:xfrm>
              <a:off x="79200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86" name=""/>
            <p:cNvCxnSpPr>
              <a:endCxn id="1973" idx="0"/>
            </p:cNvCxnSpPr>
            <p:nvPr/>
          </p:nvCxnSpPr>
          <p:spPr>
            <a:xfrm>
              <a:off x="129672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87" name=""/>
            <p:cNvCxnSpPr>
              <a:endCxn id="1975" idx="0"/>
            </p:cNvCxnSpPr>
            <p:nvPr/>
          </p:nvCxnSpPr>
          <p:spPr>
            <a:xfrm>
              <a:off x="180000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88" name=""/>
            <p:cNvCxnSpPr>
              <a:endCxn id="1976" idx="0"/>
            </p:cNvCxnSpPr>
            <p:nvPr/>
          </p:nvCxnSpPr>
          <p:spPr>
            <a:xfrm>
              <a:off x="230472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89" name=""/>
            <p:cNvCxnSpPr>
              <a:endCxn id="1979" idx="0"/>
            </p:cNvCxnSpPr>
            <p:nvPr/>
          </p:nvCxnSpPr>
          <p:spPr>
            <a:xfrm>
              <a:off x="280800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90" name=""/>
            <p:cNvCxnSpPr>
              <a:endCxn id="1980" idx="0"/>
            </p:cNvCxnSpPr>
            <p:nvPr/>
          </p:nvCxnSpPr>
          <p:spPr>
            <a:xfrm>
              <a:off x="331272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91" name=""/>
            <p:cNvCxnSpPr>
              <a:endCxn id="1982" idx="0"/>
            </p:cNvCxnSpPr>
            <p:nvPr/>
          </p:nvCxnSpPr>
          <p:spPr>
            <a:xfrm>
              <a:off x="381600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92" name=""/>
            <p:cNvSpPr/>
            <p:nvPr/>
          </p:nvSpPr>
          <p:spPr>
            <a:xfrm>
              <a:off x="68436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18908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4" name=""/>
            <p:cNvCxnSpPr>
              <a:stCxn id="1992" idx="6"/>
              <a:endCxn id="1993" idx="2"/>
            </p:cNvCxnSpPr>
            <p:nvPr/>
          </p:nvCxnSpPr>
          <p:spPr>
            <a:xfrm>
              <a:off x="900360" y="3160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95" name=""/>
            <p:cNvSpPr/>
            <p:nvPr/>
          </p:nvSpPr>
          <p:spPr>
            <a:xfrm>
              <a:off x="169236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19708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7" name=""/>
            <p:cNvCxnSpPr>
              <a:stCxn id="1995" idx="6"/>
              <a:endCxn id="1996" idx="2"/>
            </p:cNvCxnSpPr>
            <p:nvPr/>
          </p:nvCxnSpPr>
          <p:spPr>
            <a:xfrm>
              <a:off x="1908360" y="3160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98" name=""/>
            <p:cNvCxnSpPr>
              <a:stCxn id="1993" idx="6"/>
              <a:endCxn id="1995" idx="2"/>
            </p:cNvCxnSpPr>
            <p:nvPr/>
          </p:nvCxnSpPr>
          <p:spPr>
            <a:xfrm>
              <a:off x="1405080" y="3160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99" name=""/>
            <p:cNvSpPr/>
            <p:nvPr/>
          </p:nvSpPr>
          <p:spPr>
            <a:xfrm>
              <a:off x="270036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05440" y="30531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1" name=""/>
            <p:cNvCxnSpPr>
              <a:stCxn id="1999" idx="6"/>
              <a:endCxn id="2000" idx="2"/>
            </p:cNvCxnSpPr>
            <p:nvPr/>
          </p:nvCxnSpPr>
          <p:spPr>
            <a:xfrm>
              <a:off x="2916000" y="3160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02" name=""/>
            <p:cNvSpPr/>
            <p:nvPr/>
          </p:nvSpPr>
          <p:spPr>
            <a:xfrm>
              <a:off x="370836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3" name=""/>
            <p:cNvCxnSpPr>
              <a:stCxn id="2000" idx="6"/>
              <a:endCxn id="2002" idx="2"/>
            </p:cNvCxnSpPr>
            <p:nvPr/>
          </p:nvCxnSpPr>
          <p:spPr>
            <a:xfrm>
              <a:off x="3421080" y="3160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04" name=""/>
            <p:cNvCxnSpPr>
              <a:stCxn id="1996" idx="6"/>
              <a:endCxn id="1999" idx="2"/>
            </p:cNvCxnSpPr>
            <p:nvPr/>
          </p:nvCxnSpPr>
          <p:spPr>
            <a:xfrm>
              <a:off x="2413080" y="3160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05" name=""/>
            <p:cNvCxnSpPr>
              <a:endCxn id="1992" idx="0"/>
            </p:cNvCxnSpPr>
            <p:nvPr/>
          </p:nvCxnSpPr>
          <p:spPr>
            <a:xfrm>
              <a:off x="79200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06" name=""/>
            <p:cNvCxnSpPr>
              <a:endCxn id="1993" idx="0"/>
            </p:cNvCxnSpPr>
            <p:nvPr/>
          </p:nvCxnSpPr>
          <p:spPr>
            <a:xfrm>
              <a:off x="129672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07" name=""/>
            <p:cNvCxnSpPr>
              <a:endCxn id="1995" idx="0"/>
            </p:cNvCxnSpPr>
            <p:nvPr/>
          </p:nvCxnSpPr>
          <p:spPr>
            <a:xfrm>
              <a:off x="180000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08" name=""/>
            <p:cNvCxnSpPr>
              <a:endCxn id="1996" idx="0"/>
            </p:cNvCxnSpPr>
            <p:nvPr/>
          </p:nvCxnSpPr>
          <p:spPr>
            <a:xfrm>
              <a:off x="230472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09" name=""/>
            <p:cNvCxnSpPr>
              <a:endCxn id="1999" idx="0"/>
            </p:cNvCxnSpPr>
            <p:nvPr/>
          </p:nvCxnSpPr>
          <p:spPr>
            <a:xfrm>
              <a:off x="280800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10" name=""/>
            <p:cNvCxnSpPr>
              <a:endCxn id="2000" idx="0"/>
            </p:cNvCxnSpPr>
            <p:nvPr/>
          </p:nvCxnSpPr>
          <p:spPr>
            <a:xfrm>
              <a:off x="331272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11" name=""/>
            <p:cNvCxnSpPr>
              <a:endCxn id="2002" idx="0"/>
            </p:cNvCxnSpPr>
            <p:nvPr/>
          </p:nvCxnSpPr>
          <p:spPr>
            <a:xfrm>
              <a:off x="381600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12" name=""/>
          <p:cNvSpPr/>
          <p:nvPr/>
        </p:nvSpPr>
        <p:spPr>
          <a:xfrm>
            <a:off x="6661080" y="13971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7885080" y="13971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"/>
          <p:cNvCxnSpPr>
            <a:stCxn id="2012" idx="6"/>
            <a:endCxn id="2013" idx="2"/>
          </p:cNvCxnSpPr>
          <p:nvPr/>
        </p:nvCxnSpPr>
        <p:spPr>
          <a:xfrm>
            <a:off x="6877080" y="150444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5" name=""/>
          <p:cNvSpPr/>
          <p:nvPr/>
        </p:nvSpPr>
        <p:spPr>
          <a:xfrm>
            <a:off x="6732720" y="9637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8028000" y="9651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6659640" y="1252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7956720" y="1252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6732720" y="125244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6089400" y="9651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8216640" y="9651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029720" y="7491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466560" y="676440"/>
            <a:ext cx="1081080" cy="57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5294160" y="1989000"/>
            <a:ext cx="3114720" cy="1600200"/>
            <a:chOff x="5294160" y="1989000"/>
            <a:chExt cx="3114720" cy="1600200"/>
          </a:xfrm>
        </p:grpSpPr>
        <p:sp>
          <p:nvSpPr>
            <p:cNvPr id="2025" name=""/>
            <p:cNvSpPr/>
            <p:nvPr/>
          </p:nvSpPr>
          <p:spPr>
            <a:xfrm>
              <a:off x="6545160" y="2141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596000" y="2141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564240" y="297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647120" y="297972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275520" y="198900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028000" y="1989000"/>
              <a:ext cx="380880" cy="1600200"/>
            </a:xfrm>
            <a:custGeom>
              <a:avLst/>
              <a:gdLst>
                <a:gd name="textAreaLeft" fmla="*/ 0 w 380880"/>
                <a:gd name="textAreaRight" fmla="*/ 26712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294160" y="241776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2" name=""/>
          <p:cNvSpPr/>
          <p:nvPr/>
        </p:nvSpPr>
        <p:spPr>
          <a:xfrm>
            <a:off x="5781960" y="3933720"/>
            <a:ext cx="293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+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p of SOCP-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4" name=""/>
          <p:cNvGrpSpPr/>
          <p:nvPr/>
        </p:nvGrpSpPr>
        <p:grpSpPr>
          <a:xfrm>
            <a:off x="684360" y="893880"/>
            <a:ext cx="3240000" cy="2374920"/>
            <a:chOff x="684360" y="893880"/>
            <a:chExt cx="3240000" cy="2374920"/>
          </a:xfrm>
        </p:grpSpPr>
        <p:sp>
          <p:nvSpPr>
            <p:cNvPr id="2035" name=""/>
            <p:cNvSpPr/>
            <p:nvPr/>
          </p:nvSpPr>
          <p:spPr>
            <a:xfrm>
              <a:off x="68436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18908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7" name=""/>
            <p:cNvCxnSpPr>
              <a:stCxn id="2035" idx="6"/>
              <a:endCxn id="2036" idx="2"/>
            </p:cNvCxnSpPr>
            <p:nvPr/>
          </p:nvCxnSpPr>
          <p:spPr>
            <a:xfrm>
              <a:off x="900360" y="1001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38" name=""/>
            <p:cNvSpPr/>
            <p:nvPr/>
          </p:nvSpPr>
          <p:spPr>
            <a:xfrm>
              <a:off x="169236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19708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40" name=""/>
            <p:cNvCxnSpPr>
              <a:stCxn id="2038" idx="6"/>
              <a:endCxn id="2039" idx="2"/>
            </p:cNvCxnSpPr>
            <p:nvPr/>
          </p:nvCxnSpPr>
          <p:spPr>
            <a:xfrm>
              <a:off x="1908360" y="1001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1" name=""/>
            <p:cNvCxnSpPr>
              <a:stCxn id="2036" idx="6"/>
              <a:endCxn id="2038" idx="2"/>
            </p:cNvCxnSpPr>
            <p:nvPr/>
          </p:nvCxnSpPr>
          <p:spPr>
            <a:xfrm>
              <a:off x="1405080" y="1001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42" name=""/>
            <p:cNvSpPr/>
            <p:nvPr/>
          </p:nvSpPr>
          <p:spPr>
            <a:xfrm>
              <a:off x="270036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205440" y="8938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44" name=""/>
            <p:cNvCxnSpPr>
              <a:stCxn id="2042" idx="6"/>
              <a:endCxn id="2043" idx="2"/>
            </p:cNvCxnSpPr>
            <p:nvPr/>
          </p:nvCxnSpPr>
          <p:spPr>
            <a:xfrm>
              <a:off x="2916000" y="1001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45" name=""/>
            <p:cNvSpPr/>
            <p:nvPr/>
          </p:nvSpPr>
          <p:spPr>
            <a:xfrm>
              <a:off x="3708360" y="893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46" name=""/>
            <p:cNvCxnSpPr>
              <a:stCxn id="2043" idx="6"/>
              <a:endCxn id="2045" idx="2"/>
            </p:cNvCxnSpPr>
            <p:nvPr/>
          </p:nvCxnSpPr>
          <p:spPr>
            <a:xfrm>
              <a:off x="3421080" y="1001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7" name=""/>
            <p:cNvCxnSpPr>
              <a:stCxn id="2039" idx="6"/>
              <a:endCxn id="2042" idx="2"/>
            </p:cNvCxnSpPr>
            <p:nvPr/>
          </p:nvCxnSpPr>
          <p:spPr>
            <a:xfrm>
              <a:off x="2413080" y="1001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48" name=""/>
            <p:cNvSpPr/>
            <p:nvPr/>
          </p:nvSpPr>
          <p:spPr>
            <a:xfrm>
              <a:off x="68436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18908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0" name=""/>
            <p:cNvCxnSpPr>
              <a:stCxn id="2048" idx="6"/>
              <a:endCxn id="2049" idx="2"/>
            </p:cNvCxnSpPr>
            <p:nvPr/>
          </p:nvCxnSpPr>
          <p:spPr>
            <a:xfrm>
              <a:off x="900360" y="1433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51" name=""/>
            <p:cNvSpPr/>
            <p:nvPr/>
          </p:nvSpPr>
          <p:spPr>
            <a:xfrm>
              <a:off x="169236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19708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3" name=""/>
            <p:cNvCxnSpPr>
              <a:stCxn id="2051" idx="6"/>
              <a:endCxn id="2052" idx="2"/>
            </p:cNvCxnSpPr>
            <p:nvPr/>
          </p:nvCxnSpPr>
          <p:spPr>
            <a:xfrm>
              <a:off x="1908360" y="1433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4" name=""/>
            <p:cNvCxnSpPr>
              <a:stCxn id="2049" idx="6"/>
              <a:endCxn id="2051" idx="2"/>
            </p:cNvCxnSpPr>
            <p:nvPr/>
          </p:nvCxnSpPr>
          <p:spPr>
            <a:xfrm>
              <a:off x="1405080" y="1433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55" name=""/>
            <p:cNvSpPr/>
            <p:nvPr/>
          </p:nvSpPr>
          <p:spPr>
            <a:xfrm>
              <a:off x="270036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205440" y="13258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7" name=""/>
            <p:cNvCxnSpPr>
              <a:stCxn id="2055" idx="6"/>
              <a:endCxn id="2056" idx="2"/>
            </p:cNvCxnSpPr>
            <p:nvPr/>
          </p:nvCxnSpPr>
          <p:spPr>
            <a:xfrm>
              <a:off x="2916000" y="14335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58" name=""/>
            <p:cNvSpPr/>
            <p:nvPr/>
          </p:nvSpPr>
          <p:spPr>
            <a:xfrm>
              <a:off x="3708360" y="13258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9" name=""/>
            <p:cNvCxnSpPr>
              <a:stCxn id="2056" idx="6"/>
              <a:endCxn id="2058" idx="2"/>
            </p:cNvCxnSpPr>
            <p:nvPr/>
          </p:nvCxnSpPr>
          <p:spPr>
            <a:xfrm>
              <a:off x="3421080" y="1433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0" name=""/>
            <p:cNvCxnSpPr>
              <a:stCxn id="2052" idx="6"/>
              <a:endCxn id="2055" idx="2"/>
            </p:cNvCxnSpPr>
            <p:nvPr/>
          </p:nvCxnSpPr>
          <p:spPr>
            <a:xfrm>
              <a:off x="2413080" y="14335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1" name=""/>
            <p:cNvCxnSpPr>
              <a:stCxn id="2035" idx="4"/>
              <a:endCxn id="2048" idx="0"/>
            </p:cNvCxnSpPr>
            <p:nvPr/>
          </p:nvCxnSpPr>
          <p:spPr>
            <a:xfrm>
              <a:off x="79200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2" name=""/>
            <p:cNvCxnSpPr>
              <a:stCxn id="2036" idx="4"/>
              <a:endCxn id="2049" idx="0"/>
            </p:cNvCxnSpPr>
            <p:nvPr/>
          </p:nvCxnSpPr>
          <p:spPr>
            <a:xfrm>
              <a:off x="129672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3" name=""/>
            <p:cNvCxnSpPr>
              <a:stCxn id="2038" idx="4"/>
              <a:endCxn id="2051" idx="0"/>
            </p:cNvCxnSpPr>
            <p:nvPr/>
          </p:nvCxnSpPr>
          <p:spPr>
            <a:xfrm>
              <a:off x="180000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4" name=""/>
            <p:cNvCxnSpPr>
              <a:stCxn id="2039" idx="4"/>
              <a:endCxn id="2052" idx="0"/>
            </p:cNvCxnSpPr>
            <p:nvPr/>
          </p:nvCxnSpPr>
          <p:spPr>
            <a:xfrm>
              <a:off x="230472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5" name=""/>
            <p:cNvCxnSpPr>
              <a:stCxn id="2042" idx="4"/>
              <a:endCxn id="2055" idx="0"/>
            </p:cNvCxnSpPr>
            <p:nvPr/>
          </p:nvCxnSpPr>
          <p:spPr>
            <a:xfrm>
              <a:off x="280800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6" name=""/>
            <p:cNvCxnSpPr>
              <a:stCxn id="2043" idx="4"/>
              <a:endCxn id="2056" idx="0"/>
            </p:cNvCxnSpPr>
            <p:nvPr/>
          </p:nvCxnSpPr>
          <p:spPr>
            <a:xfrm>
              <a:off x="331272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7" name=""/>
            <p:cNvCxnSpPr>
              <a:stCxn id="2045" idx="4"/>
              <a:endCxn id="2058" idx="0"/>
            </p:cNvCxnSpPr>
            <p:nvPr/>
          </p:nvCxnSpPr>
          <p:spPr>
            <a:xfrm>
              <a:off x="3816000" y="11098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68" name=""/>
            <p:cNvSpPr/>
            <p:nvPr/>
          </p:nvSpPr>
          <p:spPr>
            <a:xfrm>
              <a:off x="68436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8908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0" name=""/>
            <p:cNvCxnSpPr>
              <a:stCxn id="2068" idx="6"/>
              <a:endCxn id="2069" idx="2"/>
            </p:cNvCxnSpPr>
            <p:nvPr/>
          </p:nvCxnSpPr>
          <p:spPr>
            <a:xfrm>
              <a:off x="900360" y="1865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71" name=""/>
            <p:cNvSpPr/>
            <p:nvPr/>
          </p:nvSpPr>
          <p:spPr>
            <a:xfrm>
              <a:off x="169236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19708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3" name=""/>
            <p:cNvCxnSpPr>
              <a:stCxn id="2071" idx="6"/>
              <a:endCxn id="2072" idx="2"/>
            </p:cNvCxnSpPr>
            <p:nvPr/>
          </p:nvCxnSpPr>
          <p:spPr>
            <a:xfrm>
              <a:off x="1908360" y="1865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4" name=""/>
            <p:cNvCxnSpPr>
              <a:stCxn id="2069" idx="6"/>
              <a:endCxn id="2071" idx="2"/>
            </p:cNvCxnSpPr>
            <p:nvPr/>
          </p:nvCxnSpPr>
          <p:spPr>
            <a:xfrm>
              <a:off x="1405080" y="1865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75" name=""/>
            <p:cNvSpPr/>
            <p:nvPr/>
          </p:nvSpPr>
          <p:spPr>
            <a:xfrm>
              <a:off x="270036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05440" y="17575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7" name=""/>
            <p:cNvCxnSpPr>
              <a:stCxn id="2075" idx="6"/>
              <a:endCxn id="2076" idx="2"/>
            </p:cNvCxnSpPr>
            <p:nvPr/>
          </p:nvCxnSpPr>
          <p:spPr>
            <a:xfrm>
              <a:off x="2916000" y="1865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78" name=""/>
            <p:cNvSpPr/>
            <p:nvPr/>
          </p:nvSpPr>
          <p:spPr>
            <a:xfrm>
              <a:off x="3708360" y="1757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9" name=""/>
            <p:cNvCxnSpPr>
              <a:stCxn id="2076" idx="6"/>
              <a:endCxn id="2078" idx="2"/>
            </p:cNvCxnSpPr>
            <p:nvPr/>
          </p:nvCxnSpPr>
          <p:spPr>
            <a:xfrm>
              <a:off x="3421080" y="1865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0" name=""/>
            <p:cNvCxnSpPr>
              <a:stCxn id="2072" idx="6"/>
              <a:endCxn id="2075" idx="2"/>
            </p:cNvCxnSpPr>
            <p:nvPr/>
          </p:nvCxnSpPr>
          <p:spPr>
            <a:xfrm>
              <a:off x="2413080" y="1865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1" name=""/>
            <p:cNvCxnSpPr>
              <a:endCxn id="2068" idx="0"/>
            </p:cNvCxnSpPr>
            <p:nvPr/>
          </p:nvCxnSpPr>
          <p:spPr>
            <a:xfrm>
              <a:off x="79200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2" name=""/>
            <p:cNvCxnSpPr>
              <a:endCxn id="2069" idx="0"/>
            </p:cNvCxnSpPr>
            <p:nvPr/>
          </p:nvCxnSpPr>
          <p:spPr>
            <a:xfrm>
              <a:off x="129672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3" name=""/>
            <p:cNvCxnSpPr>
              <a:endCxn id="2071" idx="0"/>
            </p:cNvCxnSpPr>
            <p:nvPr/>
          </p:nvCxnSpPr>
          <p:spPr>
            <a:xfrm>
              <a:off x="180000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4" name=""/>
            <p:cNvCxnSpPr>
              <a:endCxn id="2072" idx="0"/>
            </p:cNvCxnSpPr>
            <p:nvPr/>
          </p:nvCxnSpPr>
          <p:spPr>
            <a:xfrm>
              <a:off x="230472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5" name=""/>
            <p:cNvCxnSpPr>
              <a:endCxn id="2075" idx="0"/>
            </p:cNvCxnSpPr>
            <p:nvPr/>
          </p:nvCxnSpPr>
          <p:spPr>
            <a:xfrm>
              <a:off x="280800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6" name=""/>
            <p:cNvCxnSpPr>
              <a:endCxn id="2076" idx="0"/>
            </p:cNvCxnSpPr>
            <p:nvPr/>
          </p:nvCxnSpPr>
          <p:spPr>
            <a:xfrm>
              <a:off x="331272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7" name=""/>
            <p:cNvCxnSpPr>
              <a:endCxn id="2078" idx="0"/>
            </p:cNvCxnSpPr>
            <p:nvPr/>
          </p:nvCxnSpPr>
          <p:spPr>
            <a:xfrm>
              <a:off x="3816000" y="15415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88" name=""/>
            <p:cNvSpPr/>
            <p:nvPr/>
          </p:nvSpPr>
          <p:spPr>
            <a:xfrm>
              <a:off x="68436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8908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0" name=""/>
            <p:cNvCxnSpPr>
              <a:stCxn id="2088" idx="6"/>
              <a:endCxn id="2089" idx="2"/>
            </p:cNvCxnSpPr>
            <p:nvPr/>
          </p:nvCxnSpPr>
          <p:spPr>
            <a:xfrm>
              <a:off x="900360" y="2297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91" name=""/>
            <p:cNvSpPr/>
            <p:nvPr/>
          </p:nvSpPr>
          <p:spPr>
            <a:xfrm>
              <a:off x="169236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19708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3" name=""/>
            <p:cNvCxnSpPr>
              <a:stCxn id="2091" idx="6"/>
              <a:endCxn id="2092" idx="2"/>
            </p:cNvCxnSpPr>
            <p:nvPr/>
          </p:nvCxnSpPr>
          <p:spPr>
            <a:xfrm>
              <a:off x="1908360" y="2297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94" name=""/>
            <p:cNvCxnSpPr>
              <a:stCxn id="2089" idx="6"/>
              <a:endCxn id="2091" idx="2"/>
            </p:cNvCxnSpPr>
            <p:nvPr/>
          </p:nvCxnSpPr>
          <p:spPr>
            <a:xfrm>
              <a:off x="1405080" y="2297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95" name=""/>
            <p:cNvSpPr/>
            <p:nvPr/>
          </p:nvSpPr>
          <p:spPr>
            <a:xfrm>
              <a:off x="270036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205440" y="21895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7" name=""/>
            <p:cNvCxnSpPr>
              <a:stCxn id="2095" idx="6"/>
              <a:endCxn id="2096" idx="2"/>
            </p:cNvCxnSpPr>
            <p:nvPr/>
          </p:nvCxnSpPr>
          <p:spPr>
            <a:xfrm>
              <a:off x="2916000" y="229716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98" name=""/>
            <p:cNvSpPr/>
            <p:nvPr/>
          </p:nvSpPr>
          <p:spPr>
            <a:xfrm>
              <a:off x="3708360" y="218952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9" name=""/>
            <p:cNvCxnSpPr>
              <a:stCxn id="2096" idx="6"/>
              <a:endCxn id="2098" idx="2"/>
            </p:cNvCxnSpPr>
            <p:nvPr/>
          </p:nvCxnSpPr>
          <p:spPr>
            <a:xfrm>
              <a:off x="3421080" y="2297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0" name=""/>
            <p:cNvCxnSpPr>
              <a:stCxn id="2092" idx="6"/>
              <a:endCxn id="2095" idx="2"/>
            </p:cNvCxnSpPr>
            <p:nvPr/>
          </p:nvCxnSpPr>
          <p:spPr>
            <a:xfrm>
              <a:off x="2413080" y="229716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1" name=""/>
            <p:cNvCxnSpPr>
              <a:endCxn id="2088" idx="0"/>
            </p:cNvCxnSpPr>
            <p:nvPr/>
          </p:nvCxnSpPr>
          <p:spPr>
            <a:xfrm>
              <a:off x="79200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2" name=""/>
            <p:cNvCxnSpPr>
              <a:endCxn id="2089" idx="0"/>
            </p:cNvCxnSpPr>
            <p:nvPr/>
          </p:nvCxnSpPr>
          <p:spPr>
            <a:xfrm>
              <a:off x="129672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3" name=""/>
            <p:cNvCxnSpPr>
              <a:endCxn id="2091" idx="0"/>
            </p:cNvCxnSpPr>
            <p:nvPr/>
          </p:nvCxnSpPr>
          <p:spPr>
            <a:xfrm>
              <a:off x="180000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4" name=""/>
            <p:cNvCxnSpPr>
              <a:endCxn id="2092" idx="0"/>
            </p:cNvCxnSpPr>
            <p:nvPr/>
          </p:nvCxnSpPr>
          <p:spPr>
            <a:xfrm>
              <a:off x="230472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5" name=""/>
            <p:cNvCxnSpPr>
              <a:endCxn id="2095" idx="0"/>
            </p:cNvCxnSpPr>
            <p:nvPr/>
          </p:nvCxnSpPr>
          <p:spPr>
            <a:xfrm>
              <a:off x="280800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6" name=""/>
            <p:cNvCxnSpPr>
              <a:endCxn id="2096" idx="0"/>
            </p:cNvCxnSpPr>
            <p:nvPr/>
          </p:nvCxnSpPr>
          <p:spPr>
            <a:xfrm>
              <a:off x="331272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7" name=""/>
            <p:cNvCxnSpPr>
              <a:endCxn id="2098" idx="0"/>
            </p:cNvCxnSpPr>
            <p:nvPr/>
          </p:nvCxnSpPr>
          <p:spPr>
            <a:xfrm>
              <a:off x="3816000" y="197352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08" name=""/>
            <p:cNvSpPr/>
            <p:nvPr/>
          </p:nvSpPr>
          <p:spPr>
            <a:xfrm>
              <a:off x="68436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18908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0" name=""/>
            <p:cNvCxnSpPr>
              <a:stCxn id="2108" idx="6"/>
              <a:endCxn id="2109" idx="2"/>
            </p:cNvCxnSpPr>
            <p:nvPr/>
          </p:nvCxnSpPr>
          <p:spPr>
            <a:xfrm>
              <a:off x="900360" y="2728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11" name=""/>
            <p:cNvSpPr/>
            <p:nvPr/>
          </p:nvSpPr>
          <p:spPr>
            <a:xfrm>
              <a:off x="169236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19708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3" name=""/>
            <p:cNvCxnSpPr>
              <a:stCxn id="2111" idx="6"/>
              <a:endCxn id="2112" idx="2"/>
            </p:cNvCxnSpPr>
            <p:nvPr/>
          </p:nvCxnSpPr>
          <p:spPr>
            <a:xfrm>
              <a:off x="1908360" y="2728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4" name=""/>
            <p:cNvCxnSpPr>
              <a:stCxn id="2109" idx="6"/>
              <a:endCxn id="2111" idx="2"/>
            </p:cNvCxnSpPr>
            <p:nvPr/>
          </p:nvCxnSpPr>
          <p:spPr>
            <a:xfrm>
              <a:off x="1405080" y="2728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15" name=""/>
            <p:cNvSpPr/>
            <p:nvPr/>
          </p:nvSpPr>
          <p:spPr>
            <a:xfrm>
              <a:off x="270036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205440" y="26211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7" name=""/>
            <p:cNvCxnSpPr>
              <a:stCxn id="2115" idx="6"/>
              <a:endCxn id="2116" idx="2"/>
            </p:cNvCxnSpPr>
            <p:nvPr/>
          </p:nvCxnSpPr>
          <p:spPr>
            <a:xfrm>
              <a:off x="2916000" y="2728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18" name=""/>
            <p:cNvSpPr/>
            <p:nvPr/>
          </p:nvSpPr>
          <p:spPr>
            <a:xfrm>
              <a:off x="3708360" y="26211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9" name=""/>
            <p:cNvCxnSpPr>
              <a:stCxn id="2116" idx="6"/>
              <a:endCxn id="2118" idx="2"/>
            </p:cNvCxnSpPr>
            <p:nvPr/>
          </p:nvCxnSpPr>
          <p:spPr>
            <a:xfrm>
              <a:off x="3421080" y="2728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0" name=""/>
            <p:cNvCxnSpPr>
              <a:stCxn id="2112" idx="6"/>
              <a:endCxn id="2115" idx="2"/>
            </p:cNvCxnSpPr>
            <p:nvPr/>
          </p:nvCxnSpPr>
          <p:spPr>
            <a:xfrm>
              <a:off x="2413080" y="2728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1" name=""/>
            <p:cNvCxnSpPr>
              <a:endCxn id="2108" idx="0"/>
            </p:cNvCxnSpPr>
            <p:nvPr/>
          </p:nvCxnSpPr>
          <p:spPr>
            <a:xfrm>
              <a:off x="79200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2" name=""/>
            <p:cNvCxnSpPr>
              <a:endCxn id="2109" idx="0"/>
            </p:cNvCxnSpPr>
            <p:nvPr/>
          </p:nvCxnSpPr>
          <p:spPr>
            <a:xfrm>
              <a:off x="129672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3" name=""/>
            <p:cNvCxnSpPr>
              <a:endCxn id="2111" idx="0"/>
            </p:cNvCxnSpPr>
            <p:nvPr/>
          </p:nvCxnSpPr>
          <p:spPr>
            <a:xfrm>
              <a:off x="180000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4" name=""/>
            <p:cNvCxnSpPr>
              <a:endCxn id="2112" idx="0"/>
            </p:cNvCxnSpPr>
            <p:nvPr/>
          </p:nvCxnSpPr>
          <p:spPr>
            <a:xfrm>
              <a:off x="230472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5" name=""/>
            <p:cNvCxnSpPr>
              <a:endCxn id="2115" idx="0"/>
            </p:cNvCxnSpPr>
            <p:nvPr/>
          </p:nvCxnSpPr>
          <p:spPr>
            <a:xfrm>
              <a:off x="280800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6" name=""/>
            <p:cNvCxnSpPr>
              <a:endCxn id="2116" idx="0"/>
            </p:cNvCxnSpPr>
            <p:nvPr/>
          </p:nvCxnSpPr>
          <p:spPr>
            <a:xfrm>
              <a:off x="331272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7" name=""/>
            <p:cNvCxnSpPr>
              <a:endCxn id="2118" idx="0"/>
            </p:cNvCxnSpPr>
            <p:nvPr/>
          </p:nvCxnSpPr>
          <p:spPr>
            <a:xfrm>
              <a:off x="3816000" y="240516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28" name=""/>
            <p:cNvSpPr/>
            <p:nvPr/>
          </p:nvSpPr>
          <p:spPr>
            <a:xfrm>
              <a:off x="68436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18908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0" name=""/>
            <p:cNvCxnSpPr>
              <a:stCxn id="2128" idx="6"/>
              <a:endCxn id="2129" idx="2"/>
            </p:cNvCxnSpPr>
            <p:nvPr/>
          </p:nvCxnSpPr>
          <p:spPr>
            <a:xfrm>
              <a:off x="900360" y="3160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31" name=""/>
            <p:cNvSpPr/>
            <p:nvPr/>
          </p:nvSpPr>
          <p:spPr>
            <a:xfrm>
              <a:off x="169236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19708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3" name=""/>
            <p:cNvCxnSpPr>
              <a:stCxn id="2131" idx="6"/>
              <a:endCxn id="2132" idx="2"/>
            </p:cNvCxnSpPr>
            <p:nvPr/>
          </p:nvCxnSpPr>
          <p:spPr>
            <a:xfrm>
              <a:off x="1908360" y="3160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34" name=""/>
            <p:cNvCxnSpPr>
              <a:stCxn id="2129" idx="6"/>
              <a:endCxn id="2131" idx="2"/>
            </p:cNvCxnSpPr>
            <p:nvPr/>
          </p:nvCxnSpPr>
          <p:spPr>
            <a:xfrm>
              <a:off x="1405080" y="3160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35" name=""/>
            <p:cNvSpPr/>
            <p:nvPr/>
          </p:nvSpPr>
          <p:spPr>
            <a:xfrm>
              <a:off x="270036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205440" y="30531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7" name=""/>
            <p:cNvCxnSpPr>
              <a:stCxn id="2135" idx="6"/>
              <a:endCxn id="2136" idx="2"/>
            </p:cNvCxnSpPr>
            <p:nvPr/>
          </p:nvCxnSpPr>
          <p:spPr>
            <a:xfrm>
              <a:off x="2916000" y="316080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38" name=""/>
            <p:cNvSpPr/>
            <p:nvPr/>
          </p:nvSpPr>
          <p:spPr>
            <a:xfrm>
              <a:off x="3708360" y="305316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9" name=""/>
            <p:cNvCxnSpPr>
              <a:stCxn id="2136" idx="6"/>
              <a:endCxn id="2138" idx="2"/>
            </p:cNvCxnSpPr>
            <p:nvPr/>
          </p:nvCxnSpPr>
          <p:spPr>
            <a:xfrm>
              <a:off x="3421080" y="3160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40" name=""/>
            <p:cNvCxnSpPr>
              <a:stCxn id="2132" idx="6"/>
              <a:endCxn id="2135" idx="2"/>
            </p:cNvCxnSpPr>
            <p:nvPr/>
          </p:nvCxnSpPr>
          <p:spPr>
            <a:xfrm>
              <a:off x="2413080" y="316080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41" name=""/>
            <p:cNvCxnSpPr>
              <a:endCxn id="2128" idx="0"/>
            </p:cNvCxnSpPr>
            <p:nvPr/>
          </p:nvCxnSpPr>
          <p:spPr>
            <a:xfrm>
              <a:off x="79200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42" name=""/>
            <p:cNvCxnSpPr>
              <a:endCxn id="2129" idx="0"/>
            </p:cNvCxnSpPr>
            <p:nvPr/>
          </p:nvCxnSpPr>
          <p:spPr>
            <a:xfrm>
              <a:off x="129672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43" name=""/>
            <p:cNvCxnSpPr>
              <a:endCxn id="2131" idx="0"/>
            </p:cNvCxnSpPr>
            <p:nvPr/>
          </p:nvCxnSpPr>
          <p:spPr>
            <a:xfrm>
              <a:off x="180000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44" name=""/>
            <p:cNvCxnSpPr>
              <a:endCxn id="2132" idx="0"/>
            </p:cNvCxnSpPr>
            <p:nvPr/>
          </p:nvCxnSpPr>
          <p:spPr>
            <a:xfrm>
              <a:off x="230472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45" name=""/>
            <p:cNvCxnSpPr>
              <a:endCxn id="2135" idx="0"/>
            </p:cNvCxnSpPr>
            <p:nvPr/>
          </p:nvCxnSpPr>
          <p:spPr>
            <a:xfrm>
              <a:off x="280800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46" name=""/>
            <p:cNvCxnSpPr>
              <a:endCxn id="2136" idx="0"/>
            </p:cNvCxnSpPr>
            <p:nvPr/>
          </p:nvCxnSpPr>
          <p:spPr>
            <a:xfrm>
              <a:off x="331272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47" name=""/>
            <p:cNvCxnSpPr>
              <a:endCxn id="2138" idx="0"/>
            </p:cNvCxnSpPr>
            <p:nvPr/>
          </p:nvCxnSpPr>
          <p:spPr>
            <a:xfrm>
              <a:off x="3816000" y="283716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148" name=""/>
          <p:cNvSpPr/>
          <p:nvPr/>
        </p:nvSpPr>
        <p:spPr>
          <a:xfrm>
            <a:off x="6661080" y="13971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7885080" y="139716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0" name=""/>
          <p:cNvCxnSpPr>
            <a:stCxn id="2148" idx="6"/>
            <a:endCxn id="2149" idx="2"/>
          </p:cNvCxnSpPr>
          <p:nvPr/>
        </p:nvCxnSpPr>
        <p:spPr>
          <a:xfrm>
            <a:off x="6877080" y="150444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51" name=""/>
          <p:cNvSpPr/>
          <p:nvPr/>
        </p:nvSpPr>
        <p:spPr>
          <a:xfrm>
            <a:off x="6732720" y="9637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8028000" y="9651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6659640" y="1252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7956720" y="1252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6732720" y="125244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6089400" y="9651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8216640" y="9651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7029720" y="7491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466560" y="676440"/>
            <a:ext cx="1081080" cy="57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0" name=""/>
          <p:cNvGrpSpPr/>
          <p:nvPr/>
        </p:nvGrpSpPr>
        <p:grpSpPr>
          <a:xfrm>
            <a:off x="5294160" y="1989000"/>
            <a:ext cx="3114720" cy="1600200"/>
            <a:chOff x="5294160" y="1989000"/>
            <a:chExt cx="3114720" cy="1600200"/>
          </a:xfrm>
        </p:grpSpPr>
        <p:sp>
          <p:nvSpPr>
            <p:cNvPr id="2161" name=""/>
            <p:cNvSpPr/>
            <p:nvPr/>
          </p:nvSpPr>
          <p:spPr>
            <a:xfrm>
              <a:off x="6545160" y="2141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596000" y="214164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564240" y="2979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647120" y="297972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275520" y="1989000"/>
              <a:ext cx="380880" cy="160020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028000" y="1989000"/>
              <a:ext cx="380880" cy="1600200"/>
            </a:xfrm>
            <a:custGeom>
              <a:avLst/>
              <a:gdLst>
                <a:gd name="textAreaLeft" fmla="*/ 0 w 380880"/>
                <a:gd name="textAreaRight" fmla="*/ 267120 w 3808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94160" y="241776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8" name=""/>
          <p:cNvSpPr/>
          <p:nvPr/>
        </p:nvSpPr>
        <p:spPr>
          <a:xfrm>
            <a:off x="5780880" y="3933720"/>
            <a:ext cx="277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-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466200" y="4854600"/>
            <a:ext cx="57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 we use different C matrices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489240" y="5729400"/>
            <a:ext cx="58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 we use a different subgraph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685800" y="1309680"/>
            <a:ext cx="77724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Relax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liz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CP Relaxations 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P Relaxations on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64280" y="990720"/>
            <a:ext cx="2346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24480" y="1889280"/>
            <a:ext cx="309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.t.   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≤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55080" y="2803680"/>
            <a:ext cx="300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34640" y="1047600"/>
            <a:ext cx="34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50840" y="19350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50480" y="28494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qual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360" y="4983120"/>
            <a:ext cx="52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function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v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31480" y="3962520"/>
            <a:ext cx="47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 region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v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4800" y="6049800"/>
            <a:ext cx="69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vex set???    Convex function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914400"/>
            <a:ext cx="8153280" cy="2590920"/>
          </a:xfrm>
          <a:prstGeom prst="rect">
            <a:avLst/>
          </a:prstGeom>
          <a:noFill/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P Relaxations on Tr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771640" y="981000"/>
            <a:ext cx="3240000" cy="2374920"/>
            <a:chOff x="2771640" y="981000"/>
            <a:chExt cx="3240000" cy="2374920"/>
          </a:xfrm>
        </p:grpSpPr>
        <p:sp>
          <p:nvSpPr>
            <p:cNvPr id="2175" name=""/>
            <p:cNvSpPr/>
            <p:nvPr/>
          </p:nvSpPr>
          <p:spPr>
            <a:xfrm>
              <a:off x="2771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7636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7" name=""/>
            <p:cNvCxnSpPr>
              <a:stCxn id="2175" idx="6"/>
              <a:endCxn id="2176" idx="2"/>
            </p:cNvCxnSpPr>
            <p:nvPr/>
          </p:nvCxnSpPr>
          <p:spPr>
            <a:xfrm>
              <a:off x="2987640" y="1088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78" name=""/>
            <p:cNvSpPr/>
            <p:nvPr/>
          </p:nvSpPr>
          <p:spPr>
            <a:xfrm>
              <a:off x="3779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28436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0" name=""/>
            <p:cNvCxnSpPr>
              <a:stCxn id="2178" idx="6"/>
              <a:endCxn id="2179" idx="2"/>
            </p:cNvCxnSpPr>
            <p:nvPr/>
          </p:nvCxnSpPr>
          <p:spPr>
            <a:xfrm>
              <a:off x="3995640" y="1088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81" name=""/>
            <p:cNvCxnSpPr>
              <a:stCxn id="2176" idx="6"/>
              <a:endCxn id="2178" idx="2"/>
            </p:cNvCxnSpPr>
            <p:nvPr/>
          </p:nvCxnSpPr>
          <p:spPr>
            <a:xfrm>
              <a:off x="3492360" y="1088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82" name=""/>
            <p:cNvSpPr/>
            <p:nvPr/>
          </p:nvSpPr>
          <p:spPr>
            <a:xfrm>
              <a:off x="4787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292720" y="98100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4" name=""/>
            <p:cNvCxnSpPr>
              <a:stCxn id="2182" idx="6"/>
              <a:endCxn id="2183" idx="2"/>
            </p:cNvCxnSpPr>
            <p:nvPr/>
          </p:nvCxnSpPr>
          <p:spPr>
            <a:xfrm>
              <a:off x="5003280" y="1088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85" name=""/>
            <p:cNvSpPr/>
            <p:nvPr/>
          </p:nvSpPr>
          <p:spPr>
            <a:xfrm>
              <a:off x="5795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6" name=""/>
            <p:cNvCxnSpPr>
              <a:stCxn id="2183" idx="6"/>
              <a:endCxn id="2185" idx="2"/>
            </p:cNvCxnSpPr>
            <p:nvPr/>
          </p:nvCxnSpPr>
          <p:spPr>
            <a:xfrm>
              <a:off x="5508360" y="1088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87" name=""/>
            <p:cNvCxnSpPr>
              <a:stCxn id="2179" idx="6"/>
              <a:endCxn id="2182" idx="2"/>
            </p:cNvCxnSpPr>
            <p:nvPr/>
          </p:nvCxnSpPr>
          <p:spPr>
            <a:xfrm>
              <a:off x="4500360" y="1088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88" name=""/>
            <p:cNvSpPr/>
            <p:nvPr/>
          </p:nvSpPr>
          <p:spPr>
            <a:xfrm>
              <a:off x="2771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27636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0" name=""/>
            <p:cNvCxnSpPr>
              <a:stCxn id="2188" idx="6"/>
              <a:endCxn id="2189" idx="2"/>
            </p:cNvCxnSpPr>
            <p:nvPr/>
          </p:nvCxnSpPr>
          <p:spPr>
            <a:xfrm>
              <a:off x="2987640" y="1520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91" name=""/>
            <p:cNvSpPr/>
            <p:nvPr/>
          </p:nvSpPr>
          <p:spPr>
            <a:xfrm>
              <a:off x="3779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28436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3" name=""/>
            <p:cNvCxnSpPr>
              <a:stCxn id="2191" idx="6"/>
              <a:endCxn id="2192" idx="2"/>
            </p:cNvCxnSpPr>
            <p:nvPr/>
          </p:nvCxnSpPr>
          <p:spPr>
            <a:xfrm>
              <a:off x="3995640" y="1520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4" name=""/>
            <p:cNvCxnSpPr>
              <a:stCxn id="2189" idx="6"/>
              <a:endCxn id="2191" idx="2"/>
            </p:cNvCxnSpPr>
            <p:nvPr/>
          </p:nvCxnSpPr>
          <p:spPr>
            <a:xfrm>
              <a:off x="3492360" y="1520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95" name=""/>
            <p:cNvSpPr/>
            <p:nvPr/>
          </p:nvSpPr>
          <p:spPr>
            <a:xfrm>
              <a:off x="4787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292720" y="141300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7" name=""/>
            <p:cNvCxnSpPr>
              <a:stCxn id="2195" idx="6"/>
              <a:endCxn id="2196" idx="2"/>
            </p:cNvCxnSpPr>
            <p:nvPr/>
          </p:nvCxnSpPr>
          <p:spPr>
            <a:xfrm>
              <a:off x="5003280" y="1520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98" name=""/>
            <p:cNvSpPr/>
            <p:nvPr/>
          </p:nvSpPr>
          <p:spPr>
            <a:xfrm>
              <a:off x="5795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9" name=""/>
            <p:cNvCxnSpPr>
              <a:stCxn id="2196" idx="6"/>
              <a:endCxn id="2198" idx="2"/>
            </p:cNvCxnSpPr>
            <p:nvPr/>
          </p:nvCxnSpPr>
          <p:spPr>
            <a:xfrm>
              <a:off x="5508360" y="1520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0" name=""/>
            <p:cNvCxnSpPr>
              <a:stCxn id="2192" idx="6"/>
              <a:endCxn id="2195" idx="2"/>
            </p:cNvCxnSpPr>
            <p:nvPr/>
          </p:nvCxnSpPr>
          <p:spPr>
            <a:xfrm>
              <a:off x="4500360" y="1520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1" name=""/>
            <p:cNvCxnSpPr>
              <a:stCxn id="2175" idx="4"/>
              <a:endCxn id="2188" idx="0"/>
            </p:cNvCxnSpPr>
            <p:nvPr/>
          </p:nvCxnSpPr>
          <p:spPr>
            <a:xfrm>
              <a:off x="2879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2" name=""/>
            <p:cNvCxnSpPr>
              <a:stCxn id="2176" idx="4"/>
              <a:endCxn id="2189" idx="0"/>
            </p:cNvCxnSpPr>
            <p:nvPr/>
          </p:nvCxnSpPr>
          <p:spPr>
            <a:xfrm>
              <a:off x="338400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3" name=""/>
            <p:cNvCxnSpPr>
              <a:stCxn id="2178" idx="4"/>
              <a:endCxn id="2191" idx="0"/>
            </p:cNvCxnSpPr>
            <p:nvPr/>
          </p:nvCxnSpPr>
          <p:spPr>
            <a:xfrm>
              <a:off x="3887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4" name=""/>
            <p:cNvCxnSpPr>
              <a:stCxn id="2179" idx="4"/>
              <a:endCxn id="2192" idx="0"/>
            </p:cNvCxnSpPr>
            <p:nvPr/>
          </p:nvCxnSpPr>
          <p:spPr>
            <a:xfrm>
              <a:off x="439200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5" name=""/>
            <p:cNvCxnSpPr>
              <a:stCxn id="2182" idx="4"/>
              <a:endCxn id="2195" idx="0"/>
            </p:cNvCxnSpPr>
            <p:nvPr/>
          </p:nvCxnSpPr>
          <p:spPr>
            <a:xfrm>
              <a:off x="4895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6" name=""/>
            <p:cNvCxnSpPr>
              <a:stCxn id="2183" idx="4"/>
              <a:endCxn id="2196" idx="0"/>
            </p:cNvCxnSpPr>
            <p:nvPr/>
          </p:nvCxnSpPr>
          <p:spPr>
            <a:xfrm>
              <a:off x="540000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7" name=""/>
            <p:cNvCxnSpPr>
              <a:stCxn id="2185" idx="4"/>
              <a:endCxn id="2198" idx="0"/>
            </p:cNvCxnSpPr>
            <p:nvPr/>
          </p:nvCxnSpPr>
          <p:spPr>
            <a:xfrm>
              <a:off x="5903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08" name=""/>
            <p:cNvSpPr/>
            <p:nvPr/>
          </p:nvSpPr>
          <p:spPr>
            <a:xfrm>
              <a:off x="2771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27636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0" name=""/>
            <p:cNvCxnSpPr>
              <a:stCxn id="2208" idx="6"/>
              <a:endCxn id="2209" idx="2"/>
            </p:cNvCxnSpPr>
            <p:nvPr/>
          </p:nvCxnSpPr>
          <p:spPr>
            <a:xfrm>
              <a:off x="2987640" y="1952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11" name=""/>
            <p:cNvSpPr/>
            <p:nvPr/>
          </p:nvSpPr>
          <p:spPr>
            <a:xfrm>
              <a:off x="3779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28436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3" name=""/>
            <p:cNvCxnSpPr>
              <a:stCxn id="2211" idx="6"/>
              <a:endCxn id="2212" idx="2"/>
            </p:cNvCxnSpPr>
            <p:nvPr/>
          </p:nvCxnSpPr>
          <p:spPr>
            <a:xfrm>
              <a:off x="3995640" y="1952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14" name=""/>
            <p:cNvCxnSpPr>
              <a:stCxn id="2209" idx="6"/>
              <a:endCxn id="2211" idx="2"/>
            </p:cNvCxnSpPr>
            <p:nvPr/>
          </p:nvCxnSpPr>
          <p:spPr>
            <a:xfrm>
              <a:off x="3492360" y="1952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15" name=""/>
            <p:cNvSpPr/>
            <p:nvPr/>
          </p:nvSpPr>
          <p:spPr>
            <a:xfrm>
              <a:off x="4787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292720" y="18446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7" name=""/>
            <p:cNvCxnSpPr>
              <a:stCxn id="2215" idx="6"/>
              <a:endCxn id="2216" idx="2"/>
            </p:cNvCxnSpPr>
            <p:nvPr/>
          </p:nvCxnSpPr>
          <p:spPr>
            <a:xfrm>
              <a:off x="5003280" y="1952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18" name=""/>
            <p:cNvSpPr/>
            <p:nvPr/>
          </p:nvSpPr>
          <p:spPr>
            <a:xfrm>
              <a:off x="5795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9" name=""/>
            <p:cNvCxnSpPr>
              <a:stCxn id="2216" idx="6"/>
              <a:endCxn id="2218" idx="2"/>
            </p:cNvCxnSpPr>
            <p:nvPr/>
          </p:nvCxnSpPr>
          <p:spPr>
            <a:xfrm>
              <a:off x="5508360" y="1952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0" name=""/>
            <p:cNvCxnSpPr>
              <a:stCxn id="2212" idx="6"/>
              <a:endCxn id="2215" idx="2"/>
            </p:cNvCxnSpPr>
            <p:nvPr/>
          </p:nvCxnSpPr>
          <p:spPr>
            <a:xfrm>
              <a:off x="4500360" y="1952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1" name=""/>
            <p:cNvCxnSpPr>
              <a:endCxn id="2208" idx="0"/>
            </p:cNvCxnSpPr>
            <p:nvPr/>
          </p:nvCxnSpPr>
          <p:spPr>
            <a:xfrm>
              <a:off x="2879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2" name=""/>
            <p:cNvCxnSpPr>
              <a:endCxn id="2209" idx="0"/>
            </p:cNvCxnSpPr>
            <p:nvPr/>
          </p:nvCxnSpPr>
          <p:spPr>
            <a:xfrm>
              <a:off x="338400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3" name=""/>
            <p:cNvCxnSpPr>
              <a:endCxn id="2211" idx="0"/>
            </p:cNvCxnSpPr>
            <p:nvPr/>
          </p:nvCxnSpPr>
          <p:spPr>
            <a:xfrm>
              <a:off x="3887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4" name=""/>
            <p:cNvCxnSpPr>
              <a:endCxn id="2212" idx="0"/>
            </p:cNvCxnSpPr>
            <p:nvPr/>
          </p:nvCxnSpPr>
          <p:spPr>
            <a:xfrm>
              <a:off x="439200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5" name=""/>
            <p:cNvCxnSpPr>
              <a:endCxn id="2215" idx="0"/>
            </p:cNvCxnSpPr>
            <p:nvPr/>
          </p:nvCxnSpPr>
          <p:spPr>
            <a:xfrm>
              <a:off x="4895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6" name=""/>
            <p:cNvCxnSpPr>
              <a:endCxn id="2216" idx="0"/>
            </p:cNvCxnSpPr>
            <p:nvPr/>
          </p:nvCxnSpPr>
          <p:spPr>
            <a:xfrm>
              <a:off x="540000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7" name=""/>
            <p:cNvCxnSpPr>
              <a:endCxn id="2218" idx="0"/>
            </p:cNvCxnSpPr>
            <p:nvPr/>
          </p:nvCxnSpPr>
          <p:spPr>
            <a:xfrm>
              <a:off x="5903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28" name=""/>
            <p:cNvSpPr/>
            <p:nvPr/>
          </p:nvSpPr>
          <p:spPr>
            <a:xfrm>
              <a:off x="2771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27636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0" name=""/>
            <p:cNvCxnSpPr>
              <a:stCxn id="2228" idx="6"/>
              <a:endCxn id="2229" idx="2"/>
            </p:cNvCxnSpPr>
            <p:nvPr/>
          </p:nvCxnSpPr>
          <p:spPr>
            <a:xfrm>
              <a:off x="2987640" y="2384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31" name=""/>
            <p:cNvSpPr/>
            <p:nvPr/>
          </p:nvSpPr>
          <p:spPr>
            <a:xfrm>
              <a:off x="3779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28436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3" name=""/>
            <p:cNvCxnSpPr>
              <a:stCxn id="2231" idx="6"/>
              <a:endCxn id="2232" idx="2"/>
            </p:cNvCxnSpPr>
            <p:nvPr/>
          </p:nvCxnSpPr>
          <p:spPr>
            <a:xfrm>
              <a:off x="3995640" y="2384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4" name=""/>
            <p:cNvCxnSpPr>
              <a:stCxn id="2229" idx="6"/>
              <a:endCxn id="2231" idx="2"/>
            </p:cNvCxnSpPr>
            <p:nvPr/>
          </p:nvCxnSpPr>
          <p:spPr>
            <a:xfrm>
              <a:off x="3492360" y="2384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35" name=""/>
            <p:cNvSpPr/>
            <p:nvPr/>
          </p:nvSpPr>
          <p:spPr>
            <a:xfrm>
              <a:off x="4787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292720" y="22766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7" name=""/>
            <p:cNvCxnSpPr>
              <a:stCxn id="2235" idx="6"/>
              <a:endCxn id="2236" idx="2"/>
            </p:cNvCxnSpPr>
            <p:nvPr/>
          </p:nvCxnSpPr>
          <p:spPr>
            <a:xfrm>
              <a:off x="5003280" y="2384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38" name=""/>
            <p:cNvSpPr/>
            <p:nvPr/>
          </p:nvSpPr>
          <p:spPr>
            <a:xfrm>
              <a:off x="5795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9" name=""/>
            <p:cNvCxnSpPr>
              <a:stCxn id="2236" idx="6"/>
              <a:endCxn id="2238" idx="2"/>
            </p:cNvCxnSpPr>
            <p:nvPr/>
          </p:nvCxnSpPr>
          <p:spPr>
            <a:xfrm>
              <a:off x="5508360" y="2384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0" name=""/>
            <p:cNvCxnSpPr>
              <a:stCxn id="2232" idx="6"/>
              <a:endCxn id="2235" idx="2"/>
            </p:cNvCxnSpPr>
            <p:nvPr/>
          </p:nvCxnSpPr>
          <p:spPr>
            <a:xfrm>
              <a:off x="4500360" y="2384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1" name=""/>
            <p:cNvCxnSpPr>
              <a:endCxn id="2228" idx="0"/>
            </p:cNvCxnSpPr>
            <p:nvPr/>
          </p:nvCxnSpPr>
          <p:spPr>
            <a:xfrm>
              <a:off x="2879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2" name=""/>
            <p:cNvCxnSpPr>
              <a:endCxn id="2229" idx="0"/>
            </p:cNvCxnSpPr>
            <p:nvPr/>
          </p:nvCxnSpPr>
          <p:spPr>
            <a:xfrm>
              <a:off x="338400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3" name=""/>
            <p:cNvCxnSpPr>
              <a:endCxn id="2231" idx="0"/>
            </p:cNvCxnSpPr>
            <p:nvPr/>
          </p:nvCxnSpPr>
          <p:spPr>
            <a:xfrm>
              <a:off x="3887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4" name=""/>
            <p:cNvCxnSpPr>
              <a:endCxn id="2232" idx="0"/>
            </p:cNvCxnSpPr>
            <p:nvPr/>
          </p:nvCxnSpPr>
          <p:spPr>
            <a:xfrm>
              <a:off x="439200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5" name=""/>
            <p:cNvCxnSpPr>
              <a:endCxn id="2235" idx="0"/>
            </p:cNvCxnSpPr>
            <p:nvPr/>
          </p:nvCxnSpPr>
          <p:spPr>
            <a:xfrm>
              <a:off x="4895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6" name=""/>
            <p:cNvCxnSpPr>
              <a:endCxn id="2236" idx="0"/>
            </p:cNvCxnSpPr>
            <p:nvPr/>
          </p:nvCxnSpPr>
          <p:spPr>
            <a:xfrm>
              <a:off x="540000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47" name=""/>
            <p:cNvCxnSpPr>
              <a:endCxn id="2238" idx="0"/>
            </p:cNvCxnSpPr>
            <p:nvPr/>
          </p:nvCxnSpPr>
          <p:spPr>
            <a:xfrm>
              <a:off x="5903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48" name=""/>
            <p:cNvSpPr/>
            <p:nvPr/>
          </p:nvSpPr>
          <p:spPr>
            <a:xfrm>
              <a:off x="2771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27636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0" name=""/>
            <p:cNvCxnSpPr>
              <a:stCxn id="2248" idx="6"/>
              <a:endCxn id="2249" idx="2"/>
            </p:cNvCxnSpPr>
            <p:nvPr/>
          </p:nvCxnSpPr>
          <p:spPr>
            <a:xfrm>
              <a:off x="2987640" y="2815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51" name=""/>
            <p:cNvSpPr/>
            <p:nvPr/>
          </p:nvSpPr>
          <p:spPr>
            <a:xfrm>
              <a:off x="3779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28436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3" name=""/>
            <p:cNvCxnSpPr>
              <a:stCxn id="2251" idx="6"/>
              <a:endCxn id="2252" idx="2"/>
            </p:cNvCxnSpPr>
            <p:nvPr/>
          </p:nvCxnSpPr>
          <p:spPr>
            <a:xfrm>
              <a:off x="3995640" y="2815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54" name=""/>
            <p:cNvCxnSpPr>
              <a:stCxn id="2249" idx="6"/>
              <a:endCxn id="2251" idx="2"/>
            </p:cNvCxnSpPr>
            <p:nvPr/>
          </p:nvCxnSpPr>
          <p:spPr>
            <a:xfrm>
              <a:off x="3492360" y="2815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55" name=""/>
            <p:cNvSpPr/>
            <p:nvPr/>
          </p:nvSpPr>
          <p:spPr>
            <a:xfrm>
              <a:off x="4787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292720" y="27082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7" name=""/>
            <p:cNvCxnSpPr>
              <a:stCxn id="2255" idx="6"/>
              <a:endCxn id="2256" idx="2"/>
            </p:cNvCxnSpPr>
            <p:nvPr/>
          </p:nvCxnSpPr>
          <p:spPr>
            <a:xfrm>
              <a:off x="5003280" y="2815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58" name=""/>
            <p:cNvSpPr/>
            <p:nvPr/>
          </p:nvSpPr>
          <p:spPr>
            <a:xfrm>
              <a:off x="5795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9" name=""/>
            <p:cNvCxnSpPr>
              <a:stCxn id="2256" idx="6"/>
              <a:endCxn id="2258" idx="2"/>
            </p:cNvCxnSpPr>
            <p:nvPr/>
          </p:nvCxnSpPr>
          <p:spPr>
            <a:xfrm>
              <a:off x="5508360" y="2815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0" name=""/>
            <p:cNvCxnSpPr>
              <a:stCxn id="2252" idx="6"/>
              <a:endCxn id="2255" idx="2"/>
            </p:cNvCxnSpPr>
            <p:nvPr/>
          </p:nvCxnSpPr>
          <p:spPr>
            <a:xfrm>
              <a:off x="4500360" y="2815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1" name=""/>
            <p:cNvCxnSpPr>
              <a:endCxn id="2248" idx="0"/>
            </p:cNvCxnSpPr>
            <p:nvPr/>
          </p:nvCxnSpPr>
          <p:spPr>
            <a:xfrm>
              <a:off x="2879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2" name=""/>
            <p:cNvCxnSpPr>
              <a:endCxn id="2249" idx="0"/>
            </p:cNvCxnSpPr>
            <p:nvPr/>
          </p:nvCxnSpPr>
          <p:spPr>
            <a:xfrm>
              <a:off x="338400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3" name=""/>
            <p:cNvCxnSpPr>
              <a:endCxn id="2251" idx="0"/>
            </p:cNvCxnSpPr>
            <p:nvPr/>
          </p:nvCxnSpPr>
          <p:spPr>
            <a:xfrm>
              <a:off x="3887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4" name=""/>
            <p:cNvCxnSpPr>
              <a:endCxn id="2252" idx="0"/>
            </p:cNvCxnSpPr>
            <p:nvPr/>
          </p:nvCxnSpPr>
          <p:spPr>
            <a:xfrm>
              <a:off x="439200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5" name=""/>
            <p:cNvCxnSpPr>
              <a:endCxn id="2255" idx="0"/>
            </p:cNvCxnSpPr>
            <p:nvPr/>
          </p:nvCxnSpPr>
          <p:spPr>
            <a:xfrm>
              <a:off x="4895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6" name=""/>
            <p:cNvCxnSpPr>
              <a:endCxn id="2256" idx="0"/>
            </p:cNvCxnSpPr>
            <p:nvPr/>
          </p:nvCxnSpPr>
          <p:spPr>
            <a:xfrm>
              <a:off x="540000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7" name=""/>
            <p:cNvCxnSpPr>
              <a:endCxn id="2258" idx="0"/>
            </p:cNvCxnSpPr>
            <p:nvPr/>
          </p:nvCxnSpPr>
          <p:spPr>
            <a:xfrm>
              <a:off x="5903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68" name=""/>
            <p:cNvSpPr/>
            <p:nvPr/>
          </p:nvSpPr>
          <p:spPr>
            <a:xfrm>
              <a:off x="2771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27636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0" name=""/>
            <p:cNvCxnSpPr>
              <a:stCxn id="2268" idx="6"/>
              <a:endCxn id="2269" idx="2"/>
            </p:cNvCxnSpPr>
            <p:nvPr/>
          </p:nvCxnSpPr>
          <p:spPr>
            <a:xfrm>
              <a:off x="2987640" y="3247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71" name=""/>
            <p:cNvSpPr/>
            <p:nvPr/>
          </p:nvSpPr>
          <p:spPr>
            <a:xfrm>
              <a:off x="3779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8436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3" name=""/>
            <p:cNvCxnSpPr>
              <a:stCxn id="2271" idx="6"/>
              <a:endCxn id="2272" idx="2"/>
            </p:cNvCxnSpPr>
            <p:nvPr/>
          </p:nvCxnSpPr>
          <p:spPr>
            <a:xfrm>
              <a:off x="3995640" y="3247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4" name=""/>
            <p:cNvCxnSpPr>
              <a:stCxn id="2269" idx="6"/>
              <a:endCxn id="2271" idx="2"/>
            </p:cNvCxnSpPr>
            <p:nvPr/>
          </p:nvCxnSpPr>
          <p:spPr>
            <a:xfrm>
              <a:off x="3492360" y="3247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75" name=""/>
            <p:cNvSpPr/>
            <p:nvPr/>
          </p:nvSpPr>
          <p:spPr>
            <a:xfrm>
              <a:off x="4787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292720" y="314028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7" name=""/>
            <p:cNvCxnSpPr>
              <a:stCxn id="2275" idx="6"/>
              <a:endCxn id="2276" idx="2"/>
            </p:cNvCxnSpPr>
            <p:nvPr/>
          </p:nvCxnSpPr>
          <p:spPr>
            <a:xfrm>
              <a:off x="5003280" y="3247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78" name=""/>
            <p:cNvSpPr/>
            <p:nvPr/>
          </p:nvSpPr>
          <p:spPr>
            <a:xfrm>
              <a:off x="5795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9" name=""/>
            <p:cNvCxnSpPr>
              <a:stCxn id="2276" idx="6"/>
              <a:endCxn id="2278" idx="2"/>
            </p:cNvCxnSpPr>
            <p:nvPr/>
          </p:nvCxnSpPr>
          <p:spPr>
            <a:xfrm>
              <a:off x="5508360" y="3247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0" name=""/>
            <p:cNvCxnSpPr>
              <a:stCxn id="2272" idx="6"/>
              <a:endCxn id="2275" idx="2"/>
            </p:cNvCxnSpPr>
            <p:nvPr/>
          </p:nvCxnSpPr>
          <p:spPr>
            <a:xfrm>
              <a:off x="4500360" y="3247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1" name=""/>
            <p:cNvCxnSpPr>
              <a:endCxn id="2268" idx="0"/>
            </p:cNvCxnSpPr>
            <p:nvPr/>
          </p:nvCxnSpPr>
          <p:spPr>
            <a:xfrm>
              <a:off x="2879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2" name=""/>
            <p:cNvCxnSpPr>
              <a:endCxn id="2269" idx="0"/>
            </p:cNvCxnSpPr>
            <p:nvPr/>
          </p:nvCxnSpPr>
          <p:spPr>
            <a:xfrm>
              <a:off x="338400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3" name=""/>
            <p:cNvCxnSpPr>
              <a:endCxn id="2271" idx="0"/>
            </p:cNvCxnSpPr>
            <p:nvPr/>
          </p:nvCxnSpPr>
          <p:spPr>
            <a:xfrm>
              <a:off x="3887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4" name=""/>
            <p:cNvCxnSpPr>
              <a:endCxn id="2272" idx="0"/>
            </p:cNvCxnSpPr>
            <p:nvPr/>
          </p:nvCxnSpPr>
          <p:spPr>
            <a:xfrm>
              <a:off x="439200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5" name=""/>
            <p:cNvCxnSpPr>
              <a:endCxn id="2275" idx="0"/>
            </p:cNvCxnSpPr>
            <p:nvPr/>
          </p:nvCxnSpPr>
          <p:spPr>
            <a:xfrm>
              <a:off x="4895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6" name=""/>
            <p:cNvCxnSpPr>
              <a:endCxn id="2276" idx="0"/>
            </p:cNvCxnSpPr>
            <p:nvPr/>
          </p:nvCxnSpPr>
          <p:spPr>
            <a:xfrm>
              <a:off x="540000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7" name=""/>
            <p:cNvCxnSpPr>
              <a:endCxn id="2278" idx="0"/>
            </p:cNvCxnSpPr>
            <p:nvPr/>
          </p:nvCxnSpPr>
          <p:spPr>
            <a:xfrm>
              <a:off x="5903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288" name=""/>
          <p:cNvSpPr/>
          <p:nvPr/>
        </p:nvSpPr>
        <p:spPr>
          <a:xfrm>
            <a:off x="2701440" y="371628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y arbitrary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P Relaxations on Tr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277164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3276720" y="981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2" name=""/>
          <p:cNvCxnSpPr>
            <a:stCxn id="2290" idx="6"/>
            <a:endCxn id="2291" idx="2"/>
          </p:cNvCxnSpPr>
          <p:nvPr/>
        </p:nvCxnSpPr>
        <p:spPr>
          <a:xfrm>
            <a:off x="2987280" y="1088640"/>
            <a:ext cx="28944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2293" name=""/>
          <p:cNvSpPr/>
          <p:nvPr/>
        </p:nvSpPr>
        <p:spPr>
          <a:xfrm>
            <a:off x="3780000" y="981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428472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5" name=""/>
          <p:cNvCxnSpPr>
            <a:stCxn id="2293" idx="6"/>
            <a:endCxn id="2294" idx="2"/>
          </p:cNvCxnSpPr>
          <p:nvPr/>
        </p:nvCxnSpPr>
        <p:spPr>
          <a:xfrm>
            <a:off x="3995280" y="1088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6" name=""/>
          <p:cNvCxnSpPr>
            <a:stCxn id="2291" idx="6"/>
            <a:endCxn id="2293" idx="2"/>
          </p:cNvCxnSpPr>
          <p:nvPr/>
        </p:nvCxnSpPr>
        <p:spPr>
          <a:xfrm>
            <a:off x="3492000" y="108864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97" name=""/>
          <p:cNvSpPr/>
          <p:nvPr/>
        </p:nvSpPr>
        <p:spPr>
          <a:xfrm>
            <a:off x="4788000" y="981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529272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9" name=""/>
          <p:cNvCxnSpPr>
            <a:stCxn id="2297" idx="6"/>
            <a:endCxn id="2298" idx="2"/>
          </p:cNvCxnSpPr>
          <p:nvPr/>
        </p:nvCxnSpPr>
        <p:spPr>
          <a:xfrm>
            <a:off x="5003280" y="1088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00" name=""/>
          <p:cNvSpPr/>
          <p:nvPr/>
        </p:nvSpPr>
        <p:spPr>
          <a:xfrm>
            <a:off x="579600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1" name=""/>
          <p:cNvCxnSpPr>
            <a:stCxn id="2298" idx="6"/>
            <a:endCxn id="2300" idx="2"/>
          </p:cNvCxnSpPr>
          <p:nvPr/>
        </p:nvCxnSpPr>
        <p:spPr>
          <a:xfrm>
            <a:off x="5508720" y="1088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2" name=""/>
          <p:cNvCxnSpPr>
            <a:stCxn id="2294" idx="6"/>
            <a:endCxn id="2297" idx="2"/>
          </p:cNvCxnSpPr>
          <p:nvPr/>
        </p:nvCxnSpPr>
        <p:spPr>
          <a:xfrm>
            <a:off x="4500720" y="1088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03" name=""/>
          <p:cNvSpPr/>
          <p:nvPr/>
        </p:nvSpPr>
        <p:spPr>
          <a:xfrm>
            <a:off x="277164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276720" y="141300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5" name=""/>
          <p:cNvCxnSpPr>
            <a:stCxn id="2303" idx="6"/>
            <a:endCxn id="2304" idx="2"/>
          </p:cNvCxnSpPr>
          <p:nvPr/>
        </p:nvCxnSpPr>
        <p:spPr>
          <a:xfrm>
            <a:off x="2987280" y="1520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06" name=""/>
          <p:cNvSpPr/>
          <p:nvPr/>
        </p:nvSpPr>
        <p:spPr>
          <a:xfrm>
            <a:off x="3780000" y="141300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428472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8" name=""/>
          <p:cNvCxnSpPr>
            <a:stCxn id="2306" idx="6"/>
            <a:endCxn id="2307" idx="2"/>
          </p:cNvCxnSpPr>
          <p:nvPr/>
        </p:nvCxnSpPr>
        <p:spPr>
          <a:xfrm>
            <a:off x="3995280" y="1520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9" name=""/>
          <p:cNvCxnSpPr>
            <a:stCxn id="2304" idx="6"/>
            <a:endCxn id="2306" idx="2"/>
          </p:cNvCxnSpPr>
          <p:nvPr/>
        </p:nvCxnSpPr>
        <p:spPr>
          <a:xfrm>
            <a:off x="3492000" y="1520640"/>
            <a:ext cx="28836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2310" name=""/>
          <p:cNvSpPr/>
          <p:nvPr/>
        </p:nvSpPr>
        <p:spPr>
          <a:xfrm>
            <a:off x="4788000" y="141300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529272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2" name=""/>
          <p:cNvCxnSpPr>
            <a:stCxn id="2310" idx="6"/>
            <a:endCxn id="2311" idx="2"/>
          </p:cNvCxnSpPr>
          <p:nvPr/>
        </p:nvCxnSpPr>
        <p:spPr>
          <a:xfrm>
            <a:off x="5003280" y="1520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3" name=""/>
          <p:cNvSpPr/>
          <p:nvPr/>
        </p:nvSpPr>
        <p:spPr>
          <a:xfrm>
            <a:off x="579600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4" name=""/>
          <p:cNvCxnSpPr>
            <a:stCxn id="2311" idx="6"/>
            <a:endCxn id="2313" idx="2"/>
          </p:cNvCxnSpPr>
          <p:nvPr/>
        </p:nvCxnSpPr>
        <p:spPr>
          <a:xfrm>
            <a:off x="5508720" y="1520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5" name=""/>
          <p:cNvCxnSpPr>
            <a:stCxn id="2307" idx="6"/>
            <a:endCxn id="2310" idx="2"/>
          </p:cNvCxnSpPr>
          <p:nvPr/>
        </p:nvCxnSpPr>
        <p:spPr>
          <a:xfrm>
            <a:off x="4500720" y="1520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6" name=""/>
          <p:cNvCxnSpPr>
            <a:stCxn id="2290" idx="4"/>
            <a:endCxn id="2303" idx="0"/>
          </p:cNvCxnSpPr>
          <p:nvPr/>
        </p:nvCxnSpPr>
        <p:spPr>
          <a:xfrm>
            <a:off x="287928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7" name=""/>
          <p:cNvCxnSpPr>
            <a:stCxn id="2291" idx="4"/>
            <a:endCxn id="2304" idx="0"/>
          </p:cNvCxnSpPr>
          <p:nvPr/>
        </p:nvCxnSpPr>
        <p:spPr>
          <a:xfrm>
            <a:off x="3384360" y="119700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318" name=""/>
          <p:cNvCxnSpPr>
            <a:stCxn id="2293" idx="4"/>
            <a:endCxn id="2306" idx="0"/>
          </p:cNvCxnSpPr>
          <p:nvPr/>
        </p:nvCxnSpPr>
        <p:spPr>
          <a:xfrm>
            <a:off x="388728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9" name=""/>
          <p:cNvCxnSpPr>
            <a:stCxn id="2294" idx="4"/>
            <a:endCxn id="2307" idx="0"/>
          </p:cNvCxnSpPr>
          <p:nvPr/>
        </p:nvCxnSpPr>
        <p:spPr>
          <a:xfrm>
            <a:off x="439236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0" name=""/>
          <p:cNvCxnSpPr>
            <a:stCxn id="2297" idx="4"/>
            <a:endCxn id="2310" idx="0"/>
          </p:cNvCxnSpPr>
          <p:nvPr/>
        </p:nvCxnSpPr>
        <p:spPr>
          <a:xfrm>
            <a:off x="489564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1" name=""/>
          <p:cNvCxnSpPr>
            <a:stCxn id="2298" idx="4"/>
            <a:endCxn id="2311" idx="0"/>
          </p:cNvCxnSpPr>
          <p:nvPr/>
        </p:nvCxnSpPr>
        <p:spPr>
          <a:xfrm>
            <a:off x="540036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2" name=""/>
          <p:cNvCxnSpPr>
            <a:stCxn id="2300" idx="4"/>
            <a:endCxn id="2313" idx="0"/>
          </p:cNvCxnSpPr>
          <p:nvPr/>
        </p:nvCxnSpPr>
        <p:spPr>
          <a:xfrm>
            <a:off x="590364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23" name=""/>
          <p:cNvSpPr/>
          <p:nvPr/>
        </p:nvSpPr>
        <p:spPr>
          <a:xfrm>
            <a:off x="277164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276720" y="1844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5" name=""/>
          <p:cNvCxnSpPr>
            <a:stCxn id="2323" idx="6"/>
            <a:endCxn id="2324" idx="2"/>
          </p:cNvCxnSpPr>
          <p:nvPr/>
        </p:nvCxnSpPr>
        <p:spPr>
          <a:xfrm>
            <a:off x="2987280" y="1952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26" name=""/>
          <p:cNvSpPr/>
          <p:nvPr/>
        </p:nvSpPr>
        <p:spPr>
          <a:xfrm>
            <a:off x="3780000" y="1844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428472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8" name=""/>
          <p:cNvCxnSpPr>
            <a:stCxn id="2326" idx="6"/>
            <a:endCxn id="2327" idx="2"/>
          </p:cNvCxnSpPr>
          <p:nvPr/>
        </p:nvCxnSpPr>
        <p:spPr>
          <a:xfrm>
            <a:off x="3995280" y="1952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9" name=""/>
          <p:cNvCxnSpPr>
            <a:stCxn id="2324" idx="6"/>
            <a:endCxn id="2326" idx="2"/>
          </p:cNvCxnSpPr>
          <p:nvPr/>
        </p:nvCxnSpPr>
        <p:spPr>
          <a:xfrm>
            <a:off x="3492000" y="195228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30" name=""/>
          <p:cNvSpPr/>
          <p:nvPr/>
        </p:nvSpPr>
        <p:spPr>
          <a:xfrm>
            <a:off x="4788000" y="1844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29272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2" name=""/>
          <p:cNvCxnSpPr>
            <a:stCxn id="2330" idx="6"/>
            <a:endCxn id="2331" idx="2"/>
          </p:cNvCxnSpPr>
          <p:nvPr/>
        </p:nvCxnSpPr>
        <p:spPr>
          <a:xfrm>
            <a:off x="5003280" y="1952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33" name=""/>
          <p:cNvSpPr/>
          <p:nvPr/>
        </p:nvSpPr>
        <p:spPr>
          <a:xfrm>
            <a:off x="579600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4" name=""/>
          <p:cNvCxnSpPr>
            <a:stCxn id="2331" idx="6"/>
            <a:endCxn id="2333" idx="2"/>
          </p:cNvCxnSpPr>
          <p:nvPr/>
        </p:nvCxnSpPr>
        <p:spPr>
          <a:xfrm>
            <a:off x="5508720" y="1952280"/>
            <a:ext cx="28800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335" name=""/>
          <p:cNvCxnSpPr>
            <a:stCxn id="2327" idx="6"/>
            <a:endCxn id="2330" idx="2"/>
          </p:cNvCxnSpPr>
          <p:nvPr/>
        </p:nvCxnSpPr>
        <p:spPr>
          <a:xfrm>
            <a:off x="4500720" y="1952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6" name=""/>
          <p:cNvCxnSpPr>
            <a:endCxn id="2323" idx="0"/>
          </p:cNvCxnSpPr>
          <p:nvPr/>
        </p:nvCxnSpPr>
        <p:spPr>
          <a:xfrm>
            <a:off x="287928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7" name=""/>
          <p:cNvCxnSpPr>
            <a:endCxn id="2324" idx="0"/>
          </p:cNvCxnSpPr>
          <p:nvPr/>
        </p:nvCxnSpPr>
        <p:spPr>
          <a:xfrm>
            <a:off x="338436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8" name=""/>
          <p:cNvCxnSpPr>
            <a:endCxn id="2326" idx="0"/>
          </p:cNvCxnSpPr>
          <p:nvPr/>
        </p:nvCxnSpPr>
        <p:spPr>
          <a:xfrm>
            <a:off x="3887280" y="162864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339" name=""/>
          <p:cNvCxnSpPr>
            <a:endCxn id="2327" idx="0"/>
          </p:cNvCxnSpPr>
          <p:nvPr/>
        </p:nvCxnSpPr>
        <p:spPr>
          <a:xfrm>
            <a:off x="439236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0" name=""/>
          <p:cNvCxnSpPr>
            <a:endCxn id="2330" idx="0"/>
          </p:cNvCxnSpPr>
          <p:nvPr/>
        </p:nvCxnSpPr>
        <p:spPr>
          <a:xfrm>
            <a:off x="489564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1" name=""/>
          <p:cNvCxnSpPr>
            <a:endCxn id="2331" idx="0"/>
          </p:cNvCxnSpPr>
          <p:nvPr/>
        </p:nvCxnSpPr>
        <p:spPr>
          <a:xfrm>
            <a:off x="5400360" y="162864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342" name=""/>
          <p:cNvCxnSpPr>
            <a:endCxn id="2333" idx="0"/>
          </p:cNvCxnSpPr>
          <p:nvPr/>
        </p:nvCxnSpPr>
        <p:spPr>
          <a:xfrm>
            <a:off x="590364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43" name=""/>
          <p:cNvSpPr/>
          <p:nvPr/>
        </p:nvSpPr>
        <p:spPr>
          <a:xfrm>
            <a:off x="277164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3276720" y="227664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5" name=""/>
          <p:cNvCxnSpPr>
            <a:stCxn id="2343" idx="6"/>
            <a:endCxn id="2344" idx="2"/>
          </p:cNvCxnSpPr>
          <p:nvPr/>
        </p:nvCxnSpPr>
        <p:spPr>
          <a:xfrm>
            <a:off x="2987280" y="2383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46" name=""/>
          <p:cNvSpPr/>
          <p:nvPr/>
        </p:nvSpPr>
        <p:spPr>
          <a:xfrm>
            <a:off x="3780000" y="227664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428472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8" name=""/>
          <p:cNvCxnSpPr>
            <a:stCxn id="2346" idx="6"/>
            <a:endCxn id="2347" idx="2"/>
          </p:cNvCxnSpPr>
          <p:nvPr/>
        </p:nvCxnSpPr>
        <p:spPr>
          <a:xfrm>
            <a:off x="3995280" y="2383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9" name=""/>
          <p:cNvCxnSpPr>
            <a:stCxn id="2344" idx="6"/>
            <a:endCxn id="2346" idx="2"/>
          </p:cNvCxnSpPr>
          <p:nvPr/>
        </p:nvCxnSpPr>
        <p:spPr>
          <a:xfrm>
            <a:off x="3492000" y="238392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0" name=""/>
          <p:cNvSpPr/>
          <p:nvPr/>
        </p:nvSpPr>
        <p:spPr>
          <a:xfrm>
            <a:off x="4788000" y="227664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529272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2" name=""/>
          <p:cNvCxnSpPr>
            <a:stCxn id="2350" idx="6"/>
            <a:endCxn id="2351" idx="2"/>
          </p:cNvCxnSpPr>
          <p:nvPr/>
        </p:nvCxnSpPr>
        <p:spPr>
          <a:xfrm>
            <a:off x="5003280" y="2383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3" name=""/>
          <p:cNvSpPr/>
          <p:nvPr/>
        </p:nvSpPr>
        <p:spPr>
          <a:xfrm>
            <a:off x="579600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4" name=""/>
          <p:cNvCxnSpPr>
            <a:stCxn id="2351" idx="6"/>
            <a:endCxn id="2353" idx="2"/>
          </p:cNvCxnSpPr>
          <p:nvPr/>
        </p:nvCxnSpPr>
        <p:spPr>
          <a:xfrm>
            <a:off x="5508720" y="2383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5" name=""/>
          <p:cNvCxnSpPr>
            <a:stCxn id="2347" idx="6"/>
            <a:endCxn id="2350" idx="2"/>
          </p:cNvCxnSpPr>
          <p:nvPr/>
        </p:nvCxnSpPr>
        <p:spPr>
          <a:xfrm>
            <a:off x="4500720" y="2383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6" name=""/>
          <p:cNvCxnSpPr>
            <a:endCxn id="2343" idx="0"/>
          </p:cNvCxnSpPr>
          <p:nvPr/>
        </p:nvCxnSpPr>
        <p:spPr>
          <a:xfrm>
            <a:off x="287928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7" name=""/>
          <p:cNvCxnSpPr>
            <a:endCxn id="2344" idx="0"/>
          </p:cNvCxnSpPr>
          <p:nvPr/>
        </p:nvCxnSpPr>
        <p:spPr>
          <a:xfrm>
            <a:off x="338436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8" name=""/>
          <p:cNvCxnSpPr>
            <a:endCxn id="2346" idx="0"/>
          </p:cNvCxnSpPr>
          <p:nvPr/>
        </p:nvCxnSpPr>
        <p:spPr>
          <a:xfrm>
            <a:off x="3887280" y="206064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359" name=""/>
          <p:cNvCxnSpPr>
            <a:endCxn id="2347" idx="0"/>
          </p:cNvCxnSpPr>
          <p:nvPr/>
        </p:nvCxnSpPr>
        <p:spPr>
          <a:xfrm>
            <a:off x="439236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0" name=""/>
          <p:cNvCxnSpPr>
            <a:endCxn id="2350" idx="0"/>
          </p:cNvCxnSpPr>
          <p:nvPr/>
        </p:nvCxnSpPr>
        <p:spPr>
          <a:xfrm>
            <a:off x="489564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1" name=""/>
          <p:cNvCxnSpPr>
            <a:endCxn id="2351" idx="0"/>
          </p:cNvCxnSpPr>
          <p:nvPr/>
        </p:nvCxnSpPr>
        <p:spPr>
          <a:xfrm>
            <a:off x="540036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2" name=""/>
          <p:cNvCxnSpPr>
            <a:endCxn id="2353" idx="0"/>
          </p:cNvCxnSpPr>
          <p:nvPr/>
        </p:nvCxnSpPr>
        <p:spPr>
          <a:xfrm>
            <a:off x="5903640" y="206064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2363" name=""/>
          <p:cNvSpPr/>
          <p:nvPr/>
        </p:nvSpPr>
        <p:spPr>
          <a:xfrm>
            <a:off x="277164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3276720" y="270828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5" name=""/>
          <p:cNvCxnSpPr>
            <a:stCxn id="2363" idx="6"/>
            <a:endCxn id="2364" idx="2"/>
          </p:cNvCxnSpPr>
          <p:nvPr/>
        </p:nvCxnSpPr>
        <p:spPr>
          <a:xfrm>
            <a:off x="2987280" y="2815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66" name=""/>
          <p:cNvSpPr/>
          <p:nvPr/>
        </p:nvSpPr>
        <p:spPr>
          <a:xfrm>
            <a:off x="3780000" y="270828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28472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8" name=""/>
          <p:cNvCxnSpPr>
            <a:stCxn id="2366" idx="6"/>
            <a:endCxn id="2367" idx="2"/>
          </p:cNvCxnSpPr>
          <p:nvPr/>
        </p:nvCxnSpPr>
        <p:spPr>
          <a:xfrm>
            <a:off x="3995280" y="2815920"/>
            <a:ext cx="28944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369" name=""/>
          <p:cNvCxnSpPr>
            <a:stCxn id="2364" idx="6"/>
            <a:endCxn id="2366" idx="2"/>
          </p:cNvCxnSpPr>
          <p:nvPr/>
        </p:nvCxnSpPr>
        <p:spPr>
          <a:xfrm>
            <a:off x="3492000" y="281592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70" name=""/>
          <p:cNvSpPr/>
          <p:nvPr/>
        </p:nvSpPr>
        <p:spPr>
          <a:xfrm>
            <a:off x="4788000" y="270828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529272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2" name=""/>
          <p:cNvCxnSpPr>
            <a:stCxn id="2370" idx="6"/>
            <a:endCxn id="2371" idx="2"/>
          </p:cNvCxnSpPr>
          <p:nvPr/>
        </p:nvCxnSpPr>
        <p:spPr>
          <a:xfrm>
            <a:off x="5003280" y="2815920"/>
            <a:ext cx="28944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2373" name=""/>
          <p:cNvSpPr/>
          <p:nvPr/>
        </p:nvSpPr>
        <p:spPr>
          <a:xfrm>
            <a:off x="579600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4" name=""/>
          <p:cNvCxnSpPr>
            <a:stCxn id="2371" idx="6"/>
            <a:endCxn id="2373" idx="2"/>
          </p:cNvCxnSpPr>
          <p:nvPr/>
        </p:nvCxnSpPr>
        <p:spPr>
          <a:xfrm>
            <a:off x="5508720" y="2815920"/>
            <a:ext cx="28800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375" name=""/>
          <p:cNvCxnSpPr>
            <a:stCxn id="2367" idx="6"/>
            <a:endCxn id="2370" idx="2"/>
          </p:cNvCxnSpPr>
          <p:nvPr/>
        </p:nvCxnSpPr>
        <p:spPr>
          <a:xfrm>
            <a:off x="4500720" y="2815920"/>
            <a:ext cx="28800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376" name=""/>
          <p:cNvCxnSpPr>
            <a:endCxn id="2363" idx="0"/>
          </p:cNvCxnSpPr>
          <p:nvPr/>
        </p:nvCxnSpPr>
        <p:spPr>
          <a:xfrm>
            <a:off x="287928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7" name=""/>
          <p:cNvCxnSpPr>
            <a:endCxn id="2364" idx="0"/>
          </p:cNvCxnSpPr>
          <p:nvPr/>
        </p:nvCxnSpPr>
        <p:spPr>
          <a:xfrm>
            <a:off x="338436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8" name=""/>
          <p:cNvCxnSpPr>
            <a:endCxn id="2366" idx="0"/>
          </p:cNvCxnSpPr>
          <p:nvPr/>
        </p:nvCxnSpPr>
        <p:spPr>
          <a:xfrm>
            <a:off x="3887280" y="249228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379" name=""/>
          <p:cNvCxnSpPr>
            <a:endCxn id="2367" idx="0"/>
          </p:cNvCxnSpPr>
          <p:nvPr/>
        </p:nvCxnSpPr>
        <p:spPr>
          <a:xfrm>
            <a:off x="439236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0" name=""/>
          <p:cNvCxnSpPr>
            <a:endCxn id="2370" idx="0"/>
          </p:cNvCxnSpPr>
          <p:nvPr/>
        </p:nvCxnSpPr>
        <p:spPr>
          <a:xfrm>
            <a:off x="489564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1" name=""/>
          <p:cNvCxnSpPr>
            <a:endCxn id="2371" idx="0"/>
          </p:cNvCxnSpPr>
          <p:nvPr/>
        </p:nvCxnSpPr>
        <p:spPr>
          <a:xfrm>
            <a:off x="540036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2" name=""/>
          <p:cNvCxnSpPr>
            <a:endCxn id="2373" idx="0"/>
          </p:cNvCxnSpPr>
          <p:nvPr/>
        </p:nvCxnSpPr>
        <p:spPr>
          <a:xfrm>
            <a:off x="5903640" y="249228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2383" name=""/>
          <p:cNvSpPr/>
          <p:nvPr/>
        </p:nvSpPr>
        <p:spPr>
          <a:xfrm>
            <a:off x="277164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3276720" y="313992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5" name=""/>
          <p:cNvCxnSpPr>
            <a:stCxn id="2383" idx="6"/>
            <a:endCxn id="2384" idx="2"/>
          </p:cNvCxnSpPr>
          <p:nvPr/>
        </p:nvCxnSpPr>
        <p:spPr>
          <a:xfrm>
            <a:off x="2987280" y="32475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86" name=""/>
          <p:cNvSpPr/>
          <p:nvPr/>
        </p:nvSpPr>
        <p:spPr>
          <a:xfrm>
            <a:off x="3780000" y="313992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428472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8" name=""/>
          <p:cNvCxnSpPr>
            <a:stCxn id="2386" idx="6"/>
            <a:endCxn id="2387" idx="2"/>
          </p:cNvCxnSpPr>
          <p:nvPr/>
        </p:nvCxnSpPr>
        <p:spPr>
          <a:xfrm>
            <a:off x="3995280" y="32475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9" name=""/>
          <p:cNvCxnSpPr>
            <a:stCxn id="2384" idx="6"/>
            <a:endCxn id="2386" idx="2"/>
          </p:cNvCxnSpPr>
          <p:nvPr/>
        </p:nvCxnSpPr>
        <p:spPr>
          <a:xfrm>
            <a:off x="3492000" y="324756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0" name=""/>
          <p:cNvSpPr/>
          <p:nvPr/>
        </p:nvSpPr>
        <p:spPr>
          <a:xfrm>
            <a:off x="4788000" y="313992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29272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2" name=""/>
          <p:cNvCxnSpPr>
            <a:stCxn id="2390" idx="6"/>
            <a:endCxn id="2391" idx="2"/>
          </p:cNvCxnSpPr>
          <p:nvPr/>
        </p:nvCxnSpPr>
        <p:spPr>
          <a:xfrm>
            <a:off x="5003280" y="32475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3" name=""/>
          <p:cNvSpPr/>
          <p:nvPr/>
        </p:nvSpPr>
        <p:spPr>
          <a:xfrm>
            <a:off x="579600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4" name=""/>
          <p:cNvCxnSpPr>
            <a:stCxn id="2391" idx="6"/>
            <a:endCxn id="2393" idx="2"/>
          </p:cNvCxnSpPr>
          <p:nvPr/>
        </p:nvCxnSpPr>
        <p:spPr>
          <a:xfrm>
            <a:off x="5508720" y="324756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5" name=""/>
          <p:cNvCxnSpPr>
            <a:stCxn id="2387" idx="6"/>
            <a:endCxn id="2390" idx="2"/>
          </p:cNvCxnSpPr>
          <p:nvPr/>
        </p:nvCxnSpPr>
        <p:spPr>
          <a:xfrm>
            <a:off x="4500720" y="324756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6" name=""/>
          <p:cNvCxnSpPr>
            <a:endCxn id="2383" idx="0"/>
          </p:cNvCxnSpPr>
          <p:nvPr/>
        </p:nvCxnSpPr>
        <p:spPr>
          <a:xfrm>
            <a:off x="287928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7" name=""/>
          <p:cNvCxnSpPr>
            <a:endCxn id="2384" idx="0"/>
          </p:cNvCxnSpPr>
          <p:nvPr/>
        </p:nvCxnSpPr>
        <p:spPr>
          <a:xfrm>
            <a:off x="338436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8" name=""/>
          <p:cNvCxnSpPr>
            <a:endCxn id="2386" idx="0"/>
          </p:cNvCxnSpPr>
          <p:nvPr/>
        </p:nvCxnSpPr>
        <p:spPr>
          <a:xfrm>
            <a:off x="388728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9" name=""/>
          <p:cNvCxnSpPr>
            <a:endCxn id="2387" idx="0"/>
          </p:cNvCxnSpPr>
          <p:nvPr/>
        </p:nvCxnSpPr>
        <p:spPr>
          <a:xfrm>
            <a:off x="439236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0" name=""/>
          <p:cNvCxnSpPr>
            <a:endCxn id="2390" idx="0"/>
          </p:cNvCxnSpPr>
          <p:nvPr/>
        </p:nvCxnSpPr>
        <p:spPr>
          <a:xfrm>
            <a:off x="489564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1" name=""/>
          <p:cNvCxnSpPr>
            <a:endCxn id="2391" idx="0"/>
          </p:cNvCxnSpPr>
          <p:nvPr/>
        </p:nvCxnSpPr>
        <p:spPr>
          <a:xfrm>
            <a:off x="540036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2" name=""/>
          <p:cNvCxnSpPr>
            <a:endCxn id="2393" idx="0"/>
          </p:cNvCxnSpPr>
          <p:nvPr/>
        </p:nvCxnSpPr>
        <p:spPr>
          <a:xfrm>
            <a:off x="590364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03" name=""/>
          <p:cNvSpPr/>
          <p:nvPr/>
        </p:nvSpPr>
        <p:spPr>
          <a:xfrm>
            <a:off x="2485080" y="371628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y arbitrary C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4" name="" descr=""/>
          <p:cNvPicPr/>
          <p:nvPr/>
        </p:nvPicPr>
        <p:blipFill>
          <a:blip r:embed="rId1"/>
          <a:stretch/>
        </p:blipFill>
        <p:spPr>
          <a:xfrm>
            <a:off x="5724360" y="3784680"/>
            <a:ext cx="303480" cy="344520"/>
          </a:xfrm>
          <a:prstGeom prst="rect">
            <a:avLst/>
          </a:prstGeom>
          <a:ln w="0">
            <a:noFill/>
          </a:ln>
        </p:spPr>
      </p:pic>
      <p:sp>
        <p:nvSpPr>
          <p:cNvPr id="2405" name=""/>
          <p:cNvSpPr/>
          <p:nvPr/>
        </p:nvSpPr>
        <p:spPr>
          <a:xfrm>
            <a:off x="1788480" y="443700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over trees to get relaxation SOCP-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1684800" y="5373720"/>
            <a:ext cx="59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P-S strictly dominates SOCP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962720" y="6162840"/>
            <a:ext cx="54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P-S strictly dominates QP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685800" y="1309680"/>
            <a:ext cx="77724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Programming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Relax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liz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P Relaxations 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CP Relaxations on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P Relaxations on Cyc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2771640" y="981000"/>
            <a:ext cx="3240000" cy="2374920"/>
            <a:chOff x="2771640" y="981000"/>
            <a:chExt cx="3240000" cy="2374920"/>
          </a:xfrm>
        </p:grpSpPr>
        <p:sp>
          <p:nvSpPr>
            <p:cNvPr id="2412" name=""/>
            <p:cNvSpPr/>
            <p:nvPr/>
          </p:nvSpPr>
          <p:spPr>
            <a:xfrm>
              <a:off x="2771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27636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4" name=""/>
            <p:cNvCxnSpPr>
              <a:stCxn id="2412" idx="6"/>
              <a:endCxn id="2413" idx="2"/>
            </p:cNvCxnSpPr>
            <p:nvPr/>
          </p:nvCxnSpPr>
          <p:spPr>
            <a:xfrm>
              <a:off x="2987640" y="1088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15" name=""/>
            <p:cNvSpPr/>
            <p:nvPr/>
          </p:nvSpPr>
          <p:spPr>
            <a:xfrm>
              <a:off x="3779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28436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7" name=""/>
            <p:cNvCxnSpPr>
              <a:stCxn id="2415" idx="6"/>
              <a:endCxn id="2416" idx="2"/>
            </p:cNvCxnSpPr>
            <p:nvPr/>
          </p:nvCxnSpPr>
          <p:spPr>
            <a:xfrm>
              <a:off x="3995640" y="1088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18" name=""/>
            <p:cNvCxnSpPr>
              <a:stCxn id="2413" idx="6"/>
              <a:endCxn id="2415" idx="2"/>
            </p:cNvCxnSpPr>
            <p:nvPr/>
          </p:nvCxnSpPr>
          <p:spPr>
            <a:xfrm>
              <a:off x="3492360" y="1088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19" name=""/>
            <p:cNvSpPr/>
            <p:nvPr/>
          </p:nvSpPr>
          <p:spPr>
            <a:xfrm>
              <a:off x="4787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292720" y="98100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1" name=""/>
            <p:cNvCxnSpPr>
              <a:stCxn id="2419" idx="6"/>
              <a:endCxn id="2420" idx="2"/>
            </p:cNvCxnSpPr>
            <p:nvPr/>
          </p:nvCxnSpPr>
          <p:spPr>
            <a:xfrm>
              <a:off x="5003280" y="1088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2" name=""/>
            <p:cNvSpPr/>
            <p:nvPr/>
          </p:nvSpPr>
          <p:spPr>
            <a:xfrm>
              <a:off x="5795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3" name=""/>
            <p:cNvCxnSpPr>
              <a:stCxn id="2420" idx="6"/>
              <a:endCxn id="2422" idx="2"/>
            </p:cNvCxnSpPr>
            <p:nvPr/>
          </p:nvCxnSpPr>
          <p:spPr>
            <a:xfrm>
              <a:off x="5508360" y="1088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24" name=""/>
            <p:cNvCxnSpPr>
              <a:stCxn id="2416" idx="6"/>
              <a:endCxn id="2419" idx="2"/>
            </p:cNvCxnSpPr>
            <p:nvPr/>
          </p:nvCxnSpPr>
          <p:spPr>
            <a:xfrm>
              <a:off x="4500360" y="1088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5" name=""/>
            <p:cNvSpPr/>
            <p:nvPr/>
          </p:nvSpPr>
          <p:spPr>
            <a:xfrm>
              <a:off x="2771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27636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7" name=""/>
            <p:cNvCxnSpPr>
              <a:stCxn id="2425" idx="6"/>
              <a:endCxn id="2426" idx="2"/>
            </p:cNvCxnSpPr>
            <p:nvPr/>
          </p:nvCxnSpPr>
          <p:spPr>
            <a:xfrm>
              <a:off x="2987640" y="1520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8" name=""/>
            <p:cNvSpPr/>
            <p:nvPr/>
          </p:nvSpPr>
          <p:spPr>
            <a:xfrm>
              <a:off x="3779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28436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0" name=""/>
            <p:cNvCxnSpPr>
              <a:stCxn id="2428" idx="6"/>
              <a:endCxn id="2429" idx="2"/>
            </p:cNvCxnSpPr>
            <p:nvPr/>
          </p:nvCxnSpPr>
          <p:spPr>
            <a:xfrm>
              <a:off x="3995640" y="1520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31" name=""/>
            <p:cNvCxnSpPr>
              <a:stCxn id="2426" idx="6"/>
              <a:endCxn id="2428" idx="2"/>
            </p:cNvCxnSpPr>
            <p:nvPr/>
          </p:nvCxnSpPr>
          <p:spPr>
            <a:xfrm>
              <a:off x="3492360" y="1520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32" name=""/>
            <p:cNvSpPr/>
            <p:nvPr/>
          </p:nvSpPr>
          <p:spPr>
            <a:xfrm>
              <a:off x="4787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292720" y="141300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4" name=""/>
            <p:cNvCxnSpPr>
              <a:stCxn id="2432" idx="6"/>
              <a:endCxn id="2433" idx="2"/>
            </p:cNvCxnSpPr>
            <p:nvPr/>
          </p:nvCxnSpPr>
          <p:spPr>
            <a:xfrm>
              <a:off x="5003280" y="1520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35" name=""/>
            <p:cNvSpPr/>
            <p:nvPr/>
          </p:nvSpPr>
          <p:spPr>
            <a:xfrm>
              <a:off x="5795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6" name=""/>
            <p:cNvCxnSpPr>
              <a:stCxn id="2433" idx="6"/>
              <a:endCxn id="2435" idx="2"/>
            </p:cNvCxnSpPr>
            <p:nvPr/>
          </p:nvCxnSpPr>
          <p:spPr>
            <a:xfrm>
              <a:off x="5508360" y="1520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37" name=""/>
            <p:cNvCxnSpPr>
              <a:stCxn id="2429" idx="6"/>
              <a:endCxn id="2432" idx="2"/>
            </p:cNvCxnSpPr>
            <p:nvPr/>
          </p:nvCxnSpPr>
          <p:spPr>
            <a:xfrm>
              <a:off x="4500360" y="1520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38" name=""/>
            <p:cNvCxnSpPr>
              <a:stCxn id="2412" idx="4"/>
              <a:endCxn id="2425" idx="0"/>
            </p:cNvCxnSpPr>
            <p:nvPr/>
          </p:nvCxnSpPr>
          <p:spPr>
            <a:xfrm>
              <a:off x="2879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39" name=""/>
            <p:cNvCxnSpPr>
              <a:stCxn id="2413" idx="4"/>
              <a:endCxn id="2426" idx="0"/>
            </p:cNvCxnSpPr>
            <p:nvPr/>
          </p:nvCxnSpPr>
          <p:spPr>
            <a:xfrm>
              <a:off x="338400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0" name=""/>
            <p:cNvCxnSpPr>
              <a:stCxn id="2415" idx="4"/>
              <a:endCxn id="2428" idx="0"/>
            </p:cNvCxnSpPr>
            <p:nvPr/>
          </p:nvCxnSpPr>
          <p:spPr>
            <a:xfrm>
              <a:off x="3887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1" name=""/>
            <p:cNvCxnSpPr>
              <a:stCxn id="2416" idx="4"/>
              <a:endCxn id="2429" idx="0"/>
            </p:cNvCxnSpPr>
            <p:nvPr/>
          </p:nvCxnSpPr>
          <p:spPr>
            <a:xfrm>
              <a:off x="439200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2" name=""/>
            <p:cNvCxnSpPr>
              <a:stCxn id="2419" idx="4"/>
              <a:endCxn id="2432" idx="0"/>
            </p:cNvCxnSpPr>
            <p:nvPr/>
          </p:nvCxnSpPr>
          <p:spPr>
            <a:xfrm>
              <a:off x="4895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3" name=""/>
            <p:cNvCxnSpPr>
              <a:stCxn id="2420" idx="4"/>
              <a:endCxn id="2433" idx="0"/>
            </p:cNvCxnSpPr>
            <p:nvPr/>
          </p:nvCxnSpPr>
          <p:spPr>
            <a:xfrm>
              <a:off x="540000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4" name=""/>
            <p:cNvCxnSpPr>
              <a:stCxn id="2422" idx="4"/>
              <a:endCxn id="2435" idx="0"/>
            </p:cNvCxnSpPr>
            <p:nvPr/>
          </p:nvCxnSpPr>
          <p:spPr>
            <a:xfrm>
              <a:off x="5903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45" name=""/>
            <p:cNvSpPr/>
            <p:nvPr/>
          </p:nvSpPr>
          <p:spPr>
            <a:xfrm>
              <a:off x="2771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27636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47" name=""/>
            <p:cNvCxnSpPr>
              <a:stCxn id="2445" idx="6"/>
              <a:endCxn id="2446" idx="2"/>
            </p:cNvCxnSpPr>
            <p:nvPr/>
          </p:nvCxnSpPr>
          <p:spPr>
            <a:xfrm>
              <a:off x="2987640" y="1952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48" name=""/>
            <p:cNvSpPr/>
            <p:nvPr/>
          </p:nvSpPr>
          <p:spPr>
            <a:xfrm>
              <a:off x="3779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28436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0" name=""/>
            <p:cNvCxnSpPr>
              <a:stCxn id="2448" idx="6"/>
              <a:endCxn id="2449" idx="2"/>
            </p:cNvCxnSpPr>
            <p:nvPr/>
          </p:nvCxnSpPr>
          <p:spPr>
            <a:xfrm>
              <a:off x="3995640" y="1952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1" name=""/>
            <p:cNvCxnSpPr>
              <a:stCxn id="2446" idx="6"/>
              <a:endCxn id="2448" idx="2"/>
            </p:cNvCxnSpPr>
            <p:nvPr/>
          </p:nvCxnSpPr>
          <p:spPr>
            <a:xfrm>
              <a:off x="3492360" y="1952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52" name=""/>
            <p:cNvSpPr/>
            <p:nvPr/>
          </p:nvSpPr>
          <p:spPr>
            <a:xfrm>
              <a:off x="4787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292720" y="18446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4" name=""/>
            <p:cNvCxnSpPr>
              <a:stCxn id="2452" idx="6"/>
              <a:endCxn id="2453" idx="2"/>
            </p:cNvCxnSpPr>
            <p:nvPr/>
          </p:nvCxnSpPr>
          <p:spPr>
            <a:xfrm>
              <a:off x="5003280" y="1952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55" name=""/>
            <p:cNvSpPr/>
            <p:nvPr/>
          </p:nvSpPr>
          <p:spPr>
            <a:xfrm>
              <a:off x="5795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6" name=""/>
            <p:cNvCxnSpPr>
              <a:stCxn id="2453" idx="6"/>
              <a:endCxn id="2455" idx="2"/>
            </p:cNvCxnSpPr>
            <p:nvPr/>
          </p:nvCxnSpPr>
          <p:spPr>
            <a:xfrm>
              <a:off x="5508360" y="1952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7" name=""/>
            <p:cNvCxnSpPr>
              <a:stCxn id="2449" idx="6"/>
              <a:endCxn id="2452" idx="2"/>
            </p:cNvCxnSpPr>
            <p:nvPr/>
          </p:nvCxnSpPr>
          <p:spPr>
            <a:xfrm>
              <a:off x="4500360" y="1952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8" name=""/>
            <p:cNvCxnSpPr>
              <a:endCxn id="2445" idx="0"/>
            </p:cNvCxnSpPr>
            <p:nvPr/>
          </p:nvCxnSpPr>
          <p:spPr>
            <a:xfrm>
              <a:off x="2879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9" name=""/>
            <p:cNvCxnSpPr>
              <a:endCxn id="2446" idx="0"/>
            </p:cNvCxnSpPr>
            <p:nvPr/>
          </p:nvCxnSpPr>
          <p:spPr>
            <a:xfrm>
              <a:off x="338400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0" name=""/>
            <p:cNvCxnSpPr>
              <a:endCxn id="2448" idx="0"/>
            </p:cNvCxnSpPr>
            <p:nvPr/>
          </p:nvCxnSpPr>
          <p:spPr>
            <a:xfrm>
              <a:off x="3887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1" name=""/>
            <p:cNvCxnSpPr>
              <a:endCxn id="2449" idx="0"/>
            </p:cNvCxnSpPr>
            <p:nvPr/>
          </p:nvCxnSpPr>
          <p:spPr>
            <a:xfrm>
              <a:off x="439200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2" name=""/>
            <p:cNvCxnSpPr>
              <a:endCxn id="2452" idx="0"/>
            </p:cNvCxnSpPr>
            <p:nvPr/>
          </p:nvCxnSpPr>
          <p:spPr>
            <a:xfrm>
              <a:off x="4895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3" name=""/>
            <p:cNvCxnSpPr>
              <a:endCxn id="2453" idx="0"/>
            </p:cNvCxnSpPr>
            <p:nvPr/>
          </p:nvCxnSpPr>
          <p:spPr>
            <a:xfrm>
              <a:off x="540000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4" name=""/>
            <p:cNvCxnSpPr>
              <a:endCxn id="2455" idx="0"/>
            </p:cNvCxnSpPr>
            <p:nvPr/>
          </p:nvCxnSpPr>
          <p:spPr>
            <a:xfrm>
              <a:off x="5903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65" name=""/>
            <p:cNvSpPr/>
            <p:nvPr/>
          </p:nvSpPr>
          <p:spPr>
            <a:xfrm>
              <a:off x="2771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27636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7" name=""/>
            <p:cNvCxnSpPr>
              <a:stCxn id="2465" idx="6"/>
              <a:endCxn id="2466" idx="2"/>
            </p:cNvCxnSpPr>
            <p:nvPr/>
          </p:nvCxnSpPr>
          <p:spPr>
            <a:xfrm>
              <a:off x="2987640" y="2384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68" name=""/>
            <p:cNvSpPr/>
            <p:nvPr/>
          </p:nvSpPr>
          <p:spPr>
            <a:xfrm>
              <a:off x="3779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28436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0" name=""/>
            <p:cNvCxnSpPr>
              <a:stCxn id="2468" idx="6"/>
              <a:endCxn id="2469" idx="2"/>
            </p:cNvCxnSpPr>
            <p:nvPr/>
          </p:nvCxnSpPr>
          <p:spPr>
            <a:xfrm>
              <a:off x="3995640" y="2384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1" name=""/>
            <p:cNvCxnSpPr>
              <a:stCxn id="2466" idx="6"/>
              <a:endCxn id="2468" idx="2"/>
            </p:cNvCxnSpPr>
            <p:nvPr/>
          </p:nvCxnSpPr>
          <p:spPr>
            <a:xfrm>
              <a:off x="3492360" y="2384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72" name=""/>
            <p:cNvSpPr/>
            <p:nvPr/>
          </p:nvSpPr>
          <p:spPr>
            <a:xfrm>
              <a:off x="4787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292720" y="22766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4" name=""/>
            <p:cNvCxnSpPr>
              <a:stCxn id="2472" idx="6"/>
              <a:endCxn id="2473" idx="2"/>
            </p:cNvCxnSpPr>
            <p:nvPr/>
          </p:nvCxnSpPr>
          <p:spPr>
            <a:xfrm>
              <a:off x="5003280" y="2384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75" name=""/>
            <p:cNvSpPr/>
            <p:nvPr/>
          </p:nvSpPr>
          <p:spPr>
            <a:xfrm>
              <a:off x="5795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6" name=""/>
            <p:cNvCxnSpPr>
              <a:stCxn id="2473" idx="6"/>
              <a:endCxn id="2475" idx="2"/>
            </p:cNvCxnSpPr>
            <p:nvPr/>
          </p:nvCxnSpPr>
          <p:spPr>
            <a:xfrm>
              <a:off x="5508360" y="2384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7" name=""/>
            <p:cNvCxnSpPr>
              <a:stCxn id="2469" idx="6"/>
              <a:endCxn id="2472" idx="2"/>
            </p:cNvCxnSpPr>
            <p:nvPr/>
          </p:nvCxnSpPr>
          <p:spPr>
            <a:xfrm>
              <a:off x="4500360" y="2384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8" name=""/>
            <p:cNvCxnSpPr>
              <a:endCxn id="2465" idx="0"/>
            </p:cNvCxnSpPr>
            <p:nvPr/>
          </p:nvCxnSpPr>
          <p:spPr>
            <a:xfrm>
              <a:off x="2879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9" name=""/>
            <p:cNvCxnSpPr>
              <a:endCxn id="2466" idx="0"/>
            </p:cNvCxnSpPr>
            <p:nvPr/>
          </p:nvCxnSpPr>
          <p:spPr>
            <a:xfrm>
              <a:off x="338400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0" name=""/>
            <p:cNvCxnSpPr>
              <a:endCxn id="2468" idx="0"/>
            </p:cNvCxnSpPr>
            <p:nvPr/>
          </p:nvCxnSpPr>
          <p:spPr>
            <a:xfrm>
              <a:off x="3887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1" name=""/>
            <p:cNvCxnSpPr>
              <a:endCxn id="2469" idx="0"/>
            </p:cNvCxnSpPr>
            <p:nvPr/>
          </p:nvCxnSpPr>
          <p:spPr>
            <a:xfrm>
              <a:off x="439200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2" name=""/>
            <p:cNvCxnSpPr>
              <a:endCxn id="2472" idx="0"/>
            </p:cNvCxnSpPr>
            <p:nvPr/>
          </p:nvCxnSpPr>
          <p:spPr>
            <a:xfrm>
              <a:off x="4895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3" name=""/>
            <p:cNvCxnSpPr>
              <a:endCxn id="2473" idx="0"/>
            </p:cNvCxnSpPr>
            <p:nvPr/>
          </p:nvCxnSpPr>
          <p:spPr>
            <a:xfrm>
              <a:off x="540000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4" name=""/>
            <p:cNvCxnSpPr>
              <a:endCxn id="2475" idx="0"/>
            </p:cNvCxnSpPr>
            <p:nvPr/>
          </p:nvCxnSpPr>
          <p:spPr>
            <a:xfrm>
              <a:off x="5903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85" name=""/>
            <p:cNvSpPr/>
            <p:nvPr/>
          </p:nvSpPr>
          <p:spPr>
            <a:xfrm>
              <a:off x="2771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27636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7" name=""/>
            <p:cNvCxnSpPr>
              <a:stCxn id="2485" idx="6"/>
              <a:endCxn id="2486" idx="2"/>
            </p:cNvCxnSpPr>
            <p:nvPr/>
          </p:nvCxnSpPr>
          <p:spPr>
            <a:xfrm>
              <a:off x="2987640" y="2815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88" name=""/>
            <p:cNvSpPr/>
            <p:nvPr/>
          </p:nvSpPr>
          <p:spPr>
            <a:xfrm>
              <a:off x="3779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28436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90" name=""/>
            <p:cNvCxnSpPr>
              <a:stCxn id="2488" idx="6"/>
              <a:endCxn id="2489" idx="2"/>
            </p:cNvCxnSpPr>
            <p:nvPr/>
          </p:nvCxnSpPr>
          <p:spPr>
            <a:xfrm>
              <a:off x="3995640" y="2815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1" name=""/>
            <p:cNvCxnSpPr>
              <a:stCxn id="2486" idx="6"/>
              <a:endCxn id="2488" idx="2"/>
            </p:cNvCxnSpPr>
            <p:nvPr/>
          </p:nvCxnSpPr>
          <p:spPr>
            <a:xfrm>
              <a:off x="3492360" y="2815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92" name=""/>
            <p:cNvSpPr/>
            <p:nvPr/>
          </p:nvSpPr>
          <p:spPr>
            <a:xfrm>
              <a:off x="4787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292720" y="27082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94" name=""/>
            <p:cNvCxnSpPr>
              <a:stCxn id="2492" idx="6"/>
              <a:endCxn id="2493" idx="2"/>
            </p:cNvCxnSpPr>
            <p:nvPr/>
          </p:nvCxnSpPr>
          <p:spPr>
            <a:xfrm>
              <a:off x="5003280" y="2815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95" name=""/>
            <p:cNvSpPr/>
            <p:nvPr/>
          </p:nvSpPr>
          <p:spPr>
            <a:xfrm>
              <a:off x="5795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96" name=""/>
            <p:cNvCxnSpPr>
              <a:stCxn id="2493" idx="6"/>
              <a:endCxn id="2495" idx="2"/>
            </p:cNvCxnSpPr>
            <p:nvPr/>
          </p:nvCxnSpPr>
          <p:spPr>
            <a:xfrm>
              <a:off x="5508360" y="2815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7" name=""/>
            <p:cNvCxnSpPr>
              <a:stCxn id="2489" idx="6"/>
              <a:endCxn id="2492" idx="2"/>
            </p:cNvCxnSpPr>
            <p:nvPr/>
          </p:nvCxnSpPr>
          <p:spPr>
            <a:xfrm>
              <a:off x="4500360" y="2815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8" name=""/>
            <p:cNvCxnSpPr>
              <a:endCxn id="2485" idx="0"/>
            </p:cNvCxnSpPr>
            <p:nvPr/>
          </p:nvCxnSpPr>
          <p:spPr>
            <a:xfrm>
              <a:off x="2879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9" name=""/>
            <p:cNvCxnSpPr>
              <a:endCxn id="2486" idx="0"/>
            </p:cNvCxnSpPr>
            <p:nvPr/>
          </p:nvCxnSpPr>
          <p:spPr>
            <a:xfrm>
              <a:off x="338400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0" name=""/>
            <p:cNvCxnSpPr>
              <a:endCxn id="2488" idx="0"/>
            </p:cNvCxnSpPr>
            <p:nvPr/>
          </p:nvCxnSpPr>
          <p:spPr>
            <a:xfrm>
              <a:off x="3887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1" name=""/>
            <p:cNvCxnSpPr>
              <a:endCxn id="2489" idx="0"/>
            </p:cNvCxnSpPr>
            <p:nvPr/>
          </p:nvCxnSpPr>
          <p:spPr>
            <a:xfrm>
              <a:off x="439200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2" name=""/>
            <p:cNvCxnSpPr>
              <a:endCxn id="2492" idx="0"/>
            </p:cNvCxnSpPr>
            <p:nvPr/>
          </p:nvCxnSpPr>
          <p:spPr>
            <a:xfrm>
              <a:off x="4895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3" name=""/>
            <p:cNvCxnSpPr>
              <a:endCxn id="2493" idx="0"/>
            </p:cNvCxnSpPr>
            <p:nvPr/>
          </p:nvCxnSpPr>
          <p:spPr>
            <a:xfrm>
              <a:off x="540000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4" name=""/>
            <p:cNvCxnSpPr>
              <a:endCxn id="2495" idx="0"/>
            </p:cNvCxnSpPr>
            <p:nvPr/>
          </p:nvCxnSpPr>
          <p:spPr>
            <a:xfrm>
              <a:off x="5903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05" name=""/>
            <p:cNvSpPr/>
            <p:nvPr/>
          </p:nvSpPr>
          <p:spPr>
            <a:xfrm>
              <a:off x="2771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27636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7" name=""/>
            <p:cNvCxnSpPr>
              <a:stCxn id="2505" idx="6"/>
              <a:endCxn id="2506" idx="2"/>
            </p:cNvCxnSpPr>
            <p:nvPr/>
          </p:nvCxnSpPr>
          <p:spPr>
            <a:xfrm>
              <a:off x="2987640" y="3247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08" name=""/>
            <p:cNvSpPr/>
            <p:nvPr/>
          </p:nvSpPr>
          <p:spPr>
            <a:xfrm>
              <a:off x="3779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28436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0" name=""/>
            <p:cNvCxnSpPr>
              <a:stCxn id="2508" idx="6"/>
              <a:endCxn id="2509" idx="2"/>
            </p:cNvCxnSpPr>
            <p:nvPr/>
          </p:nvCxnSpPr>
          <p:spPr>
            <a:xfrm>
              <a:off x="3995640" y="3247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11" name=""/>
            <p:cNvCxnSpPr>
              <a:stCxn id="2506" idx="6"/>
              <a:endCxn id="2508" idx="2"/>
            </p:cNvCxnSpPr>
            <p:nvPr/>
          </p:nvCxnSpPr>
          <p:spPr>
            <a:xfrm>
              <a:off x="3492360" y="3247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12" name=""/>
            <p:cNvSpPr/>
            <p:nvPr/>
          </p:nvSpPr>
          <p:spPr>
            <a:xfrm>
              <a:off x="4787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292720" y="314028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4" name=""/>
            <p:cNvCxnSpPr>
              <a:stCxn id="2512" idx="6"/>
              <a:endCxn id="2513" idx="2"/>
            </p:cNvCxnSpPr>
            <p:nvPr/>
          </p:nvCxnSpPr>
          <p:spPr>
            <a:xfrm>
              <a:off x="5003280" y="3247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15" name=""/>
            <p:cNvSpPr/>
            <p:nvPr/>
          </p:nvSpPr>
          <p:spPr>
            <a:xfrm>
              <a:off x="5795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6" name=""/>
            <p:cNvCxnSpPr>
              <a:stCxn id="2513" idx="6"/>
              <a:endCxn id="2515" idx="2"/>
            </p:cNvCxnSpPr>
            <p:nvPr/>
          </p:nvCxnSpPr>
          <p:spPr>
            <a:xfrm>
              <a:off x="5508360" y="3247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17" name=""/>
            <p:cNvCxnSpPr>
              <a:stCxn id="2509" idx="6"/>
              <a:endCxn id="2512" idx="2"/>
            </p:cNvCxnSpPr>
            <p:nvPr/>
          </p:nvCxnSpPr>
          <p:spPr>
            <a:xfrm>
              <a:off x="4500360" y="3247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18" name=""/>
            <p:cNvCxnSpPr>
              <a:endCxn id="2505" idx="0"/>
            </p:cNvCxnSpPr>
            <p:nvPr/>
          </p:nvCxnSpPr>
          <p:spPr>
            <a:xfrm>
              <a:off x="2879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19" name=""/>
            <p:cNvCxnSpPr>
              <a:endCxn id="2506" idx="0"/>
            </p:cNvCxnSpPr>
            <p:nvPr/>
          </p:nvCxnSpPr>
          <p:spPr>
            <a:xfrm>
              <a:off x="338400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20" name=""/>
            <p:cNvCxnSpPr>
              <a:endCxn id="2508" idx="0"/>
            </p:cNvCxnSpPr>
            <p:nvPr/>
          </p:nvCxnSpPr>
          <p:spPr>
            <a:xfrm>
              <a:off x="3887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21" name=""/>
            <p:cNvCxnSpPr>
              <a:endCxn id="2509" idx="0"/>
            </p:cNvCxnSpPr>
            <p:nvPr/>
          </p:nvCxnSpPr>
          <p:spPr>
            <a:xfrm>
              <a:off x="439200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22" name=""/>
            <p:cNvCxnSpPr>
              <a:endCxn id="2512" idx="0"/>
            </p:cNvCxnSpPr>
            <p:nvPr/>
          </p:nvCxnSpPr>
          <p:spPr>
            <a:xfrm>
              <a:off x="4895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23" name=""/>
            <p:cNvCxnSpPr>
              <a:endCxn id="2513" idx="0"/>
            </p:cNvCxnSpPr>
            <p:nvPr/>
          </p:nvCxnSpPr>
          <p:spPr>
            <a:xfrm>
              <a:off x="540000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24" name=""/>
            <p:cNvCxnSpPr>
              <a:endCxn id="2515" idx="0"/>
            </p:cNvCxnSpPr>
            <p:nvPr/>
          </p:nvCxnSpPr>
          <p:spPr>
            <a:xfrm>
              <a:off x="5903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525" name=""/>
          <p:cNvSpPr/>
          <p:nvPr/>
        </p:nvSpPr>
        <p:spPr>
          <a:xfrm>
            <a:off x="2342520" y="371628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 arbitrary eve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2326320" y="4456080"/>
            <a:ext cx="9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5639400" y="4437000"/>
            <a:ext cx="9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4213440" y="4437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P Relaxations on Cyc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277164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3276720" y="981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2" name=""/>
          <p:cNvCxnSpPr>
            <a:stCxn id="2530" idx="6"/>
            <a:endCxn id="2531" idx="2"/>
          </p:cNvCxnSpPr>
          <p:nvPr/>
        </p:nvCxnSpPr>
        <p:spPr>
          <a:xfrm>
            <a:off x="2987280" y="1088640"/>
            <a:ext cx="28944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2533" name=""/>
          <p:cNvSpPr/>
          <p:nvPr/>
        </p:nvSpPr>
        <p:spPr>
          <a:xfrm>
            <a:off x="3780000" y="981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428472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5" name=""/>
          <p:cNvCxnSpPr>
            <a:stCxn id="2533" idx="6"/>
            <a:endCxn id="2534" idx="2"/>
          </p:cNvCxnSpPr>
          <p:nvPr/>
        </p:nvCxnSpPr>
        <p:spPr>
          <a:xfrm>
            <a:off x="3995280" y="1088640"/>
            <a:ext cx="28944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536" name=""/>
          <p:cNvCxnSpPr>
            <a:stCxn id="2531" idx="6"/>
            <a:endCxn id="2533" idx="2"/>
          </p:cNvCxnSpPr>
          <p:nvPr/>
        </p:nvCxnSpPr>
        <p:spPr>
          <a:xfrm>
            <a:off x="3492000" y="1088640"/>
            <a:ext cx="28836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2537" name=""/>
          <p:cNvSpPr/>
          <p:nvPr/>
        </p:nvSpPr>
        <p:spPr>
          <a:xfrm>
            <a:off x="4788000" y="981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529272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9" name=""/>
          <p:cNvCxnSpPr>
            <a:stCxn id="2537" idx="6"/>
            <a:endCxn id="2538" idx="2"/>
          </p:cNvCxnSpPr>
          <p:nvPr/>
        </p:nvCxnSpPr>
        <p:spPr>
          <a:xfrm>
            <a:off x="5003280" y="1088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40" name=""/>
          <p:cNvSpPr/>
          <p:nvPr/>
        </p:nvSpPr>
        <p:spPr>
          <a:xfrm>
            <a:off x="579600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1" name=""/>
          <p:cNvCxnSpPr>
            <a:stCxn id="2538" idx="6"/>
            <a:endCxn id="2540" idx="2"/>
          </p:cNvCxnSpPr>
          <p:nvPr/>
        </p:nvCxnSpPr>
        <p:spPr>
          <a:xfrm>
            <a:off x="5508720" y="1088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2" name=""/>
          <p:cNvCxnSpPr>
            <a:stCxn id="2534" idx="6"/>
            <a:endCxn id="2537" idx="2"/>
          </p:cNvCxnSpPr>
          <p:nvPr/>
        </p:nvCxnSpPr>
        <p:spPr>
          <a:xfrm>
            <a:off x="4500720" y="1088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43" name=""/>
          <p:cNvSpPr/>
          <p:nvPr/>
        </p:nvSpPr>
        <p:spPr>
          <a:xfrm>
            <a:off x="277164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276720" y="141300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5" name=""/>
          <p:cNvCxnSpPr>
            <a:stCxn id="2543" idx="6"/>
            <a:endCxn id="2544" idx="2"/>
          </p:cNvCxnSpPr>
          <p:nvPr/>
        </p:nvCxnSpPr>
        <p:spPr>
          <a:xfrm>
            <a:off x="2987280" y="1520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46" name=""/>
          <p:cNvSpPr/>
          <p:nvPr/>
        </p:nvSpPr>
        <p:spPr>
          <a:xfrm>
            <a:off x="3780000" y="141300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28472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8" name=""/>
          <p:cNvCxnSpPr>
            <a:stCxn id="2546" idx="6"/>
            <a:endCxn id="2547" idx="2"/>
          </p:cNvCxnSpPr>
          <p:nvPr/>
        </p:nvCxnSpPr>
        <p:spPr>
          <a:xfrm>
            <a:off x="3995280" y="1520640"/>
            <a:ext cx="28944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549" name=""/>
          <p:cNvCxnSpPr>
            <a:stCxn id="2544" idx="6"/>
            <a:endCxn id="2546" idx="2"/>
          </p:cNvCxnSpPr>
          <p:nvPr/>
        </p:nvCxnSpPr>
        <p:spPr>
          <a:xfrm>
            <a:off x="3492000" y="1520640"/>
            <a:ext cx="28836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2550" name=""/>
          <p:cNvSpPr/>
          <p:nvPr/>
        </p:nvSpPr>
        <p:spPr>
          <a:xfrm>
            <a:off x="4788000" y="141300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529272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2" name=""/>
          <p:cNvCxnSpPr>
            <a:stCxn id="2550" idx="6"/>
            <a:endCxn id="2551" idx="2"/>
          </p:cNvCxnSpPr>
          <p:nvPr/>
        </p:nvCxnSpPr>
        <p:spPr>
          <a:xfrm>
            <a:off x="5003280" y="1520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3" name=""/>
          <p:cNvSpPr/>
          <p:nvPr/>
        </p:nvSpPr>
        <p:spPr>
          <a:xfrm>
            <a:off x="579600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4" name=""/>
          <p:cNvCxnSpPr>
            <a:stCxn id="2551" idx="6"/>
            <a:endCxn id="2553" idx="2"/>
          </p:cNvCxnSpPr>
          <p:nvPr/>
        </p:nvCxnSpPr>
        <p:spPr>
          <a:xfrm>
            <a:off x="5508720" y="1520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5" name=""/>
          <p:cNvCxnSpPr>
            <a:stCxn id="2547" idx="6"/>
            <a:endCxn id="2550" idx="2"/>
          </p:cNvCxnSpPr>
          <p:nvPr/>
        </p:nvCxnSpPr>
        <p:spPr>
          <a:xfrm>
            <a:off x="4500720" y="1520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6" name=""/>
          <p:cNvCxnSpPr>
            <a:stCxn id="2530" idx="4"/>
            <a:endCxn id="2543" idx="0"/>
          </p:cNvCxnSpPr>
          <p:nvPr/>
        </p:nvCxnSpPr>
        <p:spPr>
          <a:xfrm>
            <a:off x="2879280" y="119700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557" name=""/>
          <p:cNvCxnSpPr>
            <a:stCxn id="2531" idx="4"/>
            <a:endCxn id="2544" idx="0"/>
          </p:cNvCxnSpPr>
          <p:nvPr/>
        </p:nvCxnSpPr>
        <p:spPr>
          <a:xfrm>
            <a:off x="338436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8" name=""/>
          <p:cNvCxnSpPr>
            <a:stCxn id="2533" idx="4"/>
            <a:endCxn id="2546" idx="0"/>
          </p:cNvCxnSpPr>
          <p:nvPr/>
        </p:nvCxnSpPr>
        <p:spPr>
          <a:xfrm>
            <a:off x="388728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9" name=""/>
          <p:cNvCxnSpPr>
            <a:stCxn id="2534" idx="4"/>
            <a:endCxn id="2547" idx="0"/>
          </p:cNvCxnSpPr>
          <p:nvPr/>
        </p:nvCxnSpPr>
        <p:spPr>
          <a:xfrm>
            <a:off x="4392360" y="119700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560" name=""/>
          <p:cNvCxnSpPr>
            <a:stCxn id="2537" idx="4"/>
            <a:endCxn id="2550" idx="0"/>
          </p:cNvCxnSpPr>
          <p:nvPr/>
        </p:nvCxnSpPr>
        <p:spPr>
          <a:xfrm>
            <a:off x="489564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1" name=""/>
          <p:cNvCxnSpPr>
            <a:stCxn id="2538" idx="4"/>
            <a:endCxn id="2551" idx="0"/>
          </p:cNvCxnSpPr>
          <p:nvPr/>
        </p:nvCxnSpPr>
        <p:spPr>
          <a:xfrm>
            <a:off x="540036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2" name=""/>
          <p:cNvCxnSpPr>
            <a:stCxn id="2540" idx="4"/>
            <a:endCxn id="2553" idx="0"/>
          </p:cNvCxnSpPr>
          <p:nvPr/>
        </p:nvCxnSpPr>
        <p:spPr>
          <a:xfrm>
            <a:off x="590364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63" name=""/>
          <p:cNvSpPr/>
          <p:nvPr/>
        </p:nvSpPr>
        <p:spPr>
          <a:xfrm>
            <a:off x="277164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3276720" y="1844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5" name=""/>
          <p:cNvCxnSpPr>
            <a:stCxn id="2563" idx="6"/>
            <a:endCxn id="2564" idx="2"/>
          </p:cNvCxnSpPr>
          <p:nvPr/>
        </p:nvCxnSpPr>
        <p:spPr>
          <a:xfrm>
            <a:off x="2987280" y="1952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66" name=""/>
          <p:cNvSpPr/>
          <p:nvPr/>
        </p:nvSpPr>
        <p:spPr>
          <a:xfrm>
            <a:off x="3780000" y="1844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428472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8" name=""/>
          <p:cNvCxnSpPr>
            <a:stCxn id="2566" idx="6"/>
            <a:endCxn id="2567" idx="2"/>
          </p:cNvCxnSpPr>
          <p:nvPr/>
        </p:nvCxnSpPr>
        <p:spPr>
          <a:xfrm>
            <a:off x="3995280" y="1952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9" name=""/>
          <p:cNvCxnSpPr>
            <a:stCxn id="2564" idx="6"/>
            <a:endCxn id="2566" idx="2"/>
          </p:cNvCxnSpPr>
          <p:nvPr/>
        </p:nvCxnSpPr>
        <p:spPr>
          <a:xfrm>
            <a:off x="3492000" y="1952280"/>
            <a:ext cx="28836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2570" name=""/>
          <p:cNvSpPr/>
          <p:nvPr/>
        </p:nvSpPr>
        <p:spPr>
          <a:xfrm>
            <a:off x="4788000" y="1844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529272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2" name=""/>
          <p:cNvCxnSpPr>
            <a:stCxn id="2570" idx="6"/>
            <a:endCxn id="2571" idx="2"/>
          </p:cNvCxnSpPr>
          <p:nvPr/>
        </p:nvCxnSpPr>
        <p:spPr>
          <a:xfrm>
            <a:off x="5003280" y="1952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73" name=""/>
          <p:cNvSpPr/>
          <p:nvPr/>
        </p:nvSpPr>
        <p:spPr>
          <a:xfrm>
            <a:off x="579600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4" name=""/>
          <p:cNvCxnSpPr>
            <a:stCxn id="2571" idx="6"/>
            <a:endCxn id="2573" idx="2"/>
          </p:cNvCxnSpPr>
          <p:nvPr/>
        </p:nvCxnSpPr>
        <p:spPr>
          <a:xfrm>
            <a:off x="5508720" y="1952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5" name=""/>
          <p:cNvCxnSpPr>
            <a:stCxn id="2567" idx="6"/>
            <a:endCxn id="2570" idx="2"/>
          </p:cNvCxnSpPr>
          <p:nvPr/>
        </p:nvCxnSpPr>
        <p:spPr>
          <a:xfrm>
            <a:off x="4500720" y="1952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6" name=""/>
          <p:cNvCxnSpPr>
            <a:endCxn id="2563" idx="0"/>
          </p:cNvCxnSpPr>
          <p:nvPr/>
        </p:nvCxnSpPr>
        <p:spPr>
          <a:xfrm>
            <a:off x="2879280" y="162864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577" name=""/>
          <p:cNvCxnSpPr>
            <a:endCxn id="2564" idx="0"/>
          </p:cNvCxnSpPr>
          <p:nvPr/>
        </p:nvCxnSpPr>
        <p:spPr>
          <a:xfrm>
            <a:off x="3384360" y="162864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578" name=""/>
          <p:cNvCxnSpPr>
            <a:endCxn id="2566" idx="0"/>
          </p:cNvCxnSpPr>
          <p:nvPr/>
        </p:nvCxnSpPr>
        <p:spPr>
          <a:xfrm>
            <a:off x="388728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9" name=""/>
          <p:cNvCxnSpPr>
            <a:endCxn id="2567" idx="0"/>
          </p:cNvCxnSpPr>
          <p:nvPr/>
        </p:nvCxnSpPr>
        <p:spPr>
          <a:xfrm>
            <a:off x="439236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0" name=""/>
          <p:cNvCxnSpPr>
            <a:endCxn id="2570" idx="0"/>
          </p:cNvCxnSpPr>
          <p:nvPr/>
        </p:nvCxnSpPr>
        <p:spPr>
          <a:xfrm>
            <a:off x="489564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1" name=""/>
          <p:cNvCxnSpPr>
            <a:endCxn id="2571" idx="0"/>
          </p:cNvCxnSpPr>
          <p:nvPr/>
        </p:nvCxnSpPr>
        <p:spPr>
          <a:xfrm>
            <a:off x="540036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2" name=""/>
          <p:cNvCxnSpPr>
            <a:endCxn id="2573" idx="0"/>
          </p:cNvCxnSpPr>
          <p:nvPr/>
        </p:nvCxnSpPr>
        <p:spPr>
          <a:xfrm>
            <a:off x="590364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83" name=""/>
          <p:cNvSpPr/>
          <p:nvPr/>
        </p:nvSpPr>
        <p:spPr>
          <a:xfrm>
            <a:off x="277164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3276720" y="227664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5" name=""/>
          <p:cNvCxnSpPr>
            <a:stCxn id="2583" idx="6"/>
            <a:endCxn id="2584" idx="2"/>
          </p:cNvCxnSpPr>
          <p:nvPr/>
        </p:nvCxnSpPr>
        <p:spPr>
          <a:xfrm>
            <a:off x="2987280" y="2383920"/>
            <a:ext cx="28944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2586" name=""/>
          <p:cNvSpPr/>
          <p:nvPr/>
        </p:nvSpPr>
        <p:spPr>
          <a:xfrm>
            <a:off x="3780000" y="227664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428472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8" name=""/>
          <p:cNvCxnSpPr>
            <a:stCxn id="2586" idx="6"/>
            <a:endCxn id="2587" idx="2"/>
          </p:cNvCxnSpPr>
          <p:nvPr/>
        </p:nvCxnSpPr>
        <p:spPr>
          <a:xfrm>
            <a:off x="3995280" y="2383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9" name=""/>
          <p:cNvCxnSpPr>
            <a:stCxn id="2584" idx="6"/>
            <a:endCxn id="2586" idx="2"/>
          </p:cNvCxnSpPr>
          <p:nvPr/>
        </p:nvCxnSpPr>
        <p:spPr>
          <a:xfrm>
            <a:off x="3492000" y="238392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90" name=""/>
          <p:cNvSpPr/>
          <p:nvPr/>
        </p:nvSpPr>
        <p:spPr>
          <a:xfrm>
            <a:off x="4788000" y="227664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529272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2" name=""/>
          <p:cNvCxnSpPr>
            <a:stCxn id="2590" idx="6"/>
            <a:endCxn id="2591" idx="2"/>
          </p:cNvCxnSpPr>
          <p:nvPr/>
        </p:nvCxnSpPr>
        <p:spPr>
          <a:xfrm>
            <a:off x="5003280" y="2383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93" name=""/>
          <p:cNvSpPr/>
          <p:nvPr/>
        </p:nvSpPr>
        <p:spPr>
          <a:xfrm>
            <a:off x="579600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4" name=""/>
          <p:cNvCxnSpPr>
            <a:stCxn id="2591" idx="6"/>
            <a:endCxn id="2593" idx="2"/>
          </p:cNvCxnSpPr>
          <p:nvPr/>
        </p:nvCxnSpPr>
        <p:spPr>
          <a:xfrm>
            <a:off x="5508720" y="2383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5" name=""/>
          <p:cNvCxnSpPr>
            <a:stCxn id="2587" idx="6"/>
            <a:endCxn id="2590" idx="2"/>
          </p:cNvCxnSpPr>
          <p:nvPr/>
        </p:nvCxnSpPr>
        <p:spPr>
          <a:xfrm>
            <a:off x="4500720" y="2383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6" name=""/>
          <p:cNvCxnSpPr>
            <a:endCxn id="2583" idx="0"/>
          </p:cNvCxnSpPr>
          <p:nvPr/>
        </p:nvCxnSpPr>
        <p:spPr>
          <a:xfrm>
            <a:off x="2879280" y="206064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597" name=""/>
          <p:cNvCxnSpPr>
            <a:endCxn id="2584" idx="0"/>
          </p:cNvCxnSpPr>
          <p:nvPr/>
        </p:nvCxnSpPr>
        <p:spPr>
          <a:xfrm>
            <a:off x="338436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8" name=""/>
          <p:cNvCxnSpPr>
            <a:endCxn id="2586" idx="0"/>
          </p:cNvCxnSpPr>
          <p:nvPr/>
        </p:nvCxnSpPr>
        <p:spPr>
          <a:xfrm>
            <a:off x="3887280" y="206064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599" name=""/>
          <p:cNvCxnSpPr>
            <a:endCxn id="2587" idx="0"/>
          </p:cNvCxnSpPr>
          <p:nvPr/>
        </p:nvCxnSpPr>
        <p:spPr>
          <a:xfrm>
            <a:off x="439236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0" name=""/>
          <p:cNvCxnSpPr>
            <a:endCxn id="2590" idx="0"/>
          </p:cNvCxnSpPr>
          <p:nvPr/>
        </p:nvCxnSpPr>
        <p:spPr>
          <a:xfrm>
            <a:off x="489564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1" name=""/>
          <p:cNvCxnSpPr>
            <a:endCxn id="2591" idx="0"/>
          </p:cNvCxnSpPr>
          <p:nvPr/>
        </p:nvCxnSpPr>
        <p:spPr>
          <a:xfrm>
            <a:off x="540036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2" name=""/>
          <p:cNvCxnSpPr>
            <a:endCxn id="2593" idx="0"/>
          </p:cNvCxnSpPr>
          <p:nvPr/>
        </p:nvCxnSpPr>
        <p:spPr>
          <a:xfrm>
            <a:off x="590364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03" name=""/>
          <p:cNvSpPr/>
          <p:nvPr/>
        </p:nvSpPr>
        <p:spPr>
          <a:xfrm>
            <a:off x="277164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3276720" y="270828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5" name=""/>
          <p:cNvCxnSpPr>
            <a:stCxn id="2603" idx="6"/>
            <a:endCxn id="2604" idx="2"/>
          </p:cNvCxnSpPr>
          <p:nvPr/>
        </p:nvCxnSpPr>
        <p:spPr>
          <a:xfrm>
            <a:off x="2987280" y="2815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06" name=""/>
          <p:cNvSpPr/>
          <p:nvPr/>
        </p:nvSpPr>
        <p:spPr>
          <a:xfrm>
            <a:off x="3780000" y="270828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428472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8" name=""/>
          <p:cNvCxnSpPr>
            <a:stCxn id="2606" idx="6"/>
            <a:endCxn id="2607" idx="2"/>
          </p:cNvCxnSpPr>
          <p:nvPr/>
        </p:nvCxnSpPr>
        <p:spPr>
          <a:xfrm>
            <a:off x="3995280" y="2815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9" name=""/>
          <p:cNvCxnSpPr>
            <a:stCxn id="2604" idx="6"/>
            <a:endCxn id="2606" idx="2"/>
          </p:cNvCxnSpPr>
          <p:nvPr/>
        </p:nvCxnSpPr>
        <p:spPr>
          <a:xfrm>
            <a:off x="3492000" y="2815920"/>
            <a:ext cx="28836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2610" name=""/>
          <p:cNvSpPr/>
          <p:nvPr/>
        </p:nvSpPr>
        <p:spPr>
          <a:xfrm>
            <a:off x="4788000" y="270828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529272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2" name=""/>
          <p:cNvCxnSpPr>
            <a:stCxn id="2610" idx="6"/>
            <a:endCxn id="2611" idx="2"/>
          </p:cNvCxnSpPr>
          <p:nvPr/>
        </p:nvCxnSpPr>
        <p:spPr>
          <a:xfrm>
            <a:off x="5003280" y="2815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13" name=""/>
          <p:cNvSpPr/>
          <p:nvPr/>
        </p:nvSpPr>
        <p:spPr>
          <a:xfrm>
            <a:off x="579600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4" name=""/>
          <p:cNvCxnSpPr>
            <a:stCxn id="2611" idx="6"/>
            <a:endCxn id="2613" idx="2"/>
          </p:cNvCxnSpPr>
          <p:nvPr/>
        </p:nvCxnSpPr>
        <p:spPr>
          <a:xfrm>
            <a:off x="5508720" y="2815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5" name=""/>
          <p:cNvCxnSpPr>
            <a:stCxn id="2607" idx="6"/>
            <a:endCxn id="2610" idx="2"/>
          </p:cNvCxnSpPr>
          <p:nvPr/>
        </p:nvCxnSpPr>
        <p:spPr>
          <a:xfrm>
            <a:off x="4500720" y="2815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6" name=""/>
          <p:cNvCxnSpPr>
            <a:endCxn id="2603" idx="0"/>
          </p:cNvCxnSpPr>
          <p:nvPr/>
        </p:nvCxnSpPr>
        <p:spPr>
          <a:xfrm>
            <a:off x="287928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7" name=""/>
          <p:cNvCxnSpPr>
            <a:endCxn id="2604" idx="0"/>
          </p:cNvCxnSpPr>
          <p:nvPr/>
        </p:nvCxnSpPr>
        <p:spPr>
          <a:xfrm>
            <a:off x="3384360" y="249228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618" name=""/>
          <p:cNvCxnSpPr>
            <a:endCxn id="2606" idx="0"/>
          </p:cNvCxnSpPr>
          <p:nvPr/>
        </p:nvCxnSpPr>
        <p:spPr>
          <a:xfrm>
            <a:off x="3887280" y="2492280"/>
            <a:ext cx="1080" cy="21672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2619" name=""/>
          <p:cNvCxnSpPr>
            <a:endCxn id="2607" idx="0"/>
          </p:cNvCxnSpPr>
          <p:nvPr/>
        </p:nvCxnSpPr>
        <p:spPr>
          <a:xfrm>
            <a:off x="439236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0" name=""/>
          <p:cNvCxnSpPr>
            <a:endCxn id="2610" idx="0"/>
          </p:cNvCxnSpPr>
          <p:nvPr/>
        </p:nvCxnSpPr>
        <p:spPr>
          <a:xfrm>
            <a:off x="489564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1" name=""/>
          <p:cNvCxnSpPr>
            <a:endCxn id="2611" idx="0"/>
          </p:cNvCxnSpPr>
          <p:nvPr/>
        </p:nvCxnSpPr>
        <p:spPr>
          <a:xfrm>
            <a:off x="540036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2" name=""/>
          <p:cNvCxnSpPr>
            <a:endCxn id="2613" idx="0"/>
          </p:cNvCxnSpPr>
          <p:nvPr/>
        </p:nvCxnSpPr>
        <p:spPr>
          <a:xfrm>
            <a:off x="590364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3" name=""/>
          <p:cNvSpPr/>
          <p:nvPr/>
        </p:nvSpPr>
        <p:spPr>
          <a:xfrm>
            <a:off x="277164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3276720" y="313992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5" name=""/>
          <p:cNvCxnSpPr>
            <a:stCxn id="2623" idx="6"/>
            <a:endCxn id="2624" idx="2"/>
          </p:cNvCxnSpPr>
          <p:nvPr/>
        </p:nvCxnSpPr>
        <p:spPr>
          <a:xfrm>
            <a:off x="2987280" y="32475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6" name=""/>
          <p:cNvSpPr/>
          <p:nvPr/>
        </p:nvSpPr>
        <p:spPr>
          <a:xfrm>
            <a:off x="3780000" y="313992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428472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8" name=""/>
          <p:cNvCxnSpPr>
            <a:stCxn id="2626" idx="6"/>
            <a:endCxn id="2627" idx="2"/>
          </p:cNvCxnSpPr>
          <p:nvPr/>
        </p:nvCxnSpPr>
        <p:spPr>
          <a:xfrm>
            <a:off x="3995280" y="32475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9" name=""/>
          <p:cNvCxnSpPr>
            <a:stCxn id="2624" idx="6"/>
            <a:endCxn id="2626" idx="2"/>
          </p:cNvCxnSpPr>
          <p:nvPr/>
        </p:nvCxnSpPr>
        <p:spPr>
          <a:xfrm>
            <a:off x="3492000" y="324756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0" name=""/>
          <p:cNvSpPr/>
          <p:nvPr/>
        </p:nvSpPr>
        <p:spPr>
          <a:xfrm>
            <a:off x="4788000" y="313992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529272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2" name=""/>
          <p:cNvCxnSpPr>
            <a:stCxn id="2630" idx="6"/>
            <a:endCxn id="2631" idx="2"/>
          </p:cNvCxnSpPr>
          <p:nvPr/>
        </p:nvCxnSpPr>
        <p:spPr>
          <a:xfrm>
            <a:off x="5003280" y="32475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3" name=""/>
          <p:cNvSpPr/>
          <p:nvPr/>
        </p:nvSpPr>
        <p:spPr>
          <a:xfrm>
            <a:off x="579600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4" name=""/>
          <p:cNvCxnSpPr>
            <a:stCxn id="2631" idx="6"/>
            <a:endCxn id="2633" idx="2"/>
          </p:cNvCxnSpPr>
          <p:nvPr/>
        </p:nvCxnSpPr>
        <p:spPr>
          <a:xfrm>
            <a:off x="5508720" y="324756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5" name=""/>
          <p:cNvCxnSpPr>
            <a:stCxn id="2627" idx="6"/>
            <a:endCxn id="2630" idx="2"/>
          </p:cNvCxnSpPr>
          <p:nvPr/>
        </p:nvCxnSpPr>
        <p:spPr>
          <a:xfrm>
            <a:off x="4500720" y="324756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6" name=""/>
          <p:cNvCxnSpPr>
            <a:endCxn id="2623" idx="0"/>
          </p:cNvCxnSpPr>
          <p:nvPr/>
        </p:nvCxnSpPr>
        <p:spPr>
          <a:xfrm>
            <a:off x="287928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7" name=""/>
          <p:cNvCxnSpPr>
            <a:endCxn id="2624" idx="0"/>
          </p:cNvCxnSpPr>
          <p:nvPr/>
        </p:nvCxnSpPr>
        <p:spPr>
          <a:xfrm>
            <a:off x="338436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8" name=""/>
          <p:cNvCxnSpPr>
            <a:endCxn id="2626" idx="0"/>
          </p:cNvCxnSpPr>
          <p:nvPr/>
        </p:nvCxnSpPr>
        <p:spPr>
          <a:xfrm>
            <a:off x="388728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9" name=""/>
          <p:cNvCxnSpPr>
            <a:endCxn id="2627" idx="0"/>
          </p:cNvCxnSpPr>
          <p:nvPr/>
        </p:nvCxnSpPr>
        <p:spPr>
          <a:xfrm>
            <a:off x="439236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0" name=""/>
          <p:cNvCxnSpPr>
            <a:endCxn id="2630" idx="0"/>
          </p:cNvCxnSpPr>
          <p:nvPr/>
        </p:nvCxnSpPr>
        <p:spPr>
          <a:xfrm>
            <a:off x="489564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1" name=""/>
          <p:cNvCxnSpPr>
            <a:endCxn id="2631" idx="0"/>
          </p:cNvCxnSpPr>
          <p:nvPr/>
        </p:nvCxnSpPr>
        <p:spPr>
          <a:xfrm>
            <a:off x="540036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2" name=""/>
          <p:cNvCxnSpPr>
            <a:endCxn id="2633" idx="0"/>
          </p:cNvCxnSpPr>
          <p:nvPr/>
        </p:nvCxnSpPr>
        <p:spPr>
          <a:xfrm>
            <a:off x="590364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43" name=""/>
          <p:cNvSpPr/>
          <p:nvPr/>
        </p:nvSpPr>
        <p:spPr>
          <a:xfrm>
            <a:off x="2485080" y="371628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y arbitrary C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4" name="" descr=""/>
          <p:cNvPicPr/>
          <p:nvPr/>
        </p:nvPicPr>
        <p:blipFill>
          <a:blip r:embed="rId1"/>
          <a:stretch/>
        </p:blipFill>
        <p:spPr>
          <a:xfrm>
            <a:off x="5724360" y="3784680"/>
            <a:ext cx="303480" cy="344520"/>
          </a:xfrm>
          <a:prstGeom prst="rect">
            <a:avLst/>
          </a:prstGeom>
          <a:ln w="0">
            <a:noFill/>
          </a:ln>
        </p:spPr>
      </p:pic>
      <p:sp>
        <p:nvSpPr>
          <p:cNvPr id="2645" name=""/>
          <p:cNvSpPr/>
          <p:nvPr/>
        </p:nvSpPr>
        <p:spPr>
          <a:xfrm>
            <a:off x="1189440" y="4437000"/>
            <a:ext cx="70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over even cycles to get relaxation SOCP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1684440" y="5229360"/>
            <a:ext cx="60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P-S strictly dominates SOCP-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1693440" y="5945040"/>
            <a:ext cx="54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P-S strictly dominates QP-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P Relaxations on Cyc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237960" y="1125360"/>
            <a:ext cx="518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ue for odd cycles with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≤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242640" y="2565360"/>
            <a:ext cx="803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ue for odd cycles with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≤ 0 for only one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253800" y="4062240"/>
            <a:ext cx="803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ue for odd cycles with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≥ 0 for only one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246600" y="5589720"/>
            <a:ext cx="68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ue for all combinations of abo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P-C Relax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63520" y="6922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ll LP-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6054840" y="6922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e SO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6" name=""/>
          <p:cNvGrpSpPr/>
          <p:nvPr/>
        </p:nvGrpSpPr>
        <p:grpSpPr>
          <a:xfrm>
            <a:off x="259200" y="1125360"/>
            <a:ext cx="8271360" cy="1943280"/>
            <a:chOff x="259200" y="1125360"/>
            <a:chExt cx="8271360" cy="1943280"/>
          </a:xfrm>
        </p:grpSpPr>
        <p:sp>
          <p:nvSpPr>
            <p:cNvPr id="2657" name=""/>
            <p:cNvSpPr/>
            <p:nvPr/>
          </p:nvSpPr>
          <p:spPr>
            <a:xfrm>
              <a:off x="611280" y="256392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1906560" y="256392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826920" y="148428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95640" y="148428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H="1">
              <a:off x="611280" y="220356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H="1">
              <a:off x="611280" y="155592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H="1" flipV="1">
              <a:off x="826920" y="1555560"/>
              <a:ext cx="13687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H="1">
              <a:off x="826920" y="1555920"/>
              <a:ext cx="13687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386360" y="1143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59200" y="198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902160" y="170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765800" y="170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59200" y="134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419560" y="198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419560" y="134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490920" y="256392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786200" y="256392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706920" y="148428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075280" y="148428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H="1">
              <a:off x="3490560" y="220356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H="1">
              <a:off x="3490560" y="15559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3706560" y="1555560"/>
              <a:ext cx="13683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H="1">
              <a:off x="3706560" y="1555920"/>
              <a:ext cx="13683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266000" y="1143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140280" y="198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781800" y="170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645440" y="170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140280" y="134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299560" y="198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299560" y="134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372360" y="254628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667640" y="254628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588000" y="1467000"/>
              <a:ext cx="0" cy="10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956720" y="1467000"/>
              <a:ext cx="0" cy="10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>
              <a:off x="6372360" y="218592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6372360" y="153828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 flipV="1">
              <a:off x="6588000" y="1537920"/>
              <a:ext cx="13687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6588000" y="1538280"/>
              <a:ext cx="13687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147440" y="112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020280" y="197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663240" y="168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526520" y="168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020280" y="1324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180640" y="197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180640" y="1324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40544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21992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17264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5" name=""/>
          <p:cNvSpPr/>
          <p:nvPr/>
        </p:nvSpPr>
        <p:spPr>
          <a:xfrm>
            <a:off x="611280" y="316404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bmod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3447720" y="3141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n-submod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6546960" y="314172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bmod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P-C Relax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61128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190656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82692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219564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H="1">
            <a:off x="611280" y="22035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 flipH="1">
            <a:off x="611280" y="15559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 flipH="1" flipV="1">
            <a:off x="826920" y="155556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H="1">
            <a:off x="826920" y="155592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263520" y="6922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ll LP-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6054840" y="6922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e SO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138636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25920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90216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176580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25920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241956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241956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349092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478620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370692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507528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 flipH="1">
            <a:off x="3490560" y="22035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 flipH="1">
            <a:off x="3490560" y="15559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flipH="1" flipV="1">
            <a:off x="3706560" y="155556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 flipH="1">
            <a:off x="3706560" y="155592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426600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314028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378180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464544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14028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29956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29956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6372360" y="254628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667640" y="254628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588000" y="146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7956720" y="146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H="1">
            <a:off x="6372360" y="21859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 flipH="1">
            <a:off x="6372360" y="153828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 flipH="1" flipV="1">
            <a:off x="6588000" y="153792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6588000" y="153828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714744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602028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6663240" y="168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7526520" y="168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6020280" y="13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818064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8180640" y="13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140544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421992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717264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160440" y="31590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ustrat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P-C Relax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61128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90656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82692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19564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flipH="1">
            <a:off x="611280" y="22035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 flipH="1">
            <a:off x="611280" y="15559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 flipH="1" flipV="1">
            <a:off x="826920" y="155556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 flipH="1">
            <a:off x="826920" y="155592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263520" y="6922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ll LP-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6054840" y="6922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e SO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138636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25920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90216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176580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5920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241956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241956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349092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78620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370692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07528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 flipH="1">
            <a:off x="3490560" y="22035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flipH="1">
            <a:off x="3490560" y="15559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 flipH="1" flipV="1">
            <a:off x="3706560" y="155556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 flipH="1">
            <a:off x="3706560" y="155592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426600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314028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378180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464544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314028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29956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529956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6372360" y="254628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7667640" y="254628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6588000" y="146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7956720" y="146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 flipH="1">
            <a:off x="6372360" y="21859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6372360" y="153828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 flipH="1" flipV="1">
            <a:off x="6588000" y="153792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H="1">
            <a:off x="6588000" y="153828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714744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602028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6663240" y="168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7526520" y="168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6020280" y="13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818064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8180640" y="13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140544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421992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717264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317760" y="31590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P-S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2" name=""/>
          <p:cNvGrpSpPr/>
          <p:nvPr/>
        </p:nvGrpSpPr>
        <p:grpSpPr>
          <a:xfrm>
            <a:off x="252720" y="3573360"/>
            <a:ext cx="8271720" cy="1951200"/>
            <a:chOff x="252720" y="3573360"/>
            <a:chExt cx="8271720" cy="1951200"/>
          </a:xfrm>
        </p:grpSpPr>
        <p:sp>
          <p:nvSpPr>
            <p:cNvPr id="2813" name=""/>
            <p:cNvSpPr/>
            <p:nvPr/>
          </p:nvSpPr>
          <p:spPr>
            <a:xfrm>
              <a:off x="604800" y="501984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900080" y="501984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0800" y="394020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189160" y="394020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 flipH="1">
              <a:off x="604440" y="46594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604440" y="40114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 flipV="1">
              <a:off x="820440" y="4011480"/>
              <a:ext cx="136836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 flipH="1">
              <a:off x="820440" y="4011480"/>
              <a:ext cx="136836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379880" y="3598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52720" y="444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95320" y="4156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758960" y="4156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52720" y="379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413440" y="444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413440" y="379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3484440" y="501984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80080" y="501984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3700440" y="394020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068800" y="394020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H="1">
              <a:off x="3484080" y="46594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H="1">
              <a:off x="3484080" y="40114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H="1" flipV="1">
              <a:off x="3700080" y="4011480"/>
              <a:ext cx="136836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H="1">
              <a:off x="3700080" y="4011480"/>
              <a:ext cx="136836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259160" y="35989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134160" y="444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775320" y="415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38960" y="415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134160" y="379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293080" y="444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293080" y="379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365880" y="500220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661160" y="500220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581880" y="392256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50240" y="392256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6365520" y="464184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>
              <a:off x="6365520" y="399420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H="1" flipV="1">
              <a:off x="6581520" y="3993840"/>
              <a:ext cx="13683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>
              <a:off x="6581520" y="3994200"/>
              <a:ext cx="13683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13800" y="442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656400" y="41385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520040" y="41385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13800" y="378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174520" y="4427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174520" y="378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398960" y="470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213440" y="4707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166160" y="470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094880" y="357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1" name=""/>
          <p:cNvSpPr/>
          <p:nvPr/>
        </p:nvSpPr>
        <p:spPr>
          <a:xfrm>
            <a:off x="2788200" y="582444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jective Functio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P-C Relax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61128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190656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82692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219564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 flipH="1">
            <a:off x="611280" y="22035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611280" y="15559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 flipH="1" flipV="1">
            <a:off x="826920" y="155556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 flipH="1">
            <a:off x="826920" y="155592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263520" y="6922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ll LP-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6054840" y="6922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e SO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38636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5920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90216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176580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25920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241956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241956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349092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478620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370692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507528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 flipH="1">
            <a:off x="3490560" y="22035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flipH="1">
            <a:off x="3490560" y="15559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 flipH="1" flipV="1">
            <a:off x="3706560" y="155556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H="1">
            <a:off x="3706560" y="155592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426600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314028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378180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464544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14028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529956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529956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6372360" y="254628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7667640" y="254628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6588000" y="146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7956720" y="146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H="1">
            <a:off x="6372360" y="21859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 flipH="1">
            <a:off x="6372360" y="153828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 flipH="1" flipV="1">
            <a:off x="6588000" y="153792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 flipH="1">
            <a:off x="6588000" y="153828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714744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602028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6663240" y="168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7526520" y="168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6020280" y="13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818064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8180640" y="13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40544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421992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717264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3317760" y="31590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P-S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604800" y="50198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1900080" y="50198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820800" y="39402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2189160" y="39402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 flipH="1">
            <a:off x="604440" y="46594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604440" y="40114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 flipH="1" flipV="1">
            <a:off x="820440" y="4011480"/>
            <a:ext cx="136836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 flipH="1">
            <a:off x="820440" y="4011480"/>
            <a:ext cx="136836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379880" y="3598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252720" y="44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895320" y="4156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758960" y="4156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52720" y="37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2413440" y="44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2413440" y="37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3484440" y="50198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4780080" y="50198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3700440" y="39402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068800" y="39402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3484080" y="465948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flipH="1">
            <a:off x="3484080" y="40114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flipH="1" flipV="1">
            <a:off x="3700080" y="4011480"/>
            <a:ext cx="136836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flipH="1">
            <a:off x="3700080" y="4011480"/>
            <a:ext cx="136836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4259160" y="3598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3134160" y="44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3775320" y="415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4638960" y="415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3134160" y="37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5293080" y="44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5293080" y="37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6365880" y="50022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7661160" y="50022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581880" y="39225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7950240" y="39225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flipH="1">
            <a:off x="6365520" y="46418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6365520" y="399420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6581520" y="399384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6581520" y="3994200"/>
            <a:ext cx="136836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6013800" y="4427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6656400" y="4138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7520040" y="4138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6013800" y="378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8174520" y="4427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8174520" y="378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1398960" y="470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4213440" y="4707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7166160" y="470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709488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1462680" y="5751360"/>
            <a:ext cx="54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SOC Constraint using  C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x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97240" y="25146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83440" y="25146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31360" y="272412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33400" y="272412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"/>
          <p:cNvCxnSpPr>
            <a:stCxn id="411" idx="6"/>
            <a:endCxn id="412" idx="2"/>
          </p:cNvCxnSpPr>
          <p:nvPr/>
        </p:nvCxnSpPr>
        <p:spPr>
          <a:xfrm>
            <a:off x="2701440" y="2666520"/>
            <a:ext cx="358236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3170520" y="3691080"/>
            <a:ext cx="318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(1 - 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60480" y="4997520"/>
            <a:ext cx="18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[0,1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33280" y="1301760"/>
            <a:ext cx="331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ine Seg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81080" y="2209680"/>
            <a:ext cx="121932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2286000"/>
            <a:ext cx="121932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55200" y="5867280"/>
            <a:ext cx="243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nd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P-C Relax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61128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190656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82692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219564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flipH="1">
            <a:off x="611280" y="22035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H="1">
            <a:off x="611280" y="15559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flipH="1" flipV="1">
            <a:off x="826920" y="155556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flipH="1">
            <a:off x="826920" y="155592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263520" y="6922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ll LP-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6054840" y="6922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e SO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138636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25920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90216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176580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25920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241956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241956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349092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478620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370692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507528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 flipH="1">
            <a:off x="3490560" y="22035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flipH="1">
            <a:off x="3490560" y="15559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 flipH="1" flipV="1">
            <a:off x="3706560" y="155556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flipH="1">
            <a:off x="3706560" y="155592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426600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314028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378180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464544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314028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529956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529956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6372360" y="254628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7667640" y="254628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6588000" y="146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7956720" y="146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6372360" y="21859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flipH="1">
            <a:off x="6372360" y="153828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flipH="1" flipV="1">
            <a:off x="6588000" y="153792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flipH="1">
            <a:off x="6588000" y="153828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714744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602028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6663240" y="168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7526520" y="168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6020280" y="13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818064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8180640" y="13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140544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421992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717264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3317760" y="31590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P-S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604800" y="50198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1900080" y="50198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820800" y="39402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2189160" y="39402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 flipH="1">
            <a:off x="604440" y="46594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604440" y="40114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 flipH="1" flipV="1">
            <a:off x="820440" y="4011480"/>
            <a:ext cx="136836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 flipH="1">
            <a:off x="820440" y="4011480"/>
            <a:ext cx="136836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1379880" y="3598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252720" y="44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895320" y="4156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758960" y="4156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252720" y="37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2413440" y="44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2413440" y="37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3484440" y="50198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4780080" y="50198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3700440" y="39402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5068800" y="39402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>
            <a:off x="3484080" y="465948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 flipH="1">
            <a:off x="3484080" y="40114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 flipH="1" flipV="1">
            <a:off x="3700080" y="4011480"/>
            <a:ext cx="136836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 flipH="1">
            <a:off x="3700080" y="4011480"/>
            <a:ext cx="136836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259160" y="3598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3134160" y="44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3775320" y="415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4638960" y="415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3134160" y="37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293080" y="44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5293080" y="3797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6365880" y="50022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7661160" y="50022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6581880" y="39225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7950240" y="39225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 flipH="1">
            <a:off x="6365520" y="46418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 flipH="1">
            <a:off x="6365520" y="399420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 flipH="1" flipV="1">
            <a:off x="6581520" y="399384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 flipH="1">
            <a:off x="6581520" y="3994200"/>
            <a:ext cx="136836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6013800" y="4427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6656400" y="4138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7520040" y="4138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6013800" y="378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8174520" y="4427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8174520" y="378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1398960" y="470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213440" y="4707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7166160" y="470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709488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1803600" y="5934240"/>
            <a:ext cx="536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 + 2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4138560" y="5734080"/>
            <a:ext cx="64764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V="1">
            <a:off x="4067280" y="5734080"/>
            <a:ext cx="64764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P-C Relax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61128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0656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82692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219564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 flipH="1">
            <a:off x="611280" y="22035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 flipH="1">
            <a:off x="611280" y="15559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 flipH="1" flipV="1">
            <a:off x="826920" y="155556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 flipH="1">
            <a:off x="826920" y="155592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263520" y="6922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ll LP-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6054840" y="6922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e SO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138636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25920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90216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176580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25920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241956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241956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349092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786200" y="25639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70692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075280" y="148428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 flipH="1">
            <a:off x="3490560" y="22035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H="1">
            <a:off x="3490560" y="15559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 flipH="1" flipV="1">
            <a:off x="3706560" y="155556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 flipH="1">
            <a:off x="3706560" y="1555920"/>
            <a:ext cx="136836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426600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314028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378180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4645440" y="17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14028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529956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5299560" y="134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6372360" y="254628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7667640" y="254628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6588000" y="146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7956720" y="146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 flipH="1">
            <a:off x="6372360" y="21859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 flipH="1">
            <a:off x="6372360" y="153828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 flipH="1" flipV="1">
            <a:off x="6588000" y="153792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 flipH="1">
            <a:off x="6588000" y="1538280"/>
            <a:ext cx="1368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714744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602028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6663240" y="168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7526520" y="168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6020280" y="13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818064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8180640" y="13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140544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421992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7172640" y="225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3170160" y="31590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CP-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2629800" y="5589720"/>
            <a:ext cx="36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jective Function =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1764720" y="6186600"/>
            <a:ext cx="529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CP-C strictly dominates LP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0" name=""/>
          <p:cNvGrpSpPr/>
          <p:nvPr/>
        </p:nvGrpSpPr>
        <p:grpSpPr>
          <a:xfrm>
            <a:off x="47160" y="3645000"/>
            <a:ext cx="8771760" cy="1879560"/>
            <a:chOff x="47160" y="3645000"/>
            <a:chExt cx="8771760" cy="1879560"/>
          </a:xfrm>
        </p:grpSpPr>
        <p:sp>
          <p:nvSpPr>
            <p:cNvPr id="3121" name=""/>
            <p:cNvSpPr/>
            <p:nvPr/>
          </p:nvSpPr>
          <p:spPr>
            <a:xfrm>
              <a:off x="604800" y="501984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900080" y="501984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20800" y="394020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189160" y="394020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 flipH="1">
              <a:off x="604440" y="46594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 flipH="1">
              <a:off x="604440" y="40114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 flipV="1">
              <a:off x="820440" y="4011480"/>
              <a:ext cx="136836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 flipH="1">
              <a:off x="820440" y="4011480"/>
              <a:ext cx="136836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1260000" y="36464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48680" y="44928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85520" y="41497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0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1649160" y="41497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0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7160" y="38448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341080" y="44370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341440" y="37893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600360" y="501984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896000" y="5019840"/>
              <a:ext cx="50292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816360" y="394020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184720" y="394020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3600000" y="46594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H="1">
              <a:off x="3600000" y="401148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H="1" flipV="1">
              <a:off x="3816000" y="4011480"/>
              <a:ext cx="136836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>
              <a:off x="3816000" y="4011480"/>
              <a:ext cx="136836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144240" y="44370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060360" y="37893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408640" y="449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408640" y="3844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365880" y="500220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661160" y="5002200"/>
              <a:ext cx="5032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581880" y="392256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950240" y="3922560"/>
              <a:ext cx="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H="1">
              <a:off x="6365520" y="464184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6365520" y="399420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H="1" flipV="1">
              <a:off x="6581520" y="3993840"/>
              <a:ext cx="13683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H="1">
              <a:off x="6581520" y="3994200"/>
              <a:ext cx="13683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013440" y="447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013440" y="3827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260000" y="47005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284680" y="44370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183160" y="37893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992280" y="36450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518160" y="41482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0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381440" y="41482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0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992280" y="46990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4255920" y="3645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0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781080" y="4148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644360" y="4148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255920" y="4699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0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CP-Q Relax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264600" y="692280"/>
            <a:ext cx="39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ll cycle ine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6054840" y="6922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e SO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3419640" y="1557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4716360" y="1557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419640" y="256536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4716360" y="256536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6" name=""/>
          <p:cNvCxnSpPr>
            <a:stCxn id="3172" idx="4"/>
            <a:endCxn id="3174" idx="0"/>
          </p:cNvCxnSpPr>
          <p:nvPr/>
        </p:nvCxnSpPr>
        <p:spPr>
          <a:xfrm>
            <a:off x="3634920" y="1988640"/>
            <a:ext cx="1080" cy="577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77" name=""/>
          <p:cNvCxnSpPr>
            <a:stCxn id="3174" idx="6"/>
            <a:endCxn id="3175" idx="2"/>
          </p:cNvCxnSpPr>
          <p:nvPr/>
        </p:nvCxnSpPr>
        <p:spPr>
          <a:xfrm>
            <a:off x="3850920" y="2781000"/>
            <a:ext cx="865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78" name=""/>
          <p:cNvCxnSpPr>
            <a:stCxn id="3173" idx="4"/>
            <a:endCxn id="3175" idx="0"/>
          </p:cNvCxnSpPr>
          <p:nvPr/>
        </p:nvCxnSpPr>
        <p:spPr>
          <a:xfrm>
            <a:off x="4932000" y="1988640"/>
            <a:ext cx="1080" cy="577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79" name=""/>
          <p:cNvCxnSpPr>
            <a:stCxn id="3172" idx="6"/>
            <a:endCxn id="3173" idx="2"/>
          </p:cNvCxnSpPr>
          <p:nvPr/>
        </p:nvCxnSpPr>
        <p:spPr>
          <a:xfrm>
            <a:off x="3850920" y="1773000"/>
            <a:ext cx="865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80" name=""/>
          <p:cNvCxnSpPr>
            <a:stCxn id="3172" idx="5"/>
            <a:endCxn id="3175" idx="1"/>
          </p:cNvCxnSpPr>
          <p:nvPr/>
        </p:nvCxnSpPr>
        <p:spPr>
          <a:xfrm>
            <a:off x="3787920" y="1925640"/>
            <a:ext cx="992880" cy="704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81" name=""/>
          <p:cNvCxnSpPr>
            <a:stCxn id="3174" idx="7"/>
            <a:endCxn id="3173" idx="3"/>
          </p:cNvCxnSpPr>
          <p:nvPr/>
        </p:nvCxnSpPr>
        <p:spPr>
          <a:xfrm flipV="1">
            <a:off x="3787920" y="1925280"/>
            <a:ext cx="992880" cy="704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182" name=""/>
          <p:cNvSpPr/>
          <p:nvPr/>
        </p:nvSpPr>
        <p:spPr>
          <a:xfrm>
            <a:off x="5562360" y="19890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 of size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1550160" y="3213000"/>
            <a:ext cx="56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SOCP Constraint using  C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2784600" y="3860640"/>
            <a:ext cx="327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≤ n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1769040" y="4746600"/>
            <a:ext cx="53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CP-Q strictly dominates LP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1611000" y="5646600"/>
            <a:ext cx="59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CP-Q strictly dominates SOCP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Neighbourhood MR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8" name=""/>
          <p:cNvGrpSpPr/>
          <p:nvPr/>
        </p:nvGrpSpPr>
        <p:grpSpPr>
          <a:xfrm>
            <a:off x="2771640" y="981000"/>
            <a:ext cx="3240000" cy="2374920"/>
            <a:chOff x="2771640" y="981000"/>
            <a:chExt cx="3240000" cy="2374920"/>
          </a:xfrm>
        </p:grpSpPr>
        <p:sp>
          <p:nvSpPr>
            <p:cNvPr id="3189" name=""/>
            <p:cNvSpPr/>
            <p:nvPr/>
          </p:nvSpPr>
          <p:spPr>
            <a:xfrm>
              <a:off x="2771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27636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91" name=""/>
            <p:cNvCxnSpPr>
              <a:stCxn id="3189" idx="6"/>
              <a:endCxn id="3190" idx="2"/>
            </p:cNvCxnSpPr>
            <p:nvPr/>
          </p:nvCxnSpPr>
          <p:spPr>
            <a:xfrm>
              <a:off x="2987640" y="1088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2" name=""/>
            <p:cNvSpPr/>
            <p:nvPr/>
          </p:nvSpPr>
          <p:spPr>
            <a:xfrm>
              <a:off x="3779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28436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94" name=""/>
            <p:cNvCxnSpPr>
              <a:stCxn id="3192" idx="6"/>
              <a:endCxn id="3193" idx="2"/>
            </p:cNvCxnSpPr>
            <p:nvPr/>
          </p:nvCxnSpPr>
          <p:spPr>
            <a:xfrm>
              <a:off x="3995640" y="1088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95" name=""/>
            <p:cNvCxnSpPr>
              <a:stCxn id="3190" idx="6"/>
              <a:endCxn id="3192" idx="2"/>
            </p:cNvCxnSpPr>
            <p:nvPr/>
          </p:nvCxnSpPr>
          <p:spPr>
            <a:xfrm>
              <a:off x="3492360" y="1088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6" name=""/>
            <p:cNvSpPr/>
            <p:nvPr/>
          </p:nvSpPr>
          <p:spPr>
            <a:xfrm>
              <a:off x="4787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292720" y="98100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98" name=""/>
            <p:cNvCxnSpPr>
              <a:stCxn id="3196" idx="6"/>
              <a:endCxn id="3197" idx="2"/>
            </p:cNvCxnSpPr>
            <p:nvPr/>
          </p:nvCxnSpPr>
          <p:spPr>
            <a:xfrm>
              <a:off x="5003280" y="1088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9" name=""/>
            <p:cNvSpPr/>
            <p:nvPr/>
          </p:nvSpPr>
          <p:spPr>
            <a:xfrm>
              <a:off x="5795640" y="981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0" name=""/>
            <p:cNvCxnSpPr>
              <a:stCxn id="3197" idx="6"/>
              <a:endCxn id="3199" idx="2"/>
            </p:cNvCxnSpPr>
            <p:nvPr/>
          </p:nvCxnSpPr>
          <p:spPr>
            <a:xfrm>
              <a:off x="5508360" y="1088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01" name=""/>
            <p:cNvCxnSpPr>
              <a:stCxn id="3193" idx="6"/>
              <a:endCxn id="3196" idx="2"/>
            </p:cNvCxnSpPr>
            <p:nvPr/>
          </p:nvCxnSpPr>
          <p:spPr>
            <a:xfrm>
              <a:off x="4500360" y="1088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02" name=""/>
            <p:cNvSpPr/>
            <p:nvPr/>
          </p:nvSpPr>
          <p:spPr>
            <a:xfrm>
              <a:off x="2771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27636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4" name=""/>
            <p:cNvCxnSpPr>
              <a:stCxn id="3202" idx="6"/>
              <a:endCxn id="3203" idx="2"/>
            </p:cNvCxnSpPr>
            <p:nvPr/>
          </p:nvCxnSpPr>
          <p:spPr>
            <a:xfrm>
              <a:off x="2987640" y="1520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05" name=""/>
            <p:cNvSpPr/>
            <p:nvPr/>
          </p:nvSpPr>
          <p:spPr>
            <a:xfrm>
              <a:off x="3779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28436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7" name=""/>
            <p:cNvCxnSpPr>
              <a:stCxn id="3205" idx="6"/>
              <a:endCxn id="3206" idx="2"/>
            </p:cNvCxnSpPr>
            <p:nvPr/>
          </p:nvCxnSpPr>
          <p:spPr>
            <a:xfrm>
              <a:off x="3995640" y="1520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08" name=""/>
            <p:cNvCxnSpPr>
              <a:stCxn id="3203" idx="6"/>
              <a:endCxn id="3205" idx="2"/>
            </p:cNvCxnSpPr>
            <p:nvPr/>
          </p:nvCxnSpPr>
          <p:spPr>
            <a:xfrm>
              <a:off x="3492360" y="1520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09" name=""/>
            <p:cNvSpPr/>
            <p:nvPr/>
          </p:nvSpPr>
          <p:spPr>
            <a:xfrm>
              <a:off x="4787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292720" y="141300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11" name=""/>
            <p:cNvCxnSpPr>
              <a:stCxn id="3209" idx="6"/>
              <a:endCxn id="3210" idx="2"/>
            </p:cNvCxnSpPr>
            <p:nvPr/>
          </p:nvCxnSpPr>
          <p:spPr>
            <a:xfrm>
              <a:off x="5003280" y="152064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12" name=""/>
            <p:cNvSpPr/>
            <p:nvPr/>
          </p:nvSpPr>
          <p:spPr>
            <a:xfrm>
              <a:off x="5795640" y="141300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13" name=""/>
            <p:cNvCxnSpPr>
              <a:stCxn id="3210" idx="6"/>
              <a:endCxn id="3212" idx="2"/>
            </p:cNvCxnSpPr>
            <p:nvPr/>
          </p:nvCxnSpPr>
          <p:spPr>
            <a:xfrm>
              <a:off x="5508360" y="1520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14" name=""/>
            <p:cNvCxnSpPr>
              <a:stCxn id="3206" idx="6"/>
              <a:endCxn id="3209" idx="2"/>
            </p:cNvCxnSpPr>
            <p:nvPr/>
          </p:nvCxnSpPr>
          <p:spPr>
            <a:xfrm>
              <a:off x="4500360" y="152064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15" name=""/>
            <p:cNvCxnSpPr>
              <a:stCxn id="3189" idx="4"/>
              <a:endCxn id="3202" idx="0"/>
            </p:cNvCxnSpPr>
            <p:nvPr/>
          </p:nvCxnSpPr>
          <p:spPr>
            <a:xfrm>
              <a:off x="2879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16" name=""/>
            <p:cNvCxnSpPr>
              <a:stCxn id="3190" idx="4"/>
              <a:endCxn id="3203" idx="0"/>
            </p:cNvCxnSpPr>
            <p:nvPr/>
          </p:nvCxnSpPr>
          <p:spPr>
            <a:xfrm>
              <a:off x="338400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17" name=""/>
            <p:cNvCxnSpPr>
              <a:stCxn id="3192" idx="4"/>
              <a:endCxn id="3205" idx="0"/>
            </p:cNvCxnSpPr>
            <p:nvPr/>
          </p:nvCxnSpPr>
          <p:spPr>
            <a:xfrm>
              <a:off x="3887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18" name=""/>
            <p:cNvCxnSpPr>
              <a:stCxn id="3193" idx="4"/>
              <a:endCxn id="3206" idx="0"/>
            </p:cNvCxnSpPr>
            <p:nvPr/>
          </p:nvCxnSpPr>
          <p:spPr>
            <a:xfrm>
              <a:off x="439200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19" name=""/>
            <p:cNvCxnSpPr>
              <a:stCxn id="3196" idx="4"/>
              <a:endCxn id="3209" idx="0"/>
            </p:cNvCxnSpPr>
            <p:nvPr/>
          </p:nvCxnSpPr>
          <p:spPr>
            <a:xfrm>
              <a:off x="4895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20" name=""/>
            <p:cNvCxnSpPr>
              <a:stCxn id="3197" idx="4"/>
              <a:endCxn id="3210" idx="0"/>
            </p:cNvCxnSpPr>
            <p:nvPr/>
          </p:nvCxnSpPr>
          <p:spPr>
            <a:xfrm>
              <a:off x="540000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21" name=""/>
            <p:cNvCxnSpPr>
              <a:stCxn id="3199" idx="4"/>
              <a:endCxn id="3212" idx="0"/>
            </p:cNvCxnSpPr>
            <p:nvPr/>
          </p:nvCxnSpPr>
          <p:spPr>
            <a:xfrm>
              <a:off x="5903280" y="119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22" name=""/>
            <p:cNvSpPr/>
            <p:nvPr/>
          </p:nvSpPr>
          <p:spPr>
            <a:xfrm>
              <a:off x="2771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27636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24" name=""/>
            <p:cNvCxnSpPr>
              <a:stCxn id="3222" idx="6"/>
              <a:endCxn id="3223" idx="2"/>
            </p:cNvCxnSpPr>
            <p:nvPr/>
          </p:nvCxnSpPr>
          <p:spPr>
            <a:xfrm>
              <a:off x="2987640" y="1952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25" name=""/>
            <p:cNvSpPr/>
            <p:nvPr/>
          </p:nvSpPr>
          <p:spPr>
            <a:xfrm>
              <a:off x="3779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28436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27" name=""/>
            <p:cNvCxnSpPr>
              <a:stCxn id="3225" idx="6"/>
              <a:endCxn id="3226" idx="2"/>
            </p:cNvCxnSpPr>
            <p:nvPr/>
          </p:nvCxnSpPr>
          <p:spPr>
            <a:xfrm>
              <a:off x="3995640" y="1952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28" name=""/>
            <p:cNvCxnSpPr>
              <a:stCxn id="3223" idx="6"/>
              <a:endCxn id="3225" idx="2"/>
            </p:cNvCxnSpPr>
            <p:nvPr/>
          </p:nvCxnSpPr>
          <p:spPr>
            <a:xfrm>
              <a:off x="3492360" y="1952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29" name=""/>
            <p:cNvSpPr/>
            <p:nvPr/>
          </p:nvSpPr>
          <p:spPr>
            <a:xfrm>
              <a:off x="4787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292720" y="18446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1" name=""/>
            <p:cNvCxnSpPr>
              <a:stCxn id="3229" idx="6"/>
              <a:endCxn id="3230" idx="2"/>
            </p:cNvCxnSpPr>
            <p:nvPr/>
          </p:nvCxnSpPr>
          <p:spPr>
            <a:xfrm>
              <a:off x="5003280" y="1952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32" name=""/>
            <p:cNvSpPr/>
            <p:nvPr/>
          </p:nvSpPr>
          <p:spPr>
            <a:xfrm>
              <a:off x="5795640" y="1844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3" name=""/>
            <p:cNvCxnSpPr>
              <a:stCxn id="3230" idx="6"/>
              <a:endCxn id="3232" idx="2"/>
            </p:cNvCxnSpPr>
            <p:nvPr/>
          </p:nvCxnSpPr>
          <p:spPr>
            <a:xfrm>
              <a:off x="5508360" y="1952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34" name=""/>
            <p:cNvCxnSpPr>
              <a:stCxn id="3226" idx="6"/>
              <a:endCxn id="3229" idx="2"/>
            </p:cNvCxnSpPr>
            <p:nvPr/>
          </p:nvCxnSpPr>
          <p:spPr>
            <a:xfrm>
              <a:off x="4500360" y="1952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35" name=""/>
            <p:cNvCxnSpPr>
              <a:endCxn id="3222" idx="0"/>
            </p:cNvCxnSpPr>
            <p:nvPr/>
          </p:nvCxnSpPr>
          <p:spPr>
            <a:xfrm>
              <a:off x="2879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36" name=""/>
            <p:cNvCxnSpPr>
              <a:endCxn id="3223" idx="0"/>
            </p:cNvCxnSpPr>
            <p:nvPr/>
          </p:nvCxnSpPr>
          <p:spPr>
            <a:xfrm>
              <a:off x="338400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37" name=""/>
            <p:cNvCxnSpPr>
              <a:endCxn id="3225" idx="0"/>
            </p:cNvCxnSpPr>
            <p:nvPr/>
          </p:nvCxnSpPr>
          <p:spPr>
            <a:xfrm>
              <a:off x="3887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38" name=""/>
            <p:cNvCxnSpPr>
              <a:endCxn id="3226" idx="0"/>
            </p:cNvCxnSpPr>
            <p:nvPr/>
          </p:nvCxnSpPr>
          <p:spPr>
            <a:xfrm>
              <a:off x="439200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39" name=""/>
            <p:cNvCxnSpPr>
              <a:endCxn id="3229" idx="0"/>
            </p:cNvCxnSpPr>
            <p:nvPr/>
          </p:nvCxnSpPr>
          <p:spPr>
            <a:xfrm>
              <a:off x="4895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40" name=""/>
            <p:cNvCxnSpPr>
              <a:endCxn id="3230" idx="0"/>
            </p:cNvCxnSpPr>
            <p:nvPr/>
          </p:nvCxnSpPr>
          <p:spPr>
            <a:xfrm>
              <a:off x="540000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41" name=""/>
            <p:cNvCxnSpPr>
              <a:endCxn id="3232" idx="0"/>
            </p:cNvCxnSpPr>
            <p:nvPr/>
          </p:nvCxnSpPr>
          <p:spPr>
            <a:xfrm>
              <a:off x="5903280" y="162864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42" name=""/>
            <p:cNvSpPr/>
            <p:nvPr/>
          </p:nvSpPr>
          <p:spPr>
            <a:xfrm>
              <a:off x="2771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27636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4" name=""/>
            <p:cNvCxnSpPr>
              <a:stCxn id="3242" idx="6"/>
              <a:endCxn id="3243" idx="2"/>
            </p:cNvCxnSpPr>
            <p:nvPr/>
          </p:nvCxnSpPr>
          <p:spPr>
            <a:xfrm>
              <a:off x="2987640" y="2384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45" name=""/>
            <p:cNvSpPr/>
            <p:nvPr/>
          </p:nvSpPr>
          <p:spPr>
            <a:xfrm>
              <a:off x="3779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28436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7" name=""/>
            <p:cNvCxnSpPr>
              <a:stCxn id="3245" idx="6"/>
              <a:endCxn id="3246" idx="2"/>
            </p:cNvCxnSpPr>
            <p:nvPr/>
          </p:nvCxnSpPr>
          <p:spPr>
            <a:xfrm>
              <a:off x="3995640" y="2384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48" name=""/>
            <p:cNvCxnSpPr>
              <a:stCxn id="3243" idx="6"/>
              <a:endCxn id="3245" idx="2"/>
            </p:cNvCxnSpPr>
            <p:nvPr/>
          </p:nvCxnSpPr>
          <p:spPr>
            <a:xfrm>
              <a:off x="3492360" y="2384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49" name=""/>
            <p:cNvSpPr/>
            <p:nvPr/>
          </p:nvSpPr>
          <p:spPr>
            <a:xfrm>
              <a:off x="4787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292720" y="22766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51" name=""/>
            <p:cNvCxnSpPr>
              <a:stCxn id="3249" idx="6"/>
              <a:endCxn id="3250" idx="2"/>
            </p:cNvCxnSpPr>
            <p:nvPr/>
          </p:nvCxnSpPr>
          <p:spPr>
            <a:xfrm>
              <a:off x="5003280" y="238428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52" name=""/>
            <p:cNvSpPr/>
            <p:nvPr/>
          </p:nvSpPr>
          <p:spPr>
            <a:xfrm>
              <a:off x="5795640" y="2276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53" name=""/>
            <p:cNvCxnSpPr>
              <a:stCxn id="3250" idx="6"/>
              <a:endCxn id="3252" idx="2"/>
            </p:cNvCxnSpPr>
            <p:nvPr/>
          </p:nvCxnSpPr>
          <p:spPr>
            <a:xfrm>
              <a:off x="5508360" y="2384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54" name=""/>
            <p:cNvCxnSpPr>
              <a:stCxn id="3246" idx="6"/>
              <a:endCxn id="3249" idx="2"/>
            </p:cNvCxnSpPr>
            <p:nvPr/>
          </p:nvCxnSpPr>
          <p:spPr>
            <a:xfrm>
              <a:off x="4500360" y="238428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55" name=""/>
            <p:cNvCxnSpPr>
              <a:endCxn id="3242" idx="0"/>
            </p:cNvCxnSpPr>
            <p:nvPr/>
          </p:nvCxnSpPr>
          <p:spPr>
            <a:xfrm>
              <a:off x="2879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56" name=""/>
            <p:cNvCxnSpPr>
              <a:endCxn id="3243" idx="0"/>
            </p:cNvCxnSpPr>
            <p:nvPr/>
          </p:nvCxnSpPr>
          <p:spPr>
            <a:xfrm>
              <a:off x="338400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57" name=""/>
            <p:cNvCxnSpPr>
              <a:endCxn id="3245" idx="0"/>
            </p:cNvCxnSpPr>
            <p:nvPr/>
          </p:nvCxnSpPr>
          <p:spPr>
            <a:xfrm>
              <a:off x="3887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58" name=""/>
            <p:cNvCxnSpPr>
              <a:endCxn id="3246" idx="0"/>
            </p:cNvCxnSpPr>
            <p:nvPr/>
          </p:nvCxnSpPr>
          <p:spPr>
            <a:xfrm>
              <a:off x="439200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59" name=""/>
            <p:cNvCxnSpPr>
              <a:endCxn id="3249" idx="0"/>
            </p:cNvCxnSpPr>
            <p:nvPr/>
          </p:nvCxnSpPr>
          <p:spPr>
            <a:xfrm>
              <a:off x="4895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60" name=""/>
            <p:cNvCxnSpPr>
              <a:endCxn id="3250" idx="0"/>
            </p:cNvCxnSpPr>
            <p:nvPr/>
          </p:nvCxnSpPr>
          <p:spPr>
            <a:xfrm>
              <a:off x="540000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61" name=""/>
            <p:cNvCxnSpPr>
              <a:endCxn id="3252" idx="0"/>
            </p:cNvCxnSpPr>
            <p:nvPr/>
          </p:nvCxnSpPr>
          <p:spPr>
            <a:xfrm>
              <a:off x="5903280" y="20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62" name=""/>
            <p:cNvSpPr/>
            <p:nvPr/>
          </p:nvSpPr>
          <p:spPr>
            <a:xfrm>
              <a:off x="2771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27636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64" name=""/>
            <p:cNvCxnSpPr>
              <a:stCxn id="3262" idx="6"/>
              <a:endCxn id="3263" idx="2"/>
            </p:cNvCxnSpPr>
            <p:nvPr/>
          </p:nvCxnSpPr>
          <p:spPr>
            <a:xfrm>
              <a:off x="2987640" y="2815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65" name=""/>
            <p:cNvSpPr/>
            <p:nvPr/>
          </p:nvSpPr>
          <p:spPr>
            <a:xfrm>
              <a:off x="3779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28436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67" name=""/>
            <p:cNvCxnSpPr>
              <a:stCxn id="3265" idx="6"/>
              <a:endCxn id="3266" idx="2"/>
            </p:cNvCxnSpPr>
            <p:nvPr/>
          </p:nvCxnSpPr>
          <p:spPr>
            <a:xfrm>
              <a:off x="3995640" y="2815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68" name=""/>
            <p:cNvCxnSpPr>
              <a:stCxn id="3263" idx="6"/>
              <a:endCxn id="3265" idx="2"/>
            </p:cNvCxnSpPr>
            <p:nvPr/>
          </p:nvCxnSpPr>
          <p:spPr>
            <a:xfrm>
              <a:off x="3492360" y="2815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69" name=""/>
            <p:cNvSpPr/>
            <p:nvPr/>
          </p:nvSpPr>
          <p:spPr>
            <a:xfrm>
              <a:off x="4787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292720" y="270828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1" name=""/>
            <p:cNvCxnSpPr>
              <a:stCxn id="3269" idx="6"/>
              <a:endCxn id="3270" idx="2"/>
            </p:cNvCxnSpPr>
            <p:nvPr/>
          </p:nvCxnSpPr>
          <p:spPr>
            <a:xfrm>
              <a:off x="5003280" y="2815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72" name=""/>
            <p:cNvSpPr/>
            <p:nvPr/>
          </p:nvSpPr>
          <p:spPr>
            <a:xfrm>
              <a:off x="5795640" y="2708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3" name=""/>
            <p:cNvCxnSpPr>
              <a:stCxn id="3270" idx="6"/>
              <a:endCxn id="3272" idx="2"/>
            </p:cNvCxnSpPr>
            <p:nvPr/>
          </p:nvCxnSpPr>
          <p:spPr>
            <a:xfrm>
              <a:off x="5508360" y="2815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74" name=""/>
            <p:cNvCxnSpPr>
              <a:stCxn id="3266" idx="6"/>
              <a:endCxn id="3269" idx="2"/>
            </p:cNvCxnSpPr>
            <p:nvPr/>
          </p:nvCxnSpPr>
          <p:spPr>
            <a:xfrm>
              <a:off x="4500360" y="2815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75" name=""/>
            <p:cNvCxnSpPr>
              <a:endCxn id="3262" idx="0"/>
            </p:cNvCxnSpPr>
            <p:nvPr/>
          </p:nvCxnSpPr>
          <p:spPr>
            <a:xfrm>
              <a:off x="2879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76" name=""/>
            <p:cNvCxnSpPr>
              <a:endCxn id="3263" idx="0"/>
            </p:cNvCxnSpPr>
            <p:nvPr/>
          </p:nvCxnSpPr>
          <p:spPr>
            <a:xfrm>
              <a:off x="338400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77" name=""/>
            <p:cNvCxnSpPr>
              <a:endCxn id="3265" idx="0"/>
            </p:cNvCxnSpPr>
            <p:nvPr/>
          </p:nvCxnSpPr>
          <p:spPr>
            <a:xfrm>
              <a:off x="3887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78" name=""/>
            <p:cNvCxnSpPr>
              <a:endCxn id="3266" idx="0"/>
            </p:cNvCxnSpPr>
            <p:nvPr/>
          </p:nvCxnSpPr>
          <p:spPr>
            <a:xfrm>
              <a:off x="439200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79" name=""/>
            <p:cNvCxnSpPr>
              <a:endCxn id="3269" idx="0"/>
            </p:cNvCxnSpPr>
            <p:nvPr/>
          </p:nvCxnSpPr>
          <p:spPr>
            <a:xfrm>
              <a:off x="4895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80" name=""/>
            <p:cNvCxnSpPr>
              <a:endCxn id="3270" idx="0"/>
            </p:cNvCxnSpPr>
            <p:nvPr/>
          </p:nvCxnSpPr>
          <p:spPr>
            <a:xfrm>
              <a:off x="540000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81" name=""/>
            <p:cNvCxnSpPr>
              <a:endCxn id="3272" idx="0"/>
            </p:cNvCxnSpPr>
            <p:nvPr/>
          </p:nvCxnSpPr>
          <p:spPr>
            <a:xfrm>
              <a:off x="5903280" y="249228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82" name=""/>
            <p:cNvSpPr/>
            <p:nvPr/>
          </p:nvSpPr>
          <p:spPr>
            <a:xfrm>
              <a:off x="2771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327636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84" name=""/>
            <p:cNvCxnSpPr>
              <a:stCxn id="3282" idx="6"/>
              <a:endCxn id="3283" idx="2"/>
            </p:cNvCxnSpPr>
            <p:nvPr/>
          </p:nvCxnSpPr>
          <p:spPr>
            <a:xfrm>
              <a:off x="2987640" y="3247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85" name=""/>
            <p:cNvSpPr/>
            <p:nvPr/>
          </p:nvSpPr>
          <p:spPr>
            <a:xfrm>
              <a:off x="3779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28436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87" name=""/>
            <p:cNvCxnSpPr>
              <a:stCxn id="3285" idx="6"/>
              <a:endCxn id="3286" idx="2"/>
            </p:cNvCxnSpPr>
            <p:nvPr/>
          </p:nvCxnSpPr>
          <p:spPr>
            <a:xfrm>
              <a:off x="3995640" y="3247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88" name=""/>
            <p:cNvCxnSpPr>
              <a:stCxn id="3283" idx="6"/>
              <a:endCxn id="3285" idx="2"/>
            </p:cNvCxnSpPr>
            <p:nvPr/>
          </p:nvCxnSpPr>
          <p:spPr>
            <a:xfrm>
              <a:off x="3492360" y="3247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89" name=""/>
            <p:cNvSpPr/>
            <p:nvPr/>
          </p:nvSpPr>
          <p:spPr>
            <a:xfrm>
              <a:off x="4787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292720" y="314028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1" name=""/>
            <p:cNvCxnSpPr>
              <a:stCxn id="3289" idx="6"/>
              <a:endCxn id="3290" idx="2"/>
            </p:cNvCxnSpPr>
            <p:nvPr/>
          </p:nvCxnSpPr>
          <p:spPr>
            <a:xfrm>
              <a:off x="5003280" y="3247920"/>
              <a:ext cx="289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92" name=""/>
            <p:cNvSpPr/>
            <p:nvPr/>
          </p:nvSpPr>
          <p:spPr>
            <a:xfrm>
              <a:off x="5795640" y="3140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3" name=""/>
            <p:cNvCxnSpPr>
              <a:stCxn id="3290" idx="6"/>
              <a:endCxn id="3292" idx="2"/>
            </p:cNvCxnSpPr>
            <p:nvPr/>
          </p:nvCxnSpPr>
          <p:spPr>
            <a:xfrm>
              <a:off x="5508360" y="3247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94" name=""/>
            <p:cNvCxnSpPr>
              <a:stCxn id="3286" idx="6"/>
              <a:endCxn id="3289" idx="2"/>
            </p:cNvCxnSpPr>
            <p:nvPr/>
          </p:nvCxnSpPr>
          <p:spPr>
            <a:xfrm>
              <a:off x="4500360" y="3247920"/>
              <a:ext cx="288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95" name=""/>
            <p:cNvCxnSpPr>
              <a:endCxn id="3282" idx="0"/>
            </p:cNvCxnSpPr>
            <p:nvPr/>
          </p:nvCxnSpPr>
          <p:spPr>
            <a:xfrm>
              <a:off x="2879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96" name=""/>
            <p:cNvCxnSpPr>
              <a:endCxn id="3283" idx="0"/>
            </p:cNvCxnSpPr>
            <p:nvPr/>
          </p:nvCxnSpPr>
          <p:spPr>
            <a:xfrm>
              <a:off x="338400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97" name=""/>
            <p:cNvCxnSpPr>
              <a:endCxn id="3285" idx="0"/>
            </p:cNvCxnSpPr>
            <p:nvPr/>
          </p:nvCxnSpPr>
          <p:spPr>
            <a:xfrm>
              <a:off x="3887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98" name=""/>
            <p:cNvCxnSpPr>
              <a:endCxn id="3286" idx="0"/>
            </p:cNvCxnSpPr>
            <p:nvPr/>
          </p:nvCxnSpPr>
          <p:spPr>
            <a:xfrm>
              <a:off x="439200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99" name=""/>
            <p:cNvCxnSpPr>
              <a:endCxn id="3289" idx="0"/>
            </p:cNvCxnSpPr>
            <p:nvPr/>
          </p:nvCxnSpPr>
          <p:spPr>
            <a:xfrm>
              <a:off x="4895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00" name=""/>
            <p:cNvCxnSpPr>
              <a:endCxn id="3290" idx="0"/>
            </p:cNvCxnSpPr>
            <p:nvPr/>
          </p:nvCxnSpPr>
          <p:spPr>
            <a:xfrm>
              <a:off x="540000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01" name=""/>
            <p:cNvCxnSpPr>
              <a:endCxn id="3292" idx="0"/>
            </p:cNvCxnSpPr>
            <p:nvPr/>
          </p:nvCxnSpPr>
          <p:spPr>
            <a:xfrm>
              <a:off x="5903280" y="292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302" name=""/>
          <p:cNvSpPr/>
          <p:nvPr/>
        </p:nvSpPr>
        <p:spPr>
          <a:xfrm>
            <a:off x="6661080" y="126828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SOCP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2627280" y="836640"/>
            <a:ext cx="1008000" cy="936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3132000" y="836640"/>
            <a:ext cx="1008360" cy="936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5148360" y="2563920"/>
            <a:ext cx="1008000" cy="936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2516760" y="386064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binary MRFs of size 30x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3498840" y="44496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3505680" y="5084640"/>
            <a:ext cx="19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0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Neighbourhood MR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852360" y="549288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1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-Neighbourhood MR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6660720" y="12682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SOCP-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2627280" y="836640"/>
            <a:ext cx="1008000" cy="936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3132000" y="836640"/>
            <a:ext cx="1008360" cy="936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5148360" y="2565360"/>
            <a:ext cx="1008000" cy="936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2516760" y="386064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binary MRFs of size 30x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498840" y="44496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3505680" y="5084640"/>
            <a:ext cx="19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0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277164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3276720" y="981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2" name=""/>
          <p:cNvCxnSpPr>
            <a:stCxn id="3320" idx="6"/>
            <a:endCxn id="3321" idx="2"/>
          </p:cNvCxnSpPr>
          <p:nvPr/>
        </p:nvCxnSpPr>
        <p:spPr>
          <a:xfrm>
            <a:off x="2987280" y="1088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3" name=""/>
          <p:cNvCxnSpPr>
            <a:stCxn id="3321" idx="6"/>
          </p:cNvCxnSpPr>
          <p:nvPr/>
        </p:nvCxnSpPr>
        <p:spPr>
          <a:xfrm>
            <a:off x="3492000" y="108864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4" name=""/>
          <p:cNvSpPr/>
          <p:nvPr/>
        </p:nvSpPr>
        <p:spPr>
          <a:xfrm>
            <a:off x="277164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3276720" y="141300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6" name=""/>
          <p:cNvCxnSpPr>
            <a:stCxn id="3324" idx="6"/>
            <a:endCxn id="3325" idx="2"/>
          </p:cNvCxnSpPr>
          <p:nvPr/>
        </p:nvCxnSpPr>
        <p:spPr>
          <a:xfrm>
            <a:off x="2987280" y="1520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7" name=""/>
          <p:cNvCxnSpPr>
            <a:stCxn id="3325" idx="6"/>
          </p:cNvCxnSpPr>
          <p:nvPr/>
        </p:nvCxnSpPr>
        <p:spPr>
          <a:xfrm>
            <a:off x="3492000" y="152064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8" name=""/>
          <p:cNvCxnSpPr>
            <a:stCxn id="3320" idx="4"/>
            <a:endCxn id="3324" idx="0"/>
          </p:cNvCxnSpPr>
          <p:nvPr/>
        </p:nvCxnSpPr>
        <p:spPr>
          <a:xfrm>
            <a:off x="287928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9" name=""/>
          <p:cNvCxnSpPr>
            <a:stCxn id="3321" idx="4"/>
            <a:endCxn id="3325" idx="0"/>
          </p:cNvCxnSpPr>
          <p:nvPr/>
        </p:nvCxnSpPr>
        <p:spPr>
          <a:xfrm>
            <a:off x="338436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30" name=""/>
          <p:cNvSpPr/>
          <p:nvPr/>
        </p:nvSpPr>
        <p:spPr>
          <a:xfrm>
            <a:off x="277164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3276720" y="1844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2" name=""/>
          <p:cNvCxnSpPr>
            <a:stCxn id="3330" idx="6"/>
            <a:endCxn id="3331" idx="2"/>
          </p:cNvCxnSpPr>
          <p:nvPr/>
        </p:nvCxnSpPr>
        <p:spPr>
          <a:xfrm>
            <a:off x="2987280" y="1952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3" name=""/>
          <p:cNvCxnSpPr>
            <a:stCxn id="3331" idx="6"/>
          </p:cNvCxnSpPr>
          <p:nvPr/>
        </p:nvCxnSpPr>
        <p:spPr>
          <a:xfrm>
            <a:off x="3492000" y="195228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4" name=""/>
          <p:cNvCxnSpPr>
            <a:endCxn id="3330" idx="0"/>
          </p:cNvCxnSpPr>
          <p:nvPr/>
        </p:nvCxnSpPr>
        <p:spPr>
          <a:xfrm>
            <a:off x="287928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5" name=""/>
          <p:cNvCxnSpPr>
            <a:endCxn id="3331" idx="0"/>
          </p:cNvCxnSpPr>
          <p:nvPr/>
        </p:nvCxnSpPr>
        <p:spPr>
          <a:xfrm>
            <a:off x="338436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36" name=""/>
          <p:cNvSpPr/>
          <p:nvPr/>
        </p:nvSpPr>
        <p:spPr>
          <a:xfrm>
            <a:off x="277164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3276720" y="227664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8" name=""/>
          <p:cNvCxnSpPr>
            <a:stCxn id="3336" idx="6"/>
            <a:endCxn id="3337" idx="2"/>
          </p:cNvCxnSpPr>
          <p:nvPr/>
        </p:nvCxnSpPr>
        <p:spPr>
          <a:xfrm>
            <a:off x="2987280" y="2383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9" name=""/>
          <p:cNvCxnSpPr>
            <a:stCxn id="3337" idx="6"/>
          </p:cNvCxnSpPr>
          <p:nvPr/>
        </p:nvCxnSpPr>
        <p:spPr>
          <a:xfrm>
            <a:off x="3492000" y="238392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0" name=""/>
          <p:cNvCxnSpPr>
            <a:endCxn id="3336" idx="0"/>
          </p:cNvCxnSpPr>
          <p:nvPr/>
        </p:nvCxnSpPr>
        <p:spPr>
          <a:xfrm>
            <a:off x="287928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1" name=""/>
          <p:cNvCxnSpPr>
            <a:endCxn id="3337" idx="0"/>
          </p:cNvCxnSpPr>
          <p:nvPr/>
        </p:nvCxnSpPr>
        <p:spPr>
          <a:xfrm>
            <a:off x="338436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42" name=""/>
          <p:cNvSpPr/>
          <p:nvPr/>
        </p:nvSpPr>
        <p:spPr>
          <a:xfrm>
            <a:off x="277164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3276720" y="270828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4" name=""/>
          <p:cNvCxnSpPr>
            <a:stCxn id="3342" idx="6"/>
            <a:endCxn id="3343" idx="2"/>
          </p:cNvCxnSpPr>
          <p:nvPr/>
        </p:nvCxnSpPr>
        <p:spPr>
          <a:xfrm>
            <a:off x="2987280" y="2815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5" name=""/>
          <p:cNvCxnSpPr>
            <a:stCxn id="3343" idx="6"/>
          </p:cNvCxnSpPr>
          <p:nvPr/>
        </p:nvCxnSpPr>
        <p:spPr>
          <a:xfrm>
            <a:off x="3492000" y="281592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6" name=""/>
          <p:cNvCxnSpPr>
            <a:endCxn id="3342" idx="0"/>
          </p:cNvCxnSpPr>
          <p:nvPr/>
        </p:nvCxnSpPr>
        <p:spPr>
          <a:xfrm>
            <a:off x="287928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7" name=""/>
          <p:cNvCxnSpPr>
            <a:endCxn id="3343" idx="0"/>
          </p:cNvCxnSpPr>
          <p:nvPr/>
        </p:nvCxnSpPr>
        <p:spPr>
          <a:xfrm>
            <a:off x="338436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48" name=""/>
          <p:cNvSpPr/>
          <p:nvPr/>
        </p:nvSpPr>
        <p:spPr>
          <a:xfrm>
            <a:off x="277164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3276720" y="313992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0" name=""/>
          <p:cNvCxnSpPr>
            <a:stCxn id="3348" idx="6"/>
            <a:endCxn id="3349" idx="2"/>
          </p:cNvCxnSpPr>
          <p:nvPr/>
        </p:nvCxnSpPr>
        <p:spPr>
          <a:xfrm>
            <a:off x="2987280" y="32475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1" name=""/>
          <p:cNvCxnSpPr>
            <a:stCxn id="3349" idx="6"/>
          </p:cNvCxnSpPr>
          <p:nvPr/>
        </p:nvCxnSpPr>
        <p:spPr>
          <a:xfrm>
            <a:off x="3492000" y="324756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2" name=""/>
          <p:cNvCxnSpPr>
            <a:endCxn id="3348" idx="0"/>
          </p:cNvCxnSpPr>
          <p:nvPr/>
        </p:nvCxnSpPr>
        <p:spPr>
          <a:xfrm>
            <a:off x="287928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3" name=""/>
          <p:cNvCxnSpPr>
            <a:endCxn id="3349" idx="0"/>
          </p:cNvCxnSpPr>
          <p:nvPr/>
        </p:nvCxnSpPr>
        <p:spPr>
          <a:xfrm>
            <a:off x="338436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4" name=""/>
          <p:cNvCxnSpPr>
            <a:stCxn id="3320" idx="4"/>
            <a:endCxn id="3325" idx="0"/>
          </p:cNvCxnSpPr>
          <p:nvPr/>
        </p:nvCxnSpPr>
        <p:spPr>
          <a:xfrm>
            <a:off x="2879280" y="119700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5" name=""/>
          <p:cNvCxnSpPr>
            <a:stCxn id="3324" idx="0"/>
            <a:endCxn id="3321" idx="4"/>
          </p:cNvCxnSpPr>
          <p:nvPr/>
        </p:nvCxnSpPr>
        <p:spPr>
          <a:xfrm flipV="1">
            <a:off x="2879280" y="119664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6" name=""/>
          <p:cNvCxnSpPr>
            <a:stCxn id="3324" idx="4"/>
            <a:endCxn id="3331" idx="0"/>
          </p:cNvCxnSpPr>
          <p:nvPr/>
        </p:nvCxnSpPr>
        <p:spPr>
          <a:xfrm>
            <a:off x="2879280" y="162864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7" name=""/>
          <p:cNvCxnSpPr>
            <a:stCxn id="3330" idx="0"/>
            <a:endCxn id="3325" idx="4"/>
          </p:cNvCxnSpPr>
          <p:nvPr/>
        </p:nvCxnSpPr>
        <p:spPr>
          <a:xfrm flipV="1">
            <a:off x="2879280" y="162828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8" name=""/>
          <p:cNvCxnSpPr>
            <a:stCxn id="3330" idx="4"/>
            <a:endCxn id="3337" idx="0"/>
          </p:cNvCxnSpPr>
          <p:nvPr/>
        </p:nvCxnSpPr>
        <p:spPr>
          <a:xfrm>
            <a:off x="2879280" y="206064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9" name=""/>
          <p:cNvCxnSpPr>
            <a:stCxn id="3336" idx="0"/>
            <a:endCxn id="3331" idx="4"/>
          </p:cNvCxnSpPr>
          <p:nvPr/>
        </p:nvCxnSpPr>
        <p:spPr>
          <a:xfrm flipV="1">
            <a:off x="2879280" y="206028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0" name=""/>
          <p:cNvCxnSpPr>
            <a:stCxn id="3336" idx="4"/>
            <a:endCxn id="3343" idx="0"/>
          </p:cNvCxnSpPr>
          <p:nvPr/>
        </p:nvCxnSpPr>
        <p:spPr>
          <a:xfrm>
            <a:off x="2879280" y="249228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1" name=""/>
          <p:cNvCxnSpPr>
            <a:stCxn id="3342" idx="0"/>
            <a:endCxn id="3337" idx="4"/>
          </p:cNvCxnSpPr>
          <p:nvPr/>
        </p:nvCxnSpPr>
        <p:spPr>
          <a:xfrm flipV="1">
            <a:off x="2879280" y="249192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2" name=""/>
          <p:cNvCxnSpPr>
            <a:stCxn id="3342" idx="4"/>
            <a:endCxn id="3349" idx="0"/>
          </p:cNvCxnSpPr>
          <p:nvPr/>
        </p:nvCxnSpPr>
        <p:spPr>
          <a:xfrm>
            <a:off x="2879280" y="2923920"/>
            <a:ext cx="5058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3" name=""/>
          <p:cNvCxnSpPr>
            <a:stCxn id="3348" idx="0"/>
            <a:endCxn id="3343" idx="4"/>
          </p:cNvCxnSpPr>
          <p:nvPr/>
        </p:nvCxnSpPr>
        <p:spPr>
          <a:xfrm flipV="1">
            <a:off x="2879280" y="2923560"/>
            <a:ext cx="5058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4" name=""/>
          <p:cNvSpPr/>
          <p:nvPr/>
        </p:nvSpPr>
        <p:spPr>
          <a:xfrm>
            <a:off x="3780000" y="981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428472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6" name=""/>
          <p:cNvCxnSpPr>
            <a:stCxn id="3364" idx="6"/>
            <a:endCxn id="3365" idx="2"/>
          </p:cNvCxnSpPr>
          <p:nvPr/>
        </p:nvCxnSpPr>
        <p:spPr>
          <a:xfrm>
            <a:off x="3995280" y="1088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7" name=""/>
          <p:cNvCxnSpPr>
            <a:stCxn id="3365" idx="6"/>
          </p:cNvCxnSpPr>
          <p:nvPr/>
        </p:nvCxnSpPr>
        <p:spPr>
          <a:xfrm>
            <a:off x="4500720" y="1088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8" name=""/>
          <p:cNvSpPr/>
          <p:nvPr/>
        </p:nvSpPr>
        <p:spPr>
          <a:xfrm>
            <a:off x="3780000" y="141300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428472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0" name=""/>
          <p:cNvCxnSpPr>
            <a:stCxn id="3368" idx="6"/>
            <a:endCxn id="3369" idx="2"/>
          </p:cNvCxnSpPr>
          <p:nvPr/>
        </p:nvCxnSpPr>
        <p:spPr>
          <a:xfrm>
            <a:off x="3995280" y="1520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1" name=""/>
          <p:cNvCxnSpPr>
            <a:stCxn id="3369" idx="6"/>
          </p:cNvCxnSpPr>
          <p:nvPr/>
        </p:nvCxnSpPr>
        <p:spPr>
          <a:xfrm>
            <a:off x="4500720" y="1520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2" name=""/>
          <p:cNvCxnSpPr>
            <a:stCxn id="3364" idx="4"/>
            <a:endCxn id="3368" idx="0"/>
          </p:cNvCxnSpPr>
          <p:nvPr/>
        </p:nvCxnSpPr>
        <p:spPr>
          <a:xfrm>
            <a:off x="388728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3" name=""/>
          <p:cNvCxnSpPr>
            <a:stCxn id="3365" idx="4"/>
            <a:endCxn id="3369" idx="0"/>
          </p:cNvCxnSpPr>
          <p:nvPr/>
        </p:nvCxnSpPr>
        <p:spPr>
          <a:xfrm>
            <a:off x="439236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74" name=""/>
          <p:cNvSpPr/>
          <p:nvPr/>
        </p:nvSpPr>
        <p:spPr>
          <a:xfrm>
            <a:off x="3780000" y="1844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428472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6" name=""/>
          <p:cNvCxnSpPr>
            <a:stCxn id="3374" idx="6"/>
            <a:endCxn id="3375" idx="2"/>
          </p:cNvCxnSpPr>
          <p:nvPr/>
        </p:nvCxnSpPr>
        <p:spPr>
          <a:xfrm>
            <a:off x="3995280" y="1952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7" name=""/>
          <p:cNvCxnSpPr>
            <a:stCxn id="3375" idx="6"/>
          </p:cNvCxnSpPr>
          <p:nvPr/>
        </p:nvCxnSpPr>
        <p:spPr>
          <a:xfrm>
            <a:off x="4500720" y="1952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8" name=""/>
          <p:cNvCxnSpPr>
            <a:endCxn id="3374" idx="0"/>
          </p:cNvCxnSpPr>
          <p:nvPr/>
        </p:nvCxnSpPr>
        <p:spPr>
          <a:xfrm>
            <a:off x="388728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9" name=""/>
          <p:cNvCxnSpPr>
            <a:endCxn id="3375" idx="0"/>
          </p:cNvCxnSpPr>
          <p:nvPr/>
        </p:nvCxnSpPr>
        <p:spPr>
          <a:xfrm>
            <a:off x="439236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80" name=""/>
          <p:cNvSpPr/>
          <p:nvPr/>
        </p:nvSpPr>
        <p:spPr>
          <a:xfrm>
            <a:off x="3780000" y="227664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428472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2" name=""/>
          <p:cNvCxnSpPr>
            <a:stCxn id="3380" idx="6"/>
            <a:endCxn id="3381" idx="2"/>
          </p:cNvCxnSpPr>
          <p:nvPr/>
        </p:nvCxnSpPr>
        <p:spPr>
          <a:xfrm>
            <a:off x="3995280" y="2383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3" name=""/>
          <p:cNvCxnSpPr>
            <a:stCxn id="3381" idx="6"/>
          </p:cNvCxnSpPr>
          <p:nvPr/>
        </p:nvCxnSpPr>
        <p:spPr>
          <a:xfrm>
            <a:off x="4500720" y="2383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4" name=""/>
          <p:cNvCxnSpPr>
            <a:endCxn id="3380" idx="0"/>
          </p:cNvCxnSpPr>
          <p:nvPr/>
        </p:nvCxnSpPr>
        <p:spPr>
          <a:xfrm>
            <a:off x="388728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5" name=""/>
          <p:cNvCxnSpPr>
            <a:endCxn id="3381" idx="0"/>
          </p:cNvCxnSpPr>
          <p:nvPr/>
        </p:nvCxnSpPr>
        <p:spPr>
          <a:xfrm>
            <a:off x="439236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86" name=""/>
          <p:cNvSpPr/>
          <p:nvPr/>
        </p:nvSpPr>
        <p:spPr>
          <a:xfrm>
            <a:off x="3780000" y="270828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428472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8" name=""/>
          <p:cNvCxnSpPr>
            <a:stCxn id="3386" idx="6"/>
            <a:endCxn id="3387" idx="2"/>
          </p:cNvCxnSpPr>
          <p:nvPr/>
        </p:nvCxnSpPr>
        <p:spPr>
          <a:xfrm>
            <a:off x="3995280" y="2815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9" name=""/>
          <p:cNvCxnSpPr>
            <a:stCxn id="3387" idx="6"/>
          </p:cNvCxnSpPr>
          <p:nvPr/>
        </p:nvCxnSpPr>
        <p:spPr>
          <a:xfrm>
            <a:off x="4500720" y="2815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0" name=""/>
          <p:cNvCxnSpPr>
            <a:endCxn id="3386" idx="0"/>
          </p:cNvCxnSpPr>
          <p:nvPr/>
        </p:nvCxnSpPr>
        <p:spPr>
          <a:xfrm>
            <a:off x="388728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1" name=""/>
          <p:cNvCxnSpPr>
            <a:endCxn id="3387" idx="0"/>
          </p:cNvCxnSpPr>
          <p:nvPr/>
        </p:nvCxnSpPr>
        <p:spPr>
          <a:xfrm>
            <a:off x="439236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92" name=""/>
          <p:cNvSpPr/>
          <p:nvPr/>
        </p:nvSpPr>
        <p:spPr>
          <a:xfrm>
            <a:off x="3780000" y="313992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428472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4" name=""/>
          <p:cNvCxnSpPr>
            <a:stCxn id="3392" idx="6"/>
            <a:endCxn id="3393" idx="2"/>
          </p:cNvCxnSpPr>
          <p:nvPr/>
        </p:nvCxnSpPr>
        <p:spPr>
          <a:xfrm>
            <a:off x="3995280" y="32475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5" name=""/>
          <p:cNvCxnSpPr>
            <a:stCxn id="3393" idx="6"/>
          </p:cNvCxnSpPr>
          <p:nvPr/>
        </p:nvCxnSpPr>
        <p:spPr>
          <a:xfrm>
            <a:off x="4500720" y="324756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6" name=""/>
          <p:cNvCxnSpPr>
            <a:endCxn id="3392" idx="0"/>
          </p:cNvCxnSpPr>
          <p:nvPr/>
        </p:nvCxnSpPr>
        <p:spPr>
          <a:xfrm>
            <a:off x="388728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7" name=""/>
          <p:cNvCxnSpPr>
            <a:endCxn id="3393" idx="0"/>
          </p:cNvCxnSpPr>
          <p:nvPr/>
        </p:nvCxnSpPr>
        <p:spPr>
          <a:xfrm>
            <a:off x="439236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8" name=""/>
          <p:cNvCxnSpPr>
            <a:stCxn id="3364" idx="4"/>
            <a:endCxn id="3369" idx="0"/>
          </p:cNvCxnSpPr>
          <p:nvPr/>
        </p:nvCxnSpPr>
        <p:spPr>
          <a:xfrm>
            <a:off x="3887280" y="119700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9" name=""/>
          <p:cNvCxnSpPr>
            <a:stCxn id="3368" idx="0"/>
            <a:endCxn id="3365" idx="4"/>
          </p:cNvCxnSpPr>
          <p:nvPr/>
        </p:nvCxnSpPr>
        <p:spPr>
          <a:xfrm flipV="1">
            <a:off x="3887280" y="119664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0" name=""/>
          <p:cNvCxnSpPr>
            <a:stCxn id="3368" idx="4"/>
            <a:endCxn id="3375" idx="0"/>
          </p:cNvCxnSpPr>
          <p:nvPr/>
        </p:nvCxnSpPr>
        <p:spPr>
          <a:xfrm>
            <a:off x="3887280" y="162864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1" name=""/>
          <p:cNvCxnSpPr>
            <a:stCxn id="3374" idx="0"/>
            <a:endCxn id="3369" idx="4"/>
          </p:cNvCxnSpPr>
          <p:nvPr/>
        </p:nvCxnSpPr>
        <p:spPr>
          <a:xfrm flipV="1">
            <a:off x="3887280" y="162828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2" name=""/>
          <p:cNvCxnSpPr>
            <a:stCxn id="3374" idx="4"/>
            <a:endCxn id="3381" idx="0"/>
          </p:cNvCxnSpPr>
          <p:nvPr/>
        </p:nvCxnSpPr>
        <p:spPr>
          <a:xfrm>
            <a:off x="3887280" y="206064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3" name=""/>
          <p:cNvCxnSpPr>
            <a:stCxn id="3380" idx="0"/>
            <a:endCxn id="3375" idx="4"/>
          </p:cNvCxnSpPr>
          <p:nvPr/>
        </p:nvCxnSpPr>
        <p:spPr>
          <a:xfrm flipV="1">
            <a:off x="3887280" y="206028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4" name=""/>
          <p:cNvCxnSpPr>
            <a:stCxn id="3380" idx="4"/>
            <a:endCxn id="3387" idx="0"/>
          </p:cNvCxnSpPr>
          <p:nvPr/>
        </p:nvCxnSpPr>
        <p:spPr>
          <a:xfrm>
            <a:off x="3887280" y="249228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5" name=""/>
          <p:cNvCxnSpPr>
            <a:stCxn id="3386" idx="0"/>
            <a:endCxn id="3381" idx="4"/>
          </p:cNvCxnSpPr>
          <p:nvPr/>
        </p:nvCxnSpPr>
        <p:spPr>
          <a:xfrm flipV="1">
            <a:off x="3887280" y="2491920"/>
            <a:ext cx="50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6" name=""/>
          <p:cNvCxnSpPr>
            <a:stCxn id="3386" idx="4"/>
            <a:endCxn id="3393" idx="0"/>
          </p:cNvCxnSpPr>
          <p:nvPr/>
        </p:nvCxnSpPr>
        <p:spPr>
          <a:xfrm>
            <a:off x="3887280" y="2923920"/>
            <a:ext cx="5058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7" name=""/>
          <p:cNvCxnSpPr>
            <a:stCxn id="3392" idx="0"/>
            <a:endCxn id="3387" idx="4"/>
          </p:cNvCxnSpPr>
          <p:nvPr/>
        </p:nvCxnSpPr>
        <p:spPr>
          <a:xfrm flipV="1">
            <a:off x="3887280" y="2923560"/>
            <a:ext cx="5058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8" name=""/>
          <p:cNvCxnSpPr>
            <a:stCxn id="3321" idx="4"/>
            <a:endCxn id="3368" idx="0"/>
          </p:cNvCxnSpPr>
          <p:nvPr/>
        </p:nvCxnSpPr>
        <p:spPr>
          <a:xfrm>
            <a:off x="3384360" y="1197000"/>
            <a:ext cx="503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9" name=""/>
          <p:cNvCxnSpPr>
            <a:stCxn id="3325" idx="0"/>
            <a:endCxn id="3364" idx="4"/>
          </p:cNvCxnSpPr>
          <p:nvPr/>
        </p:nvCxnSpPr>
        <p:spPr>
          <a:xfrm flipV="1">
            <a:off x="3384360" y="1196640"/>
            <a:ext cx="503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0" name=""/>
          <p:cNvCxnSpPr>
            <a:stCxn id="3325" idx="4"/>
            <a:endCxn id="3374" idx="0"/>
          </p:cNvCxnSpPr>
          <p:nvPr/>
        </p:nvCxnSpPr>
        <p:spPr>
          <a:xfrm>
            <a:off x="3384360" y="1628640"/>
            <a:ext cx="503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1" name=""/>
          <p:cNvCxnSpPr>
            <a:stCxn id="3331" idx="0"/>
            <a:endCxn id="3368" idx="4"/>
          </p:cNvCxnSpPr>
          <p:nvPr/>
        </p:nvCxnSpPr>
        <p:spPr>
          <a:xfrm flipV="1">
            <a:off x="3384360" y="1628280"/>
            <a:ext cx="503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2" name=""/>
          <p:cNvCxnSpPr>
            <a:stCxn id="3331" idx="4"/>
            <a:endCxn id="3380" idx="0"/>
          </p:cNvCxnSpPr>
          <p:nvPr/>
        </p:nvCxnSpPr>
        <p:spPr>
          <a:xfrm>
            <a:off x="3384360" y="2060640"/>
            <a:ext cx="503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3" name=""/>
          <p:cNvCxnSpPr>
            <a:stCxn id="3337" idx="0"/>
            <a:endCxn id="3374" idx="4"/>
          </p:cNvCxnSpPr>
          <p:nvPr/>
        </p:nvCxnSpPr>
        <p:spPr>
          <a:xfrm flipV="1">
            <a:off x="3384360" y="2060280"/>
            <a:ext cx="503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4" name=""/>
          <p:cNvCxnSpPr>
            <a:stCxn id="3337" idx="4"/>
            <a:endCxn id="3386" idx="0"/>
          </p:cNvCxnSpPr>
          <p:nvPr/>
        </p:nvCxnSpPr>
        <p:spPr>
          <a:xfrm>
            <a:off x="3384360" y="2492280"/>
            <a:ext cx="503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5" name=""/>
          <p:cNvCxnSpPr>
            <a:stCxn id="3343" idx="0"/>
            <a:endCxn id="3380" idx="4"/>
          </p:cNvCxnSpPr>
          <p:nvPr/>
        </p:nvCxnSpPr>
        <p:spPr>
          <a:xfrm flipV="1">
            <a:off x="3384360" y="2491920"/>
            <a:ext cx="503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6" name=""/>
          <p:cNvCxnSpPr>
            <a:stCxn id="3343" idx="4"/>
            <a:endCxn id="3392" idx="0"/>
          </p:cNvCxnSpPr>
          <p:nvPr/>
        </p:nvCxnSpPr>
        <p:spPr>
          <a:xfrm>
            <a:off x="3384360" y="2923920"/>
            <a:ext cx="50364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7" name=""/>
          <p:cNvCxnSpPr>
            <a:stCxn id="3349" idx="0"/>
            <a:endCxn id="3386" idx="4"/>
          </p:cNvCxnSpPr>
          <p:nvPr/>
        </p:nvCxnSpPr>
        <p:spPr>
          <a:xfrm flipV="1">
            <a:off x="3384360" y="2923560"/>
            <a:ext cx="50364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8" name=""/>
          <p:cNvSpPr/>
          <p:nvPr/>
        </p:nvSpPr>
        <p:spPr>
          <a:xfrm>
            <a:off x="4788000" y="98100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529272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0" name=""/>
          <p:cNvCxnSpPr>
            <a:stCxn id="3418" idx="6"/>
            <a:endCxn id="3419" idx="2"/>
          </p:cNvCxnSpPr>
          <p:nvPr/>
        </p:nvCxnSpPr>
        <p:spPr>
          <a:xfrm>
            <a:off x="5003280" y="1088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1" name=""/>
          <p:cNvCxnSpPr>
            <a:stCxn id="3419" idx="6"/>
          </p:cNvCxnSpPr>
          <p:nvPr/>
        </p:nvCxnSpPr>
        <p:spPr>
          <a:xfrm>
            <a:off x="5508720" y="1088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22" name=""/>
          <p:cNvSpPr/>
          <p:nvPr/>
        </p:nvSpPr>
        <p:spPr>
          <a:xfrm>
            <a:off x="4788000" y="141300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529272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4" name=""/>
          <p:cNvCxnSpPr>
            <a:stCxn id="3422" idx="6"/>
            <a:endCxn id="3423" idx="2"/>
          </p:cNvCxnSpPr>
          <p:nvPr/>
        </p:nvCxnSpPr>
        <p:spPr>
          <a:xfrm>
            <a:off x="5003280" y="1520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5" name=""/>
          <p:cNvCxnSpPr>
            <a:stCxn id="3423" idx="6"/>
          </p:cNvCxnSpPr>
          <p:nvPr/>
        </p:nvCxnSpPr>
        <p:spPr>
          <a:xfrm>
            <a:off x="5508720" y="152064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6" name=""/>
          <p:cNvCxnSpPr>
            <a:stCxn id="3418" idx="4"/>
            <a:endCxn id="3422" idx="0"/>
          </p:cNvCxnSpPr>
          <p:nvPr/>
        </p:nvCxnSpPr>
        <p:spPr>
          <a:xfrm>
            <a:off x="489564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7" name=""/>
          <p:cNvCxnSpPr>
            <a:stCxn id="3419" idx="4"/>
            <a:endCxn id="3423" idx="0"/>
          </p:cNvCxnSpPr>
          <p:nvPr/>
        </p:nvCxnSpPr>
        <p:spPr>
          <a:xfrm>
            <a:off x="540036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28" name=""/>
          <p:cNvSpPr/>
          <p:nvPr/>
        </p:nvSpPr>
        <p:spPr>
          <a:xfrm>
            <a:off x="4788000" y="1844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529272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0" name=""/>
          <p:cNvCxnSpPr>
            <a:stCxn id="3428" idx="6"/>
            <a:endCxn id="3429" idx="2"/>
          </p:cNvCxnSpPr>
          <p:nvPr/>
        </p:nvCxnSpPr>
        <p:spPr>
          <a:xfrm>
            <a:off x="5003280" y="1952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1" name=""/>
          <p:cNvCxnSpPr>
            <a:stCxn id="3429" idx="6"/>
          </p:cNvCxnSpPr>
          <p:nvPr/>
        </p:nvCxnSpPr>
        <p:spPr>
          <a:xfrm>
            <a:off x="5508720" y="1952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2" name=""/>
          <p:cNvCxnSpPr>
            <a:endCxn id="3428" idx="0"/>
          </p:cNvCxnSpPr>
          <p:nvPr/>
        </p:nvCxnSpPr>
        <p:spPr>
          <a:xfrm>
            <a:off x="489564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3" name=""/>
          <p:cNvCxnSpPr>
            <a:endCxn id="3429" idx="0"/>
          </p:cNvCxnSpPr>
          <p:nvPr/>
        </p:nvCxnSpPr>
        <p:spPr>
          <a:xfrm>
            <a:off x="540036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34" name=""/>
          <p:cNvSpPr/>
          <p:nvPr/>
        </p:nvSpPr>
        <p:spPr>
          <a:xfrm>
            <a:off x="4788000" y="227664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29272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6" name=""/>
          <p:cNvCxnSpPr>
            <a:stCxn id="3434" idx="6"/>
            <a:endCxn id="3435" idx="2"/>
          </p:cNvCxnSpPr>
          <p:nvPr/>
        </p:nvCxnSpPr>
        <p:spPr>
          <a:xfrm>
            <a:off x="5003280" y="2383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7" name=""/>
          <p:cNvCxnSpPr>
            <a:stCxn id="3435" idx="6"/>
          </p:cNvCxnSpPr>
          <p:nvPr/>
        </p:nvCxnSpPr>
        <p:spPr>
          <a:xfrm>
            <a:off x="5508720" y="2383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8" name=""/>
          <p:cNvCxnSpPr>
            <a:endCxn id="3434" idx="0"/>
          </p:cNvCxnSpPr>
          <p:nvPr/>
        </p:nvCxnSpPr>
        <p:spPr>
          <a:xfrm>
            <a:off x="489564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9" name=""/>
          <p:cNvCxnSpPr>
            <a:endCxn id="3435" idx="0"/>
          </p:cNvCxnSpPr>
          <p:nvPr/>
        </p:nvCxnSpPr>
        <p:spPr>
          <a:xfrm>
            <a:off x="540036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40" name=""/>
          <p:cNvSpPr/>
          <p:nvPr/>
        </p:nvSpPr>
        <p:spPr>
          <a:xfrm>
            <a:off x="4788000" y="270828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529272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2" name=""/>
          <p:cNvCxnSpPr>
            <a:stCxn id="3440" idx="6"/>
            <a:endCxn id="3441" idx="2"/>
          </p:cNvCxnSpPr>
          <p:nvPr/>
        </p:nvCxnSpPr>
        <p:spPr>
          <a:xfrm>
            <a:off x="5003280" y="28159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3" name=""/>
          <p:cNvCxnSpPr>
            <a:stCxn id="3441" idx="6"/>
          </p:cNvCxnSpPr>
          <p:nvPr/>
        </p:nvCxnSpPr>
        <p:spPr>
          <a:xfrm>
            <a:off x="5508720" y="28159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4" name=""/>
          <p:cNvCxnSpPr>
            <a:endCxn id="3440" idx="0"/>
          </p:cNvCxnSpPr>
          <p:nvPr/>
        </p:nvCxnSpPr>
        <p:spPr>
          <a:xfrm>
            <a:off x="489564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5" name=""/>
          <p:cNvCxnSpPr>
            <a:endCxn id="3441" idx="0"/>
          </p:cNvCxnSpPr>
          <p:nvPr/>
        </p:nvCxnSpPr>
        <p:spPr>
          <a:xfrm>
            <a:off x="540036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46" name=""/>
          <p:cNvSpPr/>
          <p:nvPr/>
        </p:nvSpPr>
        <p:spPr>
          <a:xfrm>
            <a:off x="4788000" y="313992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529272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8" name=""/>
          <p:cNvCxnSpPr>
            <a:stCxn id="3446" idx="6"/>
            <a:endCxn id="3447" idx="2"/>
          </p:cNvCxnSpPr>
          <p:nvPr/>
        </p:nvCxnSpPr>
        <p:spPr>
          <a:xfrm>
            <a:off x="5003280" y="32475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9" name=""/>
          <p:cNvCxnSpPr>
            <a:stCxn id="3447" idx="6"/>
          </p:cNvCxnSpPr>
          <p:nvPr/>
        </p:nvCxnSpPr>
        <p:spPr>
          <a:xfrm>
            <a:off x="5508720" y="324756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0" name=""/>
          <p:cNvCxnSpPr>
            <a:endCxn id="3446" idx="0"/>
          </p:cNvCxnSpPr>
          <p:nvPr/>
        </p:nvCxnSpPr>
        <p:spPr>
          <a:xfrm>
            <a:off x="489564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1" name=""/>
          <p:cNvCxnSpPr>
            <a:endCxn id="3447" idx="0"/>
          </p:cNvCxnSpPr>
          <p:nvPr/>
        </p:nvCxnSpPr>
        <p:spPr>
          <a:xfrm>
            <a:off x="540036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2" name=""/>
          <p:cNvCxnSpPr>
            <a:stCxn id="3418" idx="4"/>
            <a:endCxn id="3423" idx="0"/>
          </p:cNvCxnSpPr>
          <p:nvPr/>
        </p:nvCxnSpPr>
        <p:spPr>
          <a:xfrm>
            <a:off x="4896000" y="1197000"/>
            <a:ext cx="505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3" name=""/>
          <p:cNvCxnSpPr>
            <a:stCxn id="3422" idx="0"/>
            <a:endCxn id="3419" idx="4"/>
          </p:cNvCxnSpPr>
          <p:nvPr/>
        </p:nvCxnSpPr>
        <p:spPr>
          <a:xfrm flipV="1">
            <a:off x="4896000" y="1196640"/>
            <a:ext cx="505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4" name=""/>
          <p:cNvCxnSpPr>
            <a:stCxn id="3422" idx="4"/>
            <a:endCxn id="3429" idx="0"/>
          </p:cNvCxnSpPr>
          <p:nvPr/>
        </p:nvCxnSpPr>
        <p:spPr>
          <a:xfrm>
            <a:off x="4896000" y="1628640"/>
            <a:ext cx="505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5" name=""/>
          <p:cNvCxnSpPr>
            <a:stCxn id="3428" idx="0"/>
            <a:endCxn id="3423" idx="4"/>
          </p:cNvCxnSpPr>
          <p:nvPr/>
        </p:nvCxnSpPr>
        <p:spPr>
          <a:xfrm flipV="1">
            <a:off x="4896000" y="1628280"/>
            <a:ext cx="505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6" name=""/>
          <p:cNvCxnSpPr>
            <a:stCxn id="3428" idx="4"/>
            <a:endCxn id="3435" idx="0"/>
          </p:cNvCxnSpPr>
          <p:nvPr/>
        </p:nvCxnSpPr>
        <p:spPr>
          <a:xfrm>
            <a:off x="4896000" y="2060640"/>
            <a:ext cx="505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7" name=""/>
          <p:cNvCxnSpPr>
            <a:stCxn id="3434" idx="0"/>
            <a:endCxn id="3429" idx="4"/>
          </p:cNvCxnSpPr>
          <p:nvPr/>
        </p:nvCxnSpPr>
        <p:spPr>
          <a:xfrm flipV="1">
            <a:off x="4896000" y="2060280"/>
            <a:ext cx="505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8" name=""/>
          <p:cNvCxnSpPr>
            <a:stCxn id="3434" idx="4"/>
            <a:endCxn id="3441" idx="0"/>
          </p:cNvCxnSpPr>
          <p:nvPr/>
        </p:nvCxnSpPr>
        <p:spPr>
          <a:xfrm>
            <a:off x="4896000" y="2492280"/>
            <a:ext cx="505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9" name=""/>
          <p:cNvCxnSpPr>
            <a:stCxn id="3440" idx="0"/>
            <a:endCxn id="3435" idx="4"/>
          </p:cNvCxnSpPr>
          <p:nvPr/>
        </p:nvCxnSpPr>
        <p:spPr>
          <a:xfrm flipV="1">
            <a:off x="4896000" y="2491920"/>
            <a:ext cx="505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0" name=""/>
          <p:cNvCxnSpPr>
            <a:stCxn id="3440" idx="4"/>
            <a:endCxn id="3447" idx="0"/>
          </p:cNvCxnSpPr>
          <p:nvPr/>
        </p:nvCxnSpPr>
        <p:spPr>
          <a:xfrm>
            <a:off x="4896000" y="2923920"/>
            <a:ext cx="50544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1" name=""/>
          <p:cNvCxnSpPr>
            <a:stCxn id="3446" idx="0"/>
            <a:endCxn id="3441" idx="4"/>
          </p:cNvCxnSpPr>
          <p:nvPr/>
        </p:nvCxnSpPr>
        <p:spPr>
          <a:xfrm flipV="1">
            <a:off x="4896000" y="2923560"/>
            <a:ext cx="50544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62" name=""/>
          <p:cNvSpPr/>
          <p:nvPr/>
        </p:nvSpPr>
        <p:spPr>
          <a:xfrm>
            <a:off x="5796000" y="98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5796000" y="14130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4" name=""/>
          <p:cNvCxnSpPr>
            <a:stCxn id="3462" idx="4"/>
            <a:endCxn id="3463" idx="0"/>
          </p:cNvCxnSpPr>
          <p:nvPr/>
        </p:nvCxnSpPr>
        <p:spPr>
          <a:xfrm>
            <a:off x="5903640" y="1197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65" name=""/>
          <p:cNvSpPr/>
          <p:nvPr/>
        </p:nvSpPr>
        <p:spPr>
          <a:xfrm>
            <a:off x="579600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6" name=""/>
          <p:cNvCxnSpPr>
            <a:endCxn id="3465" idx="0"/>
          </p:cNvCxnSpPr>
          <p:nvPr/>
        </p:nvCxnSpPr>
        <p:spPr>
          <a:xfrm>
            <a:off x="5903640" y="1628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67" name=""/>
          <p:cNvSpPr/>
          <p:nvPr/>
        </p:nvSpPr>
        <p:spPr>
          <a:xfrm>
            <a:off x="5796000" y="2276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8" name=""/>
          <p:cNvCxnSpPr>
            <a:endCxn id="3467" idx="0"/>
          </p:cNvCxnSpPr>
          <p:nvPr/>
        </p:nvCxnSpPr>
        <p:spPr>
          <a:xfrm>
            <a:off x="5903640" y="206064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69" name=""/>
          <p:cNvSpPr/>
          <p:nvPr/>
        </p:nvSpPr>
        <p:spPr>
          <a:xfrm>
            <a:off x="5796000" y="27082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0" name=""/>
          <p:cNvCxnSpPr>
            <a:endCxn id="3469" idx="0"/>
          </p:cNvCxnSpPr>
          <p:nvPr/>
        </p:nvCxnSpPr>
        <p:spPr>
          <a:xfrm>
            <a:off x="5903640" y="2492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71" name=""/>
          <p:cNvSpPr/>
          <p:nvPr/>
        </p:nvSpPr>
        <p:spPr>
          <a:xfrm>
            <a:off x="5796000" y="31399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"/>
          <p:cNvCxnSpPr>
            <a:endCxn id="3471" idx="0"/>
          </p:cNvCxnSpPr>
          <p:nvPr/>
        </p:nvCxnSpPr>
        <p:spPr>
          <a:xfrm>
            <a:off x="5903640" y="2923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3" name=""/>
          <p:cNvCxnSpPr>
            <a:stCxn id="3419" idx="4"/>
            <a:endCxn id="3463" idx="0"/>
          </p:cNvCxnSpPr>
          <p:nvPr/>
        </p:nvCxnSpPr>
        <p:spPr>
          <a:xfrm>
            <a:off x="5400720" y="119700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4" name=""/>
          <p:cNvCxnSpPr>
            <a:stCxn id="3423" idx="0"/>
            <a:endCxn id="3462" idx="4"/>
          </p:cNvCxnSpPr>
          <p:nvPr/>
        </p:nvCxnSpPr>
        <p:spPr>
          <a:xfrm flipV="1">
            <a:off x="5400720" y="119664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5" name=""/>
          <p:cNvCxnSpPr>
            <a:stCxn id="3423" idx="4"/>
            <a:endCxn id="3465" idx="0"/>
          </p:cNvCxnSpPr>
          <p:nvPr/>
        </p:nvCxnSpPr>
        <p:spPr>
          <a:xfrm>
            <a:off x="5400720" y="162864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6" name=""/>
          <p:cNvCxnSpPr>
            <a:stCxn id="3429" idx="0"/>
            <a:endCxn id="3463" idx="4"/>
          </p:cNvCxnSpPr>
          <p:nvPr/>
        </p:nvCxnSpPr>
        <p:spPr>
          <a:xfrm flipV="1">
            <a:off x="5400720" y="162828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7" name=""/>
          <p:cNvCxnSpPr>
            <a:stCxn id="3429" idx="4"/>
            <a:endCxn id="3467" idx="0"/>
          </p:cNvCxnSpPr>
          <p:nvPr/>
        </p:nvCxnSpPr>
        <p:spPr>
          <a:xfrm>
            <a:off x="5400720" y="206064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8" name=""/>
          <p:cNvCxnSpPr>
            <a:stCxn id="3435" idx="0"/>
            <a:endCxn id="3465" idx="4"/>
          </p:cNvCxnSpPr>
          <p:nvPr/>
        </p:nvCxnSpPr>
        <p:spPr>
          <a:xfrm flipV="1">
            <a:off x="5400720" y="206028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9" name=""/>
          <p:cNvCxnSpPr>
            <a:stCxn id="3435" idx="4"/>
            <a:endCxn id="3469" idx="0"/>
          </p:cNvCxnSpPr>
          <p:nvPr/>
        </p:nvCxnSpPr>
        <p:spPr>
          <a:xfrm>
            <a:off x="5400720" y="249228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0" name=""/>
          <p:cNvCxnSpPr>
            <a:stCxn id="3441" idx="0"/>
            <a:endCxn id="3467" idx="4"/>
          </p:cNvCxnSpPr>
          <p:nvPr/>
        </p:nvCxnSpPr>
        <p:spPr>
          <a:xfrm flipV="1">
            <a:off x="5400720" y="249192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1" name=""/>
          <p:cNvCxnSpPr>
            <a:stCxn id="3441" idx="4"/>
            <a:endCxn id="3471" idx="0"/>
          </p:cNvCxnSpPr>
          <p:nvPr/>
        </p:nvCxnSpPr>
        <p:spPr>
          <a:xfrm>
            <a:off x="5400720" y="2923920"/>
            <a:ext cx="5040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2" name=""/>
          <p:cNvCxnSpPr>
            <a:stCxn id="3447" idx="0"/>
            <a:endCxn id="3469" idx="4"/>
          </p:cNvCxnSpPr>
          <p:nvPr/>
        </p:nvCxnSpPr>
        <p:spPr>
          <a:xfrm flipV="1">
            <a:off x="5400720" y="2923560"/>
            <a:ext cx="5040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3" name=""/>
          <p:cNvCxnSpPr>
            <a:stCxn id="3365" idx="4"/>
            <a:endCxn id="3422" idx="0"/>
          </p:cNvCxnSpPr>
          <p:nvPr/>
        </p:nvCxnSpPr>
        <p:spPr>
          <a:xfrm>
            <a:off x="4392720" y="119700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4" name=""/>
          <p:cNvCxnSpPr>
            <a:stCxn id="3369" idx="0"/>
            <a:endCxn id="3418" idx="4"/>
          </p:cNvCxnSpPr>
          <p:nvPr/>
        </p:nvCxnSpPr>
        <p:spPr>
          <a:xfrm flipV="1">
            <a:off x="4392720" y="119664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5" name=""/>
          <p:cNvCxnSpPr>
            <a:stCxn id="3369" idx="4"/>
            <a:endCxn id="3428" idx="0"/>
          </p:cNvCxnSpPr>
          <p:nvPr/>
        </p:nvCxnSpPr>
        <p:spPr>
          <a:xfrm>
            <a:off x="4392720" y="162864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6" name=""/>
          <p:cNvCxnSpPr>
            <a:stCxn id="3375" idx="0"/>
            <a:endCxn id="3422" idx="4"/>
          </p:cNvCxnSpPr>
          <p:nvPr/>
        </p:nvCxnSpPr>
        <p:spPr>
          <a:xfrm flipV="1">
            <a:off x="4392720" y="162828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7" name=""/>
          <p:cNvCxnSpPr>
            <a:stCxn id="3375" idx="4"/>
            <a:endCxn id="3434" idx="0"/>
          </p:cNvCxnSpPr>
          <p:nvPr/>
        </p:nvCxnSpPr>
        <p:spPr>
          <a:xfrm>
            <a:off x="4392720" y="206064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8" name=""/>
          <p:cNvCxnSpPr>
            <a:stCxn id="3381" idx="0"/>
            <a:endCxn id="3428" idx="4"/>
          </p:cNvCxnSpPr>
          <p:nvPr/>
        </p:nvCxnSpPr>
        <p:spPr>
          <a:xfrm flipV="1">
            <a:off x="4392720" y="206028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9" name=""/>
          <p:cNvCxnSpPr>
            <a:stCxn id="3381" idx="4"/>
            <a:endCxn id="3440" idx="0"/>
          </p:cNvCxnSpPr>
          <p:nvPr/>
        </p:nvCxnSpPr>
        <p:spPr>
          <a:xfrm>
            <a:off x="4392720" y="249228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0" name=""/>
          <p:cNvCxnSpPr>
            <a:stCxn id="3387" idx="0"/>
            <a:endCxn id="3434" idx="4"/>
          </p:cNvCxnSpPr>
          <p:nvPr/>
        </p:nvCxnSpPr>
        <p:spPr>
          <a:xfrm flipV="1">
            <a:off x="4392720" y="2491920"/>
            <a:ext cx="504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1" name=""/>
          <p:cNvCxnSpPr>
            <a:stCxn id="3387" idx="4"/>
            <a:endCxn id="3446" idx="0"/>
          </p:cNvCxnSpPr>
          <p:nvPr/>
        </p:nvCxnSpPr>
        <p:spPr>
          <a:xfrm>
            <a:off x="4392720" y="2923920"/>
            <a:ext cx="5040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2" name=""/>
          <p:cNvCxnSpPr>
            <a:stCxn id="3393" idx="0"/>
            <a:endCxn id="3440" idx="4"/>
          </p:cNvCxnSpPr>
          <p:nvPr/>
        </p:nvCxnSpPr>
        <p:spPr>
          <a:xfrm flipV="1">
            <a:off x="4392720" y="2923560"/>
            <a:ext cx="5040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-Neighbourhood MR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3853080" y="54928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5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179280" y="145044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class of SOCP/QP dominated by LP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CP relaxations dominate LP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umar, Kolmogorov and Torr, JML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457200" y="28666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2:18:08Z</dcterms:created>
  <dc:creator>phil gooby</dc:creator>
  <dc:description/>
  <dc:language>en-US</dc:language>
  <cp:lastModifiedBy>phil gooby</cp:lastModifiedBy>
  <dcterms:modified xsi:type="dcterms:W3CDTF">2010-12-03T20:46:53Z</dcterms:modified>
  <cp:revision>35</cp:revision>
  <dc:subject/>
  <dc:title>An Analysis of Convex Relaxations for MAP Estimation</dc:title>
</cp:coreProperties>
</file>